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F658-894D-4B71-8428-6267CE12A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78920" y="4110840"/>
            <a:ext cx="7488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A645-6CCD-4DDD-89B4-D5A1312F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7892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01616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F1E7-1ACD-45C5-ABB9-827737757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10800" y="162828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242680" y="162828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78920" y="411084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10800" y="411084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242680" y="411084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3EDF-B303-48B8-8833-A0EBF225D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78920" y="765000"/>
            <a:ext cx="748836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892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DBDE-F5C1-4241-870E-8708527A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01616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78920" y="4110840"/>
            <a:ext cx="7488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78920" y="4110840"/>
            <a:ext cx="7488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7892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01616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710800" y="162828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242680" y="162828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78920" y="411084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2710800" y="411084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242680" y="411084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364F-2729-44A5-8B14-F11C1BA6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B038-2180-4B07-BFD3-D7ACDA4A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7421-A442-47D5-9933-5DCC55F3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78920" y="765000"/>
            <a:ext cx="748836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9D7F-3631-45B7-95AB-2846A269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7892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97B3-1F2E-403D-9BA5-73E35178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01616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278D-5B42-4C6E-9F61-E7EADD93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78920" y="4110840"/>
            <a:ext cx="7488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DF4E-444D-469B-B208-39CA0605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579640" y="6524280"/>
            <a:ext cx="1562040" cy="152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lstStyle>
            <a:lvl1pPr marL="216000" indent="0" algn="ctr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952F930B-60F8-48BB-8A1C-1C11F8895AD3}" type="datetime5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Jul 31, 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178920" y="6524280"/>
            <a:ext cx="5264280" cy="152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lstStyle>
            <a:lvl1pPr marL="216000" indent="0" algn="r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308720" y="6524280"/>
            <a:ext cx="432000" cy="1443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lstStyle>
            <a:lvl1pPr marL="216000" indent="0" algn="r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3C6F80DB-D800-4F99-A0AD-5CE33F6C572F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50520" y="18900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400" spc="-1" strike="noStrike">
                <a:solidFill>
                  <a:srgbClr val="0060aa"/>
                </a:solidFill>
                <a:latin typeface="Arial Black"/>
              </a:rPr>
              <a:t>Click to edit the title text format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840" indent="-25560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82880" indent="-2653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82880" indent="-2653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82880" indent="-2653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189000"/>
            <a:ext cx="4895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Black"/>
              </a:rPr>
              <a:t>Presentation Title (not the current page title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835760" y="0"/>
            <a:ext cx="1308240" cy="6858000"/>
          </a:xfrm>
          <a:prstGeom prst="rect">
            <a:avLst/>
          </a:prstGeom>
          <a:solidFill>
            <a:srgbClr val="c0d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08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7956720" y="6165720"/>
            <a:ext cx="1049040" cy="48600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228600" y="152280"/>
            <a:ext cx="4876920" cy="320760"/>
          </a:xfrm>
          <a:prstGeom prst="rect">
            <a:avLst/>
          </a:prstGeom>
          <a:solidFill>
            <a:srgbClr val="006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50520" y="8096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981000"/>
            <a:ext cx="71294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800" spc="-1" strike="noStrike">
                <a:solidFill>
                  <a:srgbClr val="0060aa"/>
                </a:solidFill>
                <a:latin typeface="Arial Black"/>
              </a:rPr>
              <a:t>Click to edit the title text format</a:t>
            </a:r>
            <a:endParaRPr b="1" lang="en-US" sz="28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189000"/>
            <a:ext cx="4895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Black"/>
              </a:rPr>
              <a:t>Presentation Title (not the current page title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835760" y="0"/>
            <a:ext cx="1308240" cy="6858000"/>
          </a:xfrm>
          <a:prstGeom prst="rect">
            <a:avLst/>
          </a:prstGeom>
          <a:solidFill>
            <a:srgbClr val="c0d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0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956720" y="6165720"/>
            <a:ext cx="1049040" cy="486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0" algn="ctr">
              <a:spcBef>
                <a:spcPts val="675"/>
              </a:spcBef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77960" indent="123840" algn="ctr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57400" indent="123840" algn="ctr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486080" indent="23148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486080" indent="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486080" indent="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981000"/>
            <a:ext cx="80503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800" spc="-1" strike="noStrike">
                <a:solidFill>
                  <a:srgbClr val="0060aa"/>
                </a:solidFill>
                <a:latin typeface="Arial Black"/>
              </a:rPr>
              <a:t>Resampling Analysis</a:t>
            </a:r>
            <a:endParaRPr b="1" lang="en-US" sz="28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9280" y="2637000"/>
            <a:ext cx="7129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800" spc="-1" strike="noStrike">
                <a:solidFill>
                  <a:srgbClr val="0060aa"/>
                </a:solidFill>
                <a:latin typeface="Arial Black"/>
              </a:rPr>
              <a:t>Practical Analysis</a:t>
            </a:r>
            <a:endParaRPr b="1" lang="en-US" sz="28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821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 bis 1) Compute the filter response of Atmel AVR32 DSP resample function  in the frequency range [0;20Khz]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 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: [0;20Khz]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sampling : 48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put signal frequency sampling : 48.51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675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-457200" y="3429000"/>
            <a:ext cx="6781680" cy="372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2583-C0B0-40B9-911E-1F17E30D38C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CD0529-942A-4AF3-A2FD-5CDACA04CBA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800" spc="-1" strike="noStrike">
                <a:solidFill>
                  <a:srgbClr val="0060aa"/>
                </a:solidFill>
                <a:latin typeface="Arial Black"/>
              </a:rPr>
              <a:t>Theorical Analysis</a:t>
            </a:r>
            <a:endParaRPr b="1" lang="en-US" sz="28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821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lab usage of real ‘resample’ fun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 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: 10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sampling : 48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put signal frequency sampling : 48,510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-533520" y="2971800"/>
            <a:ext cx="9296640" cy="511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CD49-12EA-4248-BDE6-C8298C37507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09AB22-3AA4-49D8-89BC-FDE0C21DD57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800" spc="-1" strike="noStrike">
                <a:solidFill>
                  <a:srgbClr val="0060aa"/>
                </a:solidFill>
                <a:latin typeface="Arial Black"/>
              </a:rPr>
              <a:t>Theorical Analysis</a:t>
            </a:r>
            <a:endParaRPr b="1" lang="en-US" sz="28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821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ript version of Atmel AVR32 DSP resample function without the FIR Calculation stage (Matlab compute FIR coefficient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 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: 10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sampling : 48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put signal frequency sampling : 48,510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609480" y="3124080"/>
            <a:ext cx="9448560" cy="5197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200400" y="5943600"/>
            <a:ext cx="762120" cy="380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962520" y="5791320"/>
            <a:ext cx="121896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559260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in is below 1 due to reduction of filter bandwith 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213C-3C08-4B0E-A062-945899E09E4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B62C93-FF0F-4086-86AD-010AEF40C33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800" spc="-1" strike="noStrike">
                <a:solidFill>
                  <a:srgbClr val="0060aa"/>
                </a:solidFill>
                <a:latin typeface="Arial Black"/>
              </a:rPr>
              <a:t>Theorical Analysis</a:t>
            </a:r>
            <a:endParaRPr b="1" lang="en-US" sz="28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1628640"/>
            <a:ext cx="78217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ript version of Atmel AVR32 DSP resample function without the FIR Calculation stage (Matlab compute FIR coeffici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: [0;22 Khz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sampling : 44 K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put signal frequency sampling : 48,510 K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51814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3dB gain obtained at 17K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533520" y="3276720"/>
            <a:ext cx="8001000" cy="4400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648320" y="5791320"/>
            <a:ext cx="609480" cy="380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257440" y="5638680"/>
            <a:ext cx="167652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257800"/>
            <a:ext cx="518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in is around -6dB due to reduction of filter bandwith 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4BE8-6ED5-443B-9F17-C37C6BFBF040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A2C350-54C3-49D0-94B5-C453EF0B200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400" spc="-1" strike="noStrike">
                <a:solidFill>
                  <a:srgbClr val="0060aa"/>
                </a:solidFill>
                <a:latin typeface="Arial Black"/>
              </a:rPr>
              <a:t>Analysis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Ste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Use Atmel AVR32 DSP resample function with precalculated Matlab filter coefficients and compare the two resul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Compute the filter response of Atmel AVR32 DSP resample function  in the frequency range [0;20Khz]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E782-3248-40D9-A9DD-B992CC23343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BE6438-F43B-4C20-8A82-D50C101030C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800" spc="-1" strike="noStrike">
                <a:solidFill>
                  <a:srgbClr val="0060aa"/>
                </a:solidFill>
                <a:latin typeface="Arial Black"/>
              </a:rPr>
              <a:t>Practical Analysis</a:t>
            </a:r>
            <a:endParaRPr b="1" lang="en-US" sz="28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821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1) Embedded release of Atmel AVR32 DSP resample function without the FIR Calculation stage (Matlab compute FIR coefficient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 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: 10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sampling : 44,1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put signal frequency sampling : 48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152280" y="3276720"/>
            <a:ext cx="6858000" cy="3771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48320" y="3657600"/>
            <a:ext cx="1143000" cy="457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3580920"/>
            <a:ext cx="121896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0" y="3124080"/>
            <a:ext cx="1371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a temporal shift is observed, same frequency frespo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2C6C-1347-4102-A6E1-C1A58E32524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11E06C-0905-4FDC-9AB1-A8CA77C54D5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85800" y="3048120"/>
            <a:ext cx="5486400" cy="41162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800" spc="-1" strike="noStrike">
                <a:solidFill>
                  <a:srgbClr val="0060aa"/>
                </a:solidFill>
                <a:latin typeface="Arial Black"/>
              </a:rPr>
              <a:t>Practical Analysis</a:t>
            </a:r>
            <a:endParaRPr b="1" lang="en-US" sz="28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821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1 bis) Embedded release of Atmel AVR32 DSP resample function with Atmel AVR32 DSP FIR Calculation stag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 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: 10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sampling : 44,1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put signal frequency sampling : 48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4191120"/>
            <a:ext cx="1143000" cy="457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486400" y="3580920"/>
            <a:ext cx="1523880" cy="685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3276720"/>
            <a:ext cx="1371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a temporal shift is observed, same frequency frespo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3429000"/>
            <a:ext cx="1904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63de8"/>
                </a:solidFill>
                <a:latin typeface="Arial"/>
              </a:rPr>
              <a:t>Script resul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Embedded res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36A2-8230-482D-A4D0-78C534BAC61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7B466E-321B-4524-B37B-7C08F4244B2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800" spc="-1" strike="noStrike">
                <a:solidFill>
                  <a:srgbClr val="0060aa"/>
                </a:solidFill>
                <a:latin typeface="Arial Black"/>
              </a:rPr>
              <a:t>Practical Analysis</a:t>
            </a:r>
            <a:endParaRPr b="1" lang="en-US" sz="28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821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) Compute the filter response of Atmel AVR32 DSP resample function  in the frequency range [0;20Khz]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 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: [0;20Khz]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sampling : 44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put signal frequency sampling : 48.510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675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3520" y="3355920"/>
            <a:ext cx="6368760" cy="3502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400800" y="5334120"/>
            <a:ext cx="3048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in the band = -21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c (-3dB) = 17.8 K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9529400">
            <a:off x="7086960" y="3580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Filter order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2CC4-2F57-4A50-B565-284E91B5D4F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881A86-01BA-44FA-94C6-E092279F88B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800" spc="-1" strike="noStrike">
                <a:solidFill>
                  <a:srgbClr val="0060aa"/>
                </a:solidFill>
                <a:latin typeface="Arial Black"/>
              </a:rPr>
              <a:t>Practical Analysis</a:t>
            </a:r>
            <a:endParaRPr b="1" lang="en-US" sz="28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821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 bis) Compute the filter response of Atmel AVR32 DSP resample function  in the frequency range [0;20Khz]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 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: [0;20Khz]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sampling : 32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put signal frequency sampling : 44.1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675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3379680"/>
            <a:ext cx="6324480" cy="347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0034-71CE-4A6A-B0A4-A57AEB06675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D09A42-5F98-456F-B7FB-8D30D4683F2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3:54:07Z</dcterms:created>
  <dc:creator/>
  <dc:description/>
  <cp:keywords/>
  <dc:language>en-US</dc:language>
  <cp:lastModifiedBy>user</cp:lastModifiedBy>
  <cp:lastPrinted>2000-07-25T13:03:26Z</cp:lastPrinted>
  <dcterms:modified xsi:type="dcterms:W3CDTF">2009-03-30T16:58:28Z</dcterms:modified>
  <cp:revision>237</cp:revision>
  <dc:subject/>
  <dc:title>Resampling Analysis</dc:title>
</cp:coreProperties>
</file>