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AA3067-84B2-46EF-89D5-C3B3C925B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ddress the PAR topic of Higher Speed PHY extensions to the 802.11 Standard.  This proposal is submitted by Harris Semiconductor for the purposes of suggesting a suitable DS extension that will smoothly integrate with the existing PHY definition.  The DS PHY can operate at higher rates with comparative ease due the the FCC rules that cover the operation at 2.4 GHz for DSSS modul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outline the essence of the Harris propos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been announced by Sharp for their 10 MBps modem.  They use CCSK Barker words for the 'orthogonal' PN spread channels.  Basically, this technique uses multiple CDMA channels to send more data. Basically, 16 parallel channels of 16 chip orthogonal symbols are BPSK modulated and summed in an analog sense.  This provides 16 parallel channels of data at a modest symbol rate.  It could be said to have a 12 dB processing 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rthagonal Code Division Multiplex scheme produces a high degree of amplitude modulation as it sums 16 independent channels.  This is undesirable in that it then needs a very linear PA to meet the spectral mas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good Eb/N0 and a sinx/x spectrum.  The processing needed to demodulate it is about the same as the MOK sche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rthagonal Frequency Division Multiplex has been adopted by one or more announced 10 MBps suppliers.  It takes the approach of multiple frequency channels at regular spacing with each one modulated by PSK.  MIL-STD 188C has used this technique for decades in wireline and radio modems.  It is commonly radiated over Single Sideband Radios since it is very tolerant of spectral notches due to multipath.  Diversity is necessary to make it work in this environment since a narrowband fade can remove one or more of the carriers. By spreading symbol energy over multiple frequencies, a robust link can be ma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odulation makes best use of the spectrum with the channel filled edge to edge uniformly.  This makes for the least interference to other users with the most noise like spectru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umming of 16 independent carriers can produce large amplitude modulation which makes the transmitter difficult.  It also rules out limiting in the receiv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ing of OFDM is traditionally done with FFTs and inverse FFTs.  These are generally more complex and power hungry that the techniques used for the other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of the BPSK or QPSK modulated carriers can employ differential coding to make the baseband processing somewhat simpl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rade table above will make for much controversy.  Many will argue with the even weighting used and others will pick on the judgments of the relative merits of the waveforms.  Nonetheless, some trade table such as this is necessary to put all the factors on the table and get ready to discuss th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able shows the MOK scheme as having the lowest score and QAM the highes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factors we need to address in the choice of an extension to the standard 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ndwidth occupied.  We could up the spread rate, but the existing scheme is already down to 3 or 4 channels in the ISM band.  Fewer channels is undesir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have sought guidance from the FCC and have gotten the following:  If you can pass the CW jamming test,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increase in complexity of the high rate system is still within the realm of fitting into a PCMCIA package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 extended to cover the new rates.  Some overall changes to the spread function also need to be address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LCP header only needs to have the new  rates added to the `list of acceptable ra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November, 1996 meeting, the Higher Speed PHY PARs Study Group met and suggested that a PAR be issued to address the needs for higher data rates.  This group did not want to disturb the ongoing standards acceptance process, so it held its suggestion to a new PAR.  Additionally, the existing 802.11 PAR is due to run out this year, so to do ongoing extension work, we will need a new PA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rket potential for higher data rates is obvious but will depend on the availability of a suitable implementation that meets some basic requirements for range, performance and rate.  most notably, the DS PHY needs a new waveform that achieves good modulation efficiency for adequate range.  This is tightly coupled with good multipath performance which is one of the primary limitations to achieving acceptable packet error rates at ranges that satisfy the user.  Schemes that require heroic processing to achieve this performance will price themselves out of the market even if they achieve the higher rat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other performance need is to meet the FCC's rules for processing gai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dditionally, it would be nice to make it backwards compatib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chemes that have been considered for the higher rate modulation are variations on the DS architecture where more complex modulations are used in place of the BPSK and QPSK of the standard.  Of these, various forms of M-Ary Orthagonal keying and QAM have been suggested.  Multiple parallel channels of FDMA or CDMA carriers are also on the plate for consideration.  These must be traded off to find the one with the best combination of proper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do not want to consider simply making the spread rate higher since that reduces the number of available channels for separate networks and the number is already very low.  That might work for the 5 GHz bands, but it raises interoperability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Unfortunately, 11 chip vectors are not available in an orthogonal set although cyclic rotations of the Barker word are nearly orthogonal.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buNone/>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____________________________________________________________________________</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Times New Roman"/>
                <a:ea typeface="Times New Roman"/>
              </a:rPr>
              <a:t>03/21/97</a:t>
            </a:r>
            <a:endParaRPr b="0" lang="en-US" sz="1200" spc="-1" strike="noStrike">
              <a:solidFill>
                <a:srgbClr val="000000"/>
              </a:solidFill>
              <a:latin typeface="Arial"/>
            </a:endParaRPr>
          </a:p>
          <a:p>
            <a:pPr indent="0" algn="r">
              <a:lnSpc>
                <a:spcPct val="100000"/>
              </a:lnSpc>
              <a:buNone/>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K modulation has been shown to have slightly better Eb/N0 performance than BPSK due to embedded coding properties.  This makes the waveform the most power efficient of the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and any other waveforms need to exhibit 10 dB processing gain,  the FCC is liberal in its interpretation of the specification and allows Es/N0 to be used for the SNR in the CW jammer test for processing gain.  With this interpretation and with the right implementation, the FCC’s needs can be satisfi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OK theme can be also done with Cyclic Code Shift Keying.  This variant is simpler to demodulate since only one sequence needs to be correlated for.  We can do CCSK with an 11 bit Barker sequence at 1 MSps, if desired.  This, however, would not achieve the 10+ MBps desired since the number of bits per symbol is not great enoug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modulation technique is not quite as efficient as MOK since the symbols are not entirely orthogonal.  cyclically shifted Barker words are reasonable good, however, and achieve almost the same Eb/N0 as MO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in problem is that the cyclically shifted symbols are multipath susceptible when the multipath delay spread gets to be more than a chip's length.  Therefore, long (for indoors) multipath will defeat this metho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scheme is quite simple to demodulate and requires very little added hardware over the basic 802.11 wavefor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e way to get bandwidth efficiency while still spreading (an oxymoron) is to use QAM for the data modulation. QAM is relative easy to spread and achieve a spreading bandwidth ratio of 10 or great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modulation will fill the bill, it is very sensitive to multipath, since 1024 QAM requires a very lean, undistorted signal.  The Eb/No performance of QAM is not as good as MOK since it has both phase and amplitude components.  This sensitivity to distortion implies the use of an equalizer which is undesirable on two counts.  First, it requires a training sequence which will increase the length of the preamble.  Second, it will increase the cost to add the equaliz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371600"/>
            <a:ext cx="9132840" cy="171360"/>
          </a:xfrm>
          <a:prstGeom prst="rect">
            <a:avLst/>
          </a:prstGeom>
          <a:gradFill rotWithShape="0">
            <a:gsLst>
              <a:gs pos="0">
                <a:srgbClr val="7f93cf"/>
              </a:gs>
              <a:gs pos="50000">
                <a:srgbClr val="00279f"/>
              </a:gs>
              <a:gs pos="100000">
                <a:srgbClr val="7f93c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p:txBody>
      </p:sp>
      <p:sp>
        <p:nvSpPr>
          <p:cNvPr id="2"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48" name=""/>
          <p:cNvSpPr txBox="1"/>
          <p:nvPr/>
        </p:nvSpPr>
        <p:spPr>
          <a:xfrm>
            <a:off x="701640" y="4381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High Rate DS PHY</a:t>
            </a:r>
            <a:endParaRPr b="0" lang="en-US" sz="3600" spc="-1" strike="noStrike">
              <a:solidFill>
                <a:srgbClr val="000000"/>
              </a:solidFill>
              <a:latin typeface="Arial"/>
            </a:endParaRPr>
          </a:p>
        </p:txBody>
      </p:sp>
      <p:sp>
        <p:nvSpPr>
          <p:cNvPr id="49" name=""/>
          <p:cNvSpPr txBox="1"/>
          <p:nvPr/>
        </p:nvSpPr>
        <p:spPr>
          <a:xfrm>
            <a:off x="990720" y="2133720"/>
            <a:ext cx="7162920" cy="32767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u="sng">
                <a:solidFill>
                  <a:srgbClr val="000000"/>
                </a:solidFill>
                <a:uFillTx/>
                <a:latin typeface="Arial"/>
                <a:ea typeface="Arial"/>
              </a:rPr>
              <a:t>IEEE 802.11 High data rate PHY extension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efini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echnical Approach</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Performance Predi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p:txBody>
      </p:sp>
      <p:sp>
        <p:nvSpPr>
          <p:cNvPr id="230"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628560" y="162000"/>
            <a:ext cx="8010360" cy="11462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Parallel Spread Channels Approach</a:t>
            </a:r>
            <a:endParaRPr b="0" lang="en-US" sz="3600" spc="-1" strike="noStrike">
              <a:solidFill>
                <a:srgbClr val="000000"/>
              </a:solidFill>
              <a:latin typeface="Arial"/>
            </a:endParaRPr>
          </a:p>
        </p:txBody>
      </p:sp>
      <p:sp>
        <p:nvSpPr>
          <p:cNvPr id="232"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235"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2"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194440" y="392112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74"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9" name=""/>
          <p:cNvSpPr/>
          <p:nvPr/>
        </p:nvSpPr>
        <p:spPr>
          <a:xfrm>
            <a:off x="5580000" y="42814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627520" y="435456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81"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289"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291" name=""/>
          <p:cNvSpPr txBox="1"/>
          <p:nvPr/>
        </p:nvSpPr>
        <p:spPr>
          <a:xfrm>
            <a:off x="1066680" y="5180040"/>
            <a:ext cx="5057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SPREAD CHANNELS AT 0.68 kBps = 10 MBps</a:t>
            </a:r>
            <a:endParaRPr b="0" lang="en-US" sz="1800" spc="-1" strike="noStrike">
              <a:solidFill>
                <a:srgbClr val="000000"/>
              </a:solidFill>
              <a:latin typeface="Arial"/>
            </a:endParaRPr>
          </a:p>
        </p:txBody>
      </p:sp>
      <p:sp>
        <p:nvSpPr>
          <p:cNvPr id="292" name=""/>
          <p:cNvSpPr txBox="1"/>
          <p:nvPr/>
        </p:nvSpPr>
        <p:spPr>
          <a:xfrm>
            <a:off x="2482920" y="1700280"/>
            <a:ext cx="390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Code Division Multiplex (OC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1</a:t>
            </a:r>
            <a:endParaRPr b="0" lang="en-US" sz="1400" spc="-1" strike="noStrike">
              <a:solidFill>
                <a:srgbClr val="000000"/>
              </a:solidFill>
              <a:latin typeface="Arial"/>
            </a:endParaRPr>
          </a:p>
        </p:txBody>
      </p:sp>
      <p:sp>
        <p:nvSpPr>
          <p:cNvPr id="294" name=""/>
          <p:cNvSpPr txBox="1"/>
          <p:nvPr/>
        </p:nvSpPr>
        <p:spPr>
          <a:xfrm>
            <a:off x="93024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CDM Properties</a:t>
            </a:r>
            <a:endParaRPr b="0" lang="en-US" sz="3600" spc="-1" strike="noStrike">
              <a:solidFill>
                <a:srgbClr val="000000"/>
              </a:solidFill>
              <a:latin typeface="Arial"/>
            </a:endParaRPr>
          </a:p>
        </p:txBody>
      </p:sp>
      <p:sp>
        <p:nvSpPr>
          <p:cNvPr id="2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le summed orthogonal signals produce a high degree of incidental amplitude modula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Eb/N0 (power efficienc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Same spectrum as 802.11 currentl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7" name=""/>
          <p:cNvSpPr txBox="1"/>
          <p:nvPr/>
        </p:nvSpPr>
        <p:spPr>
          <a:xfrm>
            <a:off x="75888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Approach</a:t>
            </a:r>
            <a:endParaRPr b="0" lang="en-US" sz="3600" spc="-1" strike="noStrike">
              <a:solidFill>
                <a:srgbClr val="000000"/>
              </a:solidFill>
              <a:latin typeface="Arial"/>
            </a:endParaRPr>
          </a:p>
        </p:txBody>
      </p:sp>
      <p:sp>
        <p:nvSpPr>
          <p:cNvPr id="298"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301"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39"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5194440" y="39211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2</a:t>
            </a:r>
            <a:endParaRPr b="0" lang="en-US" sz="1800" spc="-1" strike="noStrike">
              <a:solidFill>
                <a:srgbClr val="000000"/>
              </a:solidFill>
              <a:latin typeface="Arial"/>
            </a:endParaRPr>
          </a:p>
        </p:txBody>
      </p:sp>
      <p:sp>
        <p:nvSpPr>
          <p:cNvPr id="341"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46" name=""/>
          <p:cNvSpPr/>
          <p:nvPr/>
        </p:nvSpPr>
        <p:spPr>
          <a:xfrm>
            <a:off x="5591160" y="43257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5651640" y="43783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1</a:t>
            </a:r>
            <a:endParaRPr b="0" lang="en-US" sz="1800" spc="-1" strike="noStrike">
              <a:solidFill>
                <a:srgbClr val="000000"/>
              </a:solidFill>
              <a:latin typeface="Arial"/>
            </a:endParaRPr>
          </a:p>
        </p:txBody>
      </p:sp>
      <p:sp>
        <p:nvSpPr>
          <p:cNvPr id="348"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356"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358" name=""/>
          <p:cNvSpPr txBox="1"/>
          <p:nvPr/>
        </p:nvSpPr>
        <p:spPr>
          <a:xfrm>
            <a:off x="1433520" y="5237280"/>
            <a:ext cx="696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FREQUENCY CHANNELS AT 0.68 kBps * 1 bit/channel = 10 MBps</a:t>
            </a:r>
            <a:endParaRPr b="0" lang="en-US" sz="1800" spc="-1" strike="noStrike">
              <a:solidFill>
                <a:srgbClr val="000000"/>
              </a:solidFill>
              <a:latin typeface="Arial"/>
            </a:endParaRPr>
          </a:p>
        </p:txBody>
      </p:sp>
      <p:sp>
        <p:nvSpPr>
          <p:cNvPr id="359" name=""/>
          <p:cNvSpPr txBox="1"/>
          <p:nvPr/>
        </p:nvSpPr>
        <p:spPr>
          <a:xfrm>
            <a:off x="2066760" y="1778040"/>
            <a:ext cx="4343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Frequency Division Multiplex (OF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61" name=""/>
          <p:cNvSpPr txBox="1"/>
          <p:nvPr/>
        </p:nvSpPr>
        <p:spPr>
          <a:xfrm>
            <a:off x="930240" y="644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Properties</a:t>
            </a:r>
            <a:endParaRPr b="0" lang="en-US" sz="3600" spc="-1" strike="noStrike">
              <a:solidFill>
                <a:srgbClr val="000000"/>
              </a:solidFill>
              <a:latin typeface="Arial"/>
            </a:endParaRPr>
          </a:p>
        </p:txBody>
      </p:sp>
      <p:sp>
        <p:nvSpPr>
          <p:cNvPr id="3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Best use of the spectrum with flat characteristic.</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rge degree of amplitude modulation.</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eans that a very linear power amplifier is required</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omplex processing (FFT)</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ore cost and power consumption </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spectrum and power efficiency in waveform</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an use differential, non-coherent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4</a:t>
            </a:r>
            <a:endParaRPr b="0" lang="en-US" sz="1400" spc="-1" strike="noStrike">
              <a:solidFill>
                <a:srgbClr val="000000"/>
              </a:solidFill>
              <a:latin typeface="Arial"/>
            </a:endParaRPr>
          </a:p>
        </p:txBody>
      </p:sp>
      <p:sp>
        <p:nvSpPr>
          <p:cNvPr id="364" name=""/>
          <p:cNvSpPr txBox="1"/>
          <p:nvPr/>
        </p:nvSpPr>
        <p:spPr>
          <a:xfrm>
            <a:off x="106380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 Table</a:t>
            </a:r>
            <a:endParaRPr b="0" lang="en-US" sz="3600" spc="-1" strike="noStrike">
              <a:solidFill>
                <a:srgbClr val="000000"/>
              </a:solidFill>
              <a:latin typeface="Arial"/>
            </a:endParaRPr>
          </a:p>
        </p:txBody>
      </p:sp>
      <p:pic>
        <p:nvPicPr>
          <p:cNvPr id="365" name="" descr=""/>
          <p:cNvPicPr/>
          <p:nvPr/>
        </p:nvPicPr>
        <p:blipFill>
          <a:blip r:embed="rId1"/>
          <a:stretch/>
        </p:blipFill>
        <p:spPr>
          <a:xfrm>
            <a:off x="531720" y="2057400"/>
            <a:ext cx="8083440" cy="3944880"/>
          </a:xfrm>
          <a:prstGeom prst="rect">
            <a:avLst/>
          </a:prstGeom>
          <a:ln w="0">
            <a:noFill/>
          </a:ln>
        </p:spPr>
      </p:pic>
      <p:sp>
        <p:nvSpPr>
          <p:cNvPr id="366" name=""/>
          <p:cNvSpPr txBox="1"/>
          <p:nvPr/>
        </p:nvSpPr>
        <p:spPr>
          <a:xfrm>
            <a:off x="3417840" y="59371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wer is b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5</a:t>
            </a:r>
            <a:endParaRPr b="0" lang="en-US" sz="1400" spc="-1" strike="noStrike">
              <a:solidFill>
                <a:srgbClr val="000000"/>
              </a:solidFill>
              <a:latin typeface="Arial"/>
            </a:endParaRPr>
          </a:p>
        </p:txBody>
      </p:sp>
      <p:sp>
        <p:nvSpPr>
          <p:cNvPr id="368" name=""/>
          <p:cNvSpPr txBox="1"/>
          <p:nvPr/>
        </p:nvSpPr>
        <p:spPr>
          <a:xfrm>
            <a:off x="988920" y="563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Standard Definition Issues</a:t>
            </a:r>
            <a:endParaRPr b="0" lang="en-US" sz="3600" spc="-1" strike="noStrike">
              <a:solidFill>
                <a:srgbClr val="000000"/>
              </a:solidFill>
              <a:latin typeface="Arial"/>
            </a:endParaRPr>
          </a:p>
        </p:txBody>
      </p:sp>
      <p:sp>
        <p:nvSpPr>
          <p:cNvPr id="3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ck of 10+ MBps Physical Layer standard</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ovide backwards compatibility to IEEE 802.11 at 1&amp;2 MBp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imited bandwidth available in the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aximize bits/Hz</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Need at least 3 channel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eet FCC requirements for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eliminary review is encourag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FCC is comfortable with any solution that passes CW te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eroperate with 1&amp;2 MBps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71" name=""/>
          <p:cNvSpPr txBox="1"/>
          <p:nvPr/>
        </p:nvSpPr>
        <p:spPr>
          <a:xfrm>
            <a:off x="716040" y="560520"/>
            <a:ext cx="7162920" cy="71748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High Rate 802.11 Features</a:t>
            </a:r>
            <a:endParaRPr b="0" lang="en-US" sz="2800" spc="-1" strike="noStrike">
              <a:solidFill>
                <a:srgbClr val="000000"/>
              </a:solidFill>
              <a:latin typeface="Arial"/>
            </a:endParaRPr>
          </a:p>
        </p:txBody>
      </p:sp>
      <p:sp>
        <p:nvSpPr>
          <p:cNvPr id="372" name=""/>
          <p:cNvSpPr txBox="1"/>
          <p:nvPr/>
        </p:nvSpPr>
        <p:spPr>
          <a:xfrm>
            <a:off x="533520" y="2000160"/>
            <a:ext cx="8077320" cy="409572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200" spc="-1" strike="noStrike">
                <a:solidFill>
                  <a:srgbClr val="000000"/>
                </a:solidFill>
                <a:latin typeface="Arial"/>
                <a:ea typeface="Arial"/>
              </a:rPr>
              <a:t>Provide 10+ MBps wireless LAN data rates while maintaining interoperability with 1 &amp; 2 MBps WLANs</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Increase data rate by at least 5x with no increase in the transmit bandwidth requirement</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Rate switching during packets is supported alre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7</a:t>
            </a:r>
            <a:endParaRPr b="0" lang="en-US" sz="1400" spc="-1" strike="noStrike">
              <a:solidFill>
                <a:srgbClr val="000000"/>
              </a:solidFill>
              <a:latin typeface="Arial"/>
            </a:endParaRPr>
          </a:p>
        </p:txBody>
      </p:sp>
      <p:sp>
        <p:nvSpPr>
          <p:cNvPr id="374" name=""/>
          <p:cNvSpPr txBox="1"/>
          <p:nvPr/>
        </p:nvSpPr>
        <p:spPr>
          <a:xfrm>
            <a:off x="873000" y="5302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ifications to Standard</a:t>
            </a:r>
            <a:endParaRPr b="0" lang="en-US" sz="3600" spc="-1" strike="noStrike">
              <a:solidFill>
                <a:srgbClr val="000000"/>
              </a:solidFill>
              <a:latin typeface="Arial"/>
            </a:endParaRPr>
          </a:p>
        </p:txBody>
      </p:sp>
      <p:sp>
        <p:nvSpPr>
          <p:cNvPr id="37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o get high rate use more complex modulation at same spread rate.</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Use standard PLCP preamble and header to establish carrier phase and frequency lo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51" name=""/>
          <p:cNvSpPr txBox="1"/>
          <p:nvPr/>
        </p:nvSpPr>
        <p:spPr>
          <a:xfrm>
            <a:off x="98748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offs</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802.11 PHY group has identified a need for higher data rate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For higher data rates, we need a new DSSS waveform that has: </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good power efficiency (rang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10 dB PG", i.e.  will pass FCC CW jammer test</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acceptable multipath performanc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to moderate amplitude modulation</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implementation co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t would be desirable to use the existing preamble and PLCP header, so it would be interoperable with lower rate st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54" name=""/>
          <p:cNvSpPr txBox="1"/>
          <p:nvPr/>
        </p:nvSpPr>
        <p:spPr>
          <a:xfrm>
            <a:off x="797040" y="6634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ulation Options</a:t>
            </a:r>
            <a:endParaRPr b="0" lang="en-US" sz="3600" spc="-1" strike="noStrike">
              <a:solidFill>
                <a:srgbClr val="000000"/>
              </a:solidFill>
              <a:latin typeface="Arial"/>
            </a:endParaRPr>
          </a:p>
        </p:txBody>
      </p:sp>
      <p:sp>
        <p:nvSpPr>
          <p:cNvPr id="55" name=""/>
          <p:cNvSpPr txBox="1"/>
          <p:nvPr/>
        </p:nvSpPr>
        <p:spPr>
          <a:xfrm>
            <a:off x="955800" y="16225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re are several options for increasing the data rate</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ultiple bits per symbol</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Ary Orthagonal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Cyclic Code Shift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QAM with 11 MCps spread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 parallel carriers </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Orthogonal Frequency Division Multiplex (OFDM)</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 parallel orthogonal Spread signals</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Higher spread rate not considered, it reduces number of available channels 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3490920" y="224460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6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6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6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6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7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8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8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8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8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8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8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8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8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9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9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9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0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490920" y="300672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10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3080" y="552600"/>
            <a:ext cx="8629560" cy="74916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Modulation Approach for 11 MBps</a:t>
            </a:r>
            <a:endParaRPr b="0" lang="en-US" sz="3600" spc="-1" strike="noStrike">
              <a:solidFill>
                <a:srgbClr val="000000"/>
              </a:solidFill>
              <a:latin typeface="Arial"/>
            </a:endParaRPr>
          </a:p>
        </p:txBody>
      </p:sp>
      <p:sp>
        <p:nvSpPr>
          <p:cNvPr id="12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124" name=""/>
          <p:cNvSpPr txBox="1"/>
          <p:nvPr/>
        </p:nvSpPr>
        <p:spPr>
          <a:xfrm>
            <a:off x="89208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properties</a:t>
            </a:r>
            <a:endParaRPr b="0" lang="en-US" sz="3600" spc="-1" strike="noStrike">
              <a:solidFill>
                <a:srgbClr val="000000"/>
              </a:solidFill>
              <a:latin typeface="Arial"/>
            </a:endParaRPr>
          </a:p>
        </p:txBody>
      </p:sp>
      <p:sp>
        <p:nvSpPr>
          <p:cNvPr id="12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is modulation is most power efficient</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spectrum is like the 802.11 DSS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ath performance is nominal for the SNR</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coherent processing</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12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492360" y="2244600"/>
            <a:ext cx="828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3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13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13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4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4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4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5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5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15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15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15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15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15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5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6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16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6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7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3490920" y="3006720"/>
            <a:ext cx="86688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7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7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95400" y="500040"/>
            <a:ext cx="887724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Modulation Approach for 11 MB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a:t>
            </a:r>
            <a:endParaRPr b="0" lang="en-US" sz="1400" spc="-1" strike="noStrike">
              <a:solidFill>
                <a:srgbClr val="000000"/>
              </a:solidFill>
              <a:latin typeface="Arial"/>
            </a:endParaRPr>
          </a:p>
        </p:txBody>
      </p:sp>
      <p:sp>
        <p:nvSpPr>
          <p:cNvPr id="194" name=""/>
          <p:cNvSpPr txBox="1"/>
          <p:nvPr/>
        </p:nvSpPr>
        <p:spPr>
          <a:xfrm>
            <a:off x="79704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properties</a:t>
            </a:r>
            <a:endParaRPr b="0" lang="en-US" sz="3600" spc="-1" strike="noStrike">
              <a:solidFill>
                <a:srgbClr val="000000"/>
              </a:solidFill>
              <a:latin typeface="Arial"/>
            </a:endParaRPr>
          </a:p>
        </p:txBody>
      </p:sp>
      <p:sp>
        <p:nvSpPr>
          <p:cNvPr id="1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modulation symbols are not orthogonal, so they do not achieve as high an efficiency as MOK.</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symbols are susceptible to long range multipath.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the least hardware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197" name=""/>
          <p:cNvSpPr txBox="1"/>
          <p:nvPr/>
        </p:nvSpPr>
        <p:spPr>
          <a:xfrm>
            <a:off x="94932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approach</a:t>
            </a:r>
            <a:endParaRPr b="0" lang="en-US" sz="3600" spc="-1" strike="noStrike">
              <a:solidFill>
                <a:srgbClr val="000000"/>
              </a:solidFill>
              <a:latin typeface="Arial"/>
            </a:endParaRPr>
          </a:p>
        </p:txBody>
      </p:sp>
      <p:sp>
        <p:nvSpPr>
          <p:cNvPr id="198" name=""/>
          <p:cNvSpPr/>
          <p:nvPr/>
        </p:nvSpPr>
        <p:spPr>
          <a:xfrm>
            <a:off x="1778040" y="2805120"/>
            <a:ext cx="1766880" cy="1085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2146320" y="3036960"/>
            <a:ext cx="9810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1024 QA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Narrow"/>
                <a:ea typeface="Arial Narrow"/>
              </a:rPr>
              <a:t>Modulator</a:t>
            </a:r>
            <a:endParaRPr b="0" lang="en-US" sz="1600" spc="-1" strike="noStrike">
              <a:solidFill>
                <a:srgbClr val="000000"/>
              </a:solidFill>
              <a:latin typeface="Arial"/>
            </a:endParaRPr>
          </a:p>
        </p:txBody>
      </p:sp>
      <p:sp>
        <p:nvSpPr>
          <p:cNvPr id="200" name=""/>
          <p:cNvSpPr/>
          <p:nvPr/>
        </p:nvSpPr>
        <p:spPr>
          <a:xfrm>
            <a:off x="1293840" y="3279600"/>
            <a:ext cx="49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67240" y="3186000"/>
            <a:ext cx="286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040280" y="1720800"/>
            <a:ext cx="1190520" cy="11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19880" y="304308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6419880" y="304308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137280" y="309420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378480" y="304308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114960" y="306540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8" name=""/>
          <p:cNvSpPr/>
          <p:nvPr/>
        </p:nvSpPr>
        <p:spPr>
          <a:xfrm>
            <a:off x="6442200" y="349236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6442200" y="349236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159600" y="354348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400800" y="349236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684840" y="3152880"/>
            <a:ext cx="136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686640" y="3605040"/>
            <a:ext cx="1361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077920" y="4398840"/>
            <a:ext cx="152388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5483160" y="4272120"/>
            <a:ext cx="1604880" cy="133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641840" y="4156200"/>
            <a:ext cx="180036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108080" y="1824120"/>
            <a:ext cx="2124000" cy="520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3556080" y="3622680"/>
            <a:ext cx="28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064040" y="1871640"/>
            <a:ext cx="1082520" cy="7300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1 MC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Generator</a:t>
            </a:r>
            <a:endParaRPr b="0" lang="en-US" sz="1400" spc="-1" strike="noStrike">
              <a:solidFill>
                <a:srgbClr val="000000"/>
              </a:solidFill>
              <a:latin typeface="Arial"/>
            </a:endParaRPr>
          </a:p>
        </p:txBody>
      </p:sp>
      <p:sp>
        <p:nvSpPr>
          <p:cNvPr id="220" name=""/>
          <p:cNvSpPr/>
          <p:nvPr/>
        </p:nvSpPr>
        <p:spPr>
          <a:xfrm>
            <a:off x="5227560" y="2344680"/>
            <a:ext cx="92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141960" y="2340000"/>
            <a:ext cx="0" cy="12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7677000" y="2716200"/>
            <a:ext cx="23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a:t>
            </a:r>
            <a:endParaRPr b="0" lang="en-US" sz="1400" spc="-1" strike="noStrike">
              <a:solidFill>
                <a:srgbClr val="000000"/>
              </a:solidFill>
              <a:latin typeface="Arial"/>
            </a:endParaRPr>
          </a:p>
        </p:txBody>
      </p:sp>
      <p:sp>
        <p:nvSpPr>
          <p:cNvPr id="223" name=""/>
          <p:cNvSpPr txBox="1"/>
          <p:nvPr/>
        </p:nvSpPr>
        <p:spPr>
          <a:xfrm>
            <a:off x="7701120" y="3259080"/>
            <a:ext cx="322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Q</a:t>
            </a:r>
            <a:endParaRPr b="0" lang="en-US" sz="1400" spc="-1" strike="noStrike">
              <a:solidFill>
                <a:srgbClr val="000000"/>
              </a:solidFill>
              <a:latin typeface="Arial"/>
            </a:endParaRPr>
          </a:p>
        </p:txBody>
      </p:sp>
      <p:sp>
        <p:nvSpPr>
          <p:cNvPr id="224" name=""/>
          <p:cNvSpPr txBox="1"/>
          <p:nvPr/>
        </p:nvSpPr>
        <p:spPr>
          <a:xfrm>
            <a:off x="1109520" y="264636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25" name=""/>
          <p:cNvSpPr txBox="1"/>
          <p:nvPr/>
        </p:nvSpPr>
        <p:spPr>
          <a:xfrm>
            <a:off x="2852640" y="4560840"/>
            <a:ext cx="31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bits/symbol * 1 MSps = 10 MBp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a:t>
            </a:r>
            <a:endParaRPr b="0" lang="en-US" sz="1400" spc="-1" strike="noStrike">
              <a:solidFill>
                <a:srgbClr val="000000"/>
              </a:solidFill>
              <a:latin typeface="Arial"/>
            </a:endParaRPr>
          </a:p>
        </p:txBody>
      </p:sp>
      <p:sp>
        <p:nvSpPr>
          <p:cNvPr id="227" name=""/>
          <p:cNvSpPr txBox="1"/>
          <p:nvPr/>
        </p:nvSpPr>
        <p:spPr>
          <a:xfrm>
            <a:off x="1006560" y="5875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properties</a:t>
            </a:r>
            <a:endParaRPr b="0" lang="en-US" sz="3600" spc="-1" strike="noStrike">
              <a:solidFill>
                <a:srgbClr val="000000"/>
              </a:solidFill>
              <a:latin typeface="Arial"/>
            </a:endParaRPr>
          </a:p>
        </p:txBody>
      </p:sp>
      <p:sp>
        <p:nvSpPr>
          <p:cNvPr id="22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1024 QAM is very sensitive to distortion and would need an equalizer to even be considered.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oes not achieve a good Eb/N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10 Mbps WLAN for 802.11</dc:subject>
  <dc:title>Presentation to 802.11for 10Mbps</dc:title>
</cp:coreProperties>
</file>