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FA4DDA-7C10-4C24-A887-7AD0CB22E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1828800"/>
            <a:ext cx="906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09480"/>
            <a:ext cx="7772400" cy="13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2nd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 (PH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2590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Agen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ptember 8-12,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ndon,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September 8, 8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b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8 Submi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 suggest we sent a call for papers to everybody. It will accelerate our progress if authors can circulate the actual papers or presentations in adva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 Attend common BRAN/802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0 Next meeting Goals/Ag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609480"/>
            <a:ext cx="80010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Introduction of IEEE P802.11 and its most important rule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chedule for new PHY  in 5 GHz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Long term goals for IEEE/ETSI collaboration in 5.2 GHz wireless standard development (1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Common PHY, different 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Allow 802.11 MAC device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echnical Requirement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 Data rates and types of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 Multipath and interference 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 Connection vs connectio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 Packet drop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Technical proposal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 Modulatio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Introduction of ETSI Project BRAN and its most important rule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Schedules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Technical Requirements (1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1 Data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2 Mobility levels to b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3 ATM service classes to b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4 Fixed ATM access requirements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Technical proposals seminar (6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 Channel models, modulation &amp; coding issues and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 MAC issues &amp;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officers / ETSI project BRAN Project Management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s for the meeting with the PMC (10 minut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1 positions on 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2 ground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dissemination,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10-14 - Queen Elizabeth, Montreal, PQ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ch 9-13 - Hyatt Regency Irvine, CA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ly 6-10 - Hyatt Regency La Jolla, San Diego, CA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9-13 - Hyatt Regency, Albuquerque, NM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ch 8-12 - Hyatt Regency Town Lake, Austin, TX,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ly 5-9 - Queen Elizabeth Hotel, Montreal, PQ, Plenary (contract not signed y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8-12 - Hyatt Regency Kauai, Koloa, HI, plenary (contract not yet sig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tart the work of TG a and TG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ablish cooperation between IEEE P802.11 and ETSI project B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ablish a strong liaison between TG a and ETSI project BRAN WG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 schedule of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of TG a and TG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Election of secretary and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nnou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Agend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Organisation of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 Any Othe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 Adjourn for TG a and TG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a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Election of secretary and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gend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Revise 5 criteria  PAR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Project Schedule and major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a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 Meetings and process to develop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 Technical Discussions/ 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1 PHY baseline (key parameters and  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rates, sensitivity, multipath/PER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MAC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 Evaluation and rating criteria for submitted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a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8 Submi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 suggest we sent a call for papers to everybody. It will accelerate our progress if authors can circulate the actual papers or presentations in adva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 Prepare for BRAN/802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0 Next meeting Goals/Ag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b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Election of secretary and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gend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Revise / Finalize 5 criteria  PAR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Project Schedule and major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b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 Meetings and process to develop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 Technical Discussions/ 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1 PHY baseline (key parameters and  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rates, sensitivity, multipath/PER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MAC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 Evaluation and rating criteria for submitted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TG b agenda</dc:title>
</cp:coreProperties>
</file>