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42200" y="6324480"/>
            <a:ext cx="1168560" cy="43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308320" y="200340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611440" y="200340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004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94200" y="2003400"/>
            <a:ext cx="28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9392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4808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0188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28960" y="2003400"/>
            <a:ext cx="28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8320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3700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2640" y="2003400"/>
            <a:ext cx="28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6416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9124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45040" y="2003400"/>
            <a:ext cx="565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24480" y="200340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65308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8016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05440" y="2003400"/>
            <a:ext cx="438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59600" y="2003400"/>
            <a:ext cx="336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11880" y="2003400"/>
            <a:ext cx="31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38960" y="200340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742080" y="20034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72200" y="200340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09840" y="3341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4040" y="33415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14480" y="33415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05280" y="3341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81240" y="334152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71760" y="3341520"/>
            <a:ext cx="25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35480" y="334152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3700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14840" y="3341520"/>
            <a:ext cx="25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7820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4164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09428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46560" y="3341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35480" y="3341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3708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936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42000" y="3341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092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95800" y="334152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4816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00800" y="3341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972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5460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1804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588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61120" y="334152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6264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27880" y="3341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1500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80240" y="334152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81760" y="3341520"/>
            <a:ext cx="25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958080" y="33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122960" y="3341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87760" y="402444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4012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05360" y="4024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5764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3548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00720" y="4024440"/>
            <a:ext cx="25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2640" y="402444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6416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842000" y="402444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17960" y="402444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7212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48160" y="402444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50040" y="4024440"/>
            <a:ext cx="25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13400" y="4024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568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30920" y="402444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31000" y="40244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57560" y="447192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34656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73280" y="447192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37000" y="4471920"/>
            <a:ext cx="235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87760" y="4471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0188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28960" y="447192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0384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30560" y="4471920"/>
            <a:ext cx="415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59160" y="447192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3700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264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9360" y="4471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0384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3092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5764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08400" y="447192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272200" y="4471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86320" y="4471920"/>
            <a:ext cx="235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3708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6416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7864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4200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86908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3100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9436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57720" y="4471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960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6680" y="4471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350040" y="4471920"/>
            <a:ext cx="235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400800" y="4471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04920" y="431640"/>
            <a:ext cx="92836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330120" y="457200"/>
            <a:ext cx="9220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95360" y="685800"/>
            <a:ext cx="88898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79640" y="1295280"/>
            <a:ext cx="77342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" y="406440"/>
            <a:ext cx="982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01920" y="203040"/>
            <a:ext cx="3124080" cy="34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2760" y="431640"/>
            <a:ext cx="434340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444600"/>
            <a:ext cx="4559400" cy="2755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95360" y="3048120"/>
            <a:ext cx="4317840" cy="3327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978440" y="3363840"/>
            <a:ext cx="4292640" cy="2922480"/>
          </a:xfrm>
          <a:prstGeom prst="roundRect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5080" y="3300480"/>
            <a:ext cx="4292640" cy="29224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4600" y="3174840"/>
            <a:ext cx="1419480" cy="240120"/>
          </a:xfrm>
          <a:custGeom>
            <a:avLst/>
            <a:gdLst/>
            <a:ahLst/>
            <a:rect l="0" t="0" r="r" b="b"/>
            <a:pathLst>
              <a:path w="3943" h="667">
                <a:moveTo>
                  <a:pt x="0" y="0"/>
                </a:moveTo>
                <a:lnTo>
                  <a:pt x="3943" y="0"/>
                </a:lnTo>
                <a:lnTo>
                  <a:pt x="3943" y="667"/>
                </a:lnTo>
                <a:lnTo>
                  <a:pt x="0" y="66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02440" y="312120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42120" y="3121200"/>
            <a:ext cx="365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19960" y="3121200"/>
            <a:ext cx="297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34080" y="312120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08600" y="312120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772320" y="3121200"/>
            <a:ext cx="2412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35680" y="3121200"/>
            <a:ext cx="297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50160" y="312120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064280" y="312120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40600" y="3121200"/>
            <a:ext cx="297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254720" y="312120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367760" y="312120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494480" y="3121200"/>
            <a:ext cx="297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80200" y="5600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51988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1960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2148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823000" y="5600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89932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95008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5160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38720" y="5600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5600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303960" y="5600520"/>
            <a:ext cx="2350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5472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4364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4516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63408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69780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797520" y="5600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7384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924600" y="5600520"/>
            <a:ext cx="2350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7536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6428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165800" y="560052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24212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32960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43112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52004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56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72308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200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862760" y="5600520"/>
            <a:ext cx="2350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91208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97544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077320" y="5600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12808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217000" y="560052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92960" y="560052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35668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45600" y="560052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50752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609040" y="5600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71056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99480" y="5600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2800" y="5816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53248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32560" y="5816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8484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886360" y="5816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950080" y="5816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0084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8976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76880" y="5816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060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32952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31040" y="5816520"/>
            <a:ext cx="2350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8180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57072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672240" y="5816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2156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1048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91200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01352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15040" y="5816520"/>
            <a:ext cx="2350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65800" y="5816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242120" y="5816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42200" y="581652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418520" y="58165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469280" y="5816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70800" y="5816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57960" y="4883040"/>
            <a:ext cx="1722960" cy="723240"/>
            <a:chOff x="7257960" y="4883040"/>
            <a:chExt cx="1722960" cy="723240"/>
          </a:xfrm>
        </p:grpSpPr>
        <p:grpSp>
          <p:nvGrpSpPr>
            <p:cNvPr id="236" name=""/>
            <p:cNvGrpSpPr/>
            <p:nvPr/>
          </p:nvGrpSpPr>
          <p:grpSpPr>
            <a:xfrm>
              <a:off x="7383600" y="4883040"/>
              <a:ext cx="304560" cy="392400"/>
              <a:chOff x="7383600" y="4883040"/>
              <a:chExt cx="304560" cy="3924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383600" y="4883040"/>
                <a:ext cx="304560" cy="163800"/>
                <a:chOff x="7383600" y="4883040"/>
                <a:chExt cx="304560" cy="163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385040" y="4883040"/>
                  <a:ext cx="15084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7535880" y="4883040"/>
                  <a:ext cx="152280" cy="16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83600" y="48830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 flipV="1">
                <a:off x="7535880" y="4883040"/>
                <a:ext cx="0" cy="3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8258040" y="4896000"/>
              <a:ext cx="303480" cy="392040"/>
              <a:chOff x="8258040" y="4896000"/>
              <a:chExt cx="303480" cy="3920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8258040" y="4896000"/>
                <a:ext cx="303480" cy="163440"/>
                <a:chOff x="8258040" y="4896000"/>
                <a:chExt cx="303480" cy="163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8258040" y="4896000"/>
                  <a:ext cx="150840" cy="16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8410680" y="4897440"/>
                  <a:ext cx="15084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258040" y="4896000"/>
                  <a:ext cx="30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V="1">
                <a:off x="8410680" y="4896000"/>
                <a:ext cx="0" cy="39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 txBox="1"/>
            <p:nvPr/>
          </p:nvSpPr>
          <p:spPr>
            <a:xfrm>
              <a:off x="7267680" y="526896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7367760" y="526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40556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748188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757080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7659720" y="526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7684920" y="526896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773604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7812000" y="526896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86276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950240" y="526896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802656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8115480" y="526896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8191440" y="526896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8267760" y="526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829296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8381880" y="526896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288040"/>
              <a:ext cx="1442880" cy="25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701200" y="5362560"/>
              <a:ext cx="279720" cy="101880"/>
              <a:chOff x="8701200" y="5362560"/>
              <a:chExt cx="279720" cy="101880"/>
            </a:xfrm>
          </p:grpSpPr>
          <p:sp>
            <p:nvSpPr>
              <p:cNvPr id="267" name=""/>
              <p:cNvSpPr/>
              <p:nvPr/>
            </p:nvSpPr>
            <p:spPr>
              <a:xfrm>
                <a:off x="8879040" y="5362560"/>
                <a:ext cx="101880" cy="101880"/>
              </a:xfrm>
              <a:custGeom>
                <a:avLst/>
                <a:gdLst/>
                <a:ahLst/>
                <a:rect l="0" t="0" r="r" b="b"/>
                <a:pathLst>
                  <a:path w="283" h="283">
                    <a:moveTo>
                      <a:pt x="283" y="142"/>
                    </a:moveTo>
                    <a:lnTo>
                      <a:pt x="0" y="283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283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01200" y="5413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7548480" y="4603680"/>
            <a:ext cx="824040" cy="190440"/>
          </a:xfrm>
          <a:prstGeom prst="ellipse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74040" y="4603680"/>
            <a:ext cx="811440" cy="203400"/>
          </a:xfrm>
          <a:custGeom>
            <a:avLst/>
            <a:gdLst/>
            <a:ahLst/>
            <a:rect l="0" t="0" r="r" b="b"/>
            <a:pathLst>
              <a:path w="2254" h="565">
                <a:moveTo>
                  <a:pt x="2254" y="176"/>
                </a:moveTo>
                <a:lnTo>
                  <a:pt x="2219" y="211"/>
                </a:lnTo>
                <a:lnTo>
                  <a:pt x="2183" y="246"/>
                </a:lnTo>
                <a:lnTo>
                  <a:pt x="2113" y="318"/>
                </a:lnTo>
                <a:lnTo>
                  <a:pt x="2007" y="353"/>
                </a:lnTo>
                <a:lnTo>
                  <a:pt x="1866" y="389"/>
                </a:lnTo>
                <a:lnTo>
                  <a:pt x="1689" y="459"/>
                </a:lnTo>
                <a:lnTo>
                  <a:pt x="1513" y="494"/>
                </a:lnTo>
                <a:lnTo>
                  <a:pt x="1337" y="494"/>
                </a:lnTo>
                <a:lnTo>
                  <a:pt x="1160" y="530"/>
                </a:lnTo>
                <a:lnTo>
                  <a:pt x="952" y="565"/>
                </a:lnTo>
                <a:lnTo>
                  <a:pt x="776" y="565"/>
                </a:lnTo>
                <a:lnTo>
                  <a:pt x="599" y="565"/>
                </a:lnTo>
                <a:lnTo>
                  <a:pt x="423" y="565"/>
                </a:lnTo>
                <a:lnTo>
                  <a:pt x="282" y="530"/>
                </a:lnTo>
                <a:lnTo>
                  <a:pt x="176" y="530"/>
                </a:lnTo>
                <a:lnTo>
                  <a:pt x="70" y="494"/>
                </a:lnTo>
                <a:lnTo>
                  <a:pt x="35" y="459"/>
                </a:lnTo>
                <a:lnTo>
                  <a:pt x="0" y="424"/>
                </a:lnTo>
                <a:lnTo>
                  <a:pt x="35" y="353"/>
                </a:lnTo>
                <a:lnTo>
                  <a:pt x="70" y="318"/>
                </a:lnTo>
                <a:lnTo>
                  <a:pt x="141" y="283"/>
                </a:lnTo>
                <a:lnTo>
                  <a:pt x="246" y="211"/>
                </a:lnTo>
                <a:lnTo>
                  <a:pt x="388" y="176"/>
                </a:lnTo>
                <a:lnTo>
                  <a:pt x="529" y="141"/>
                </a:lnTo>
                <a:lnTo>
                  <a:pt x="705" y="105"/>
                </a:lnTo>
                <a:lnTo>
                  <a:pt x="917" y="70"/>
                </a:lnTo>
                <a:lnTo>
                  <a:pt x="1089" y="35"/>
                </a:lnTo>
                <a:lnTo>
                  <a:pt x="1301" y="35"/>
                </a:lnTo>
                <a:lnTo>
                  <a:pt x="1478" y="0"/>
                </a:lnTo>
                <a:lnTo>
                  <a:pt x="1654" y="0"/>
                </a:lnTo>
                <a:lnTo>
                  <a:pt x="1831" y="35"/>
                </a:lnTo>
                <a:lnTo>
                  <a:pt x="1972" y="35"/>
                </a:lnTo>
                <a:lnTo>
                  <a:pt x="2077" y="70"/>
                </a:lnTo>
                <a:lnTo>
                  <a:pt x="2148" y="105"/>
                </a:lnTo>
                <a:lnTo>
                  <a:pt x="2219" y="141"/>
                </a:lnTo>
                <a:lnTo>
                  <a:pt x="2254" y="176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680160" y="3908520"/>
            <a:ext cx="451440" cy="163800"/>
            <a:chOff x="6680160" y="3908520"/>
            <a:chExt cx="451440" cy="163800"/>
          </a:xfrm>
        </p:grpSpPr>
        <p:sp>
          <p:nvSpPr>
            <p:cNvPr id="272" name=""/>
            <p:cNvSpPr/>
            <p:nvPr/>
          </p:nvSpPr>
          <p:spPr>
            <a:xfrm>
              <a:off x="6953400" y="3946680"/>
              <a:ext cx="178200" cy="125640"/>
            </a:xfrm>
            <a:custGeom>
              <a:avLst/>
              <a:gdLst/>
              <a:ahLst/>
              <a:rect l="0" t="0" r="r" b="b"/>
              <a:pathLst>
                <a:path w="495" h="349">
                  <a:moveTo>
                    <a:pt x="495" y="318"/>
                  </a:moveTo>
                  <a:lnTo>
                    <a:pt x="0" y="349"/>
                  </a:lnTo>
                  <a:lnTo>
                    <a:pt x="70" y="177"/>
                  </a:lnTo>
                  <a:lnTo>
                    <a:pt x="105" y="0"/>
                  </a:lnTo>
                  <a:lnTo>
                    <a:pt x="495" y="3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80160" y="3908520"/>
              <a:ext cx="298440" cy="9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548320" y="3618000"/>
            <a:ext cx="1140120" cy="290880"/>
          </a:xfrm>
          <a:custGeom>
            <a:avLst/>
            <a:gdLst/>
            <a:ahLst/>
            <a:rect l="0" t="0" r="r" b="b"/>
            <a:pathLst>
              <a:path fill="none" w="3167" h="808">
                <a:moveTo>
                  <a:pt x="0" y="0"/>
                </a:moveTo>
                <a:lnTo>
                  <a:pt x="771" y="561"/>
                </a:lnTo>
                <a:lnTo>
                  <a:pt x="1897" y="278"/>
                </a:lnTo>
                <a:lnTo>
                  <a:pt x="3167" y="8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48320" y="3618000"/>
            <a:ext cx="1152720" cy="290880"/>
          </a:xfrm>
          <a:custGeom>
            <a:avLst/>
            <a:gdLst/>
            <a:ahLst/>
            <a:rect l="0" t="0" r="r" b="b"/>
            <a:pathLst>
              <a:path fill="none" w="3202" h="808">
                <a:moveTo>
                  <a:pt x="0" y="0"/>
                </a:moveTo>
                <a:lnTo>
                  <a:pt x="806" y="596"/>
                </a:lnTo>
                <a:lnTo>
                  <a:pt x="1932" y="314"/>
                </a:lnTo>
                <a:lnTo>
                  <a:pt x="3202" y="8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51440" y="4491000"/>
            <a:ext cx="1267200" cy="176400"/>
          </a:xfrm>
          <a:custGeom>
            <a:avLst/>
            <a:gdLst/>
            <a:ahLst/>
            <a:rect l="0" t="0" r="r" b="b"/>
            <a:pathLst>
              <a:path fill="none" w="3520" h="490">
                <a:moveTo>
                  <a:pt x="0" y="490"/>
                </a:moveTo>
                <a:lnTo>
                  <a:pt x="1337" y="0"/>
                </a:lnTo>
                <a:lnTo>
                  <a:pt x="2815" y="278"/>
                </a:lnTo>
                <a:lnTo>
                  <a:pt x="3520" y="2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51440" y="4491000"/>
            <a:ext cx="1267200" cy="189360"/>
          </a:xfrm>
          <a:custGeom>
            <a:avLst/>
            <a:gdLst/>
            <a:ahLst/>
            <a:rect l="0" t="0" r="r" b="b"/>
            <a:pathLst>
              <a:path fill="none" w="3520" h="526">
                <a:moveTo>
                  <a:pt x="0" y="526"/>
                </a:moveTo>
                <a:lnTo>
                  <a:pt x="1337" y="0"/>
                </a:lnTo>
                <a:lnTo>
                  <a:pt x="2815" y="314"/>
                </a:lnTo>
                <a:lnTo>
                  <a:pt x="3520" y="2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118280" y="4514760"/>
            <a:ext cx="379800" cy="127440"/>
            <a:chOff x="7118280" y="4514760"/>
            <a:chExt cx="379800" cy="127440"/>
          </a:xfrm>
        </p:grpSpPr>
        <p:sp>
          <p:nvSpPr>
            <p:cNvPr id="279" name=""/>
            <p:cNvSpPr/>
            <p:nvPr/>
          </p:nvSpPr>
          <p:spPr>
            <a:xfrm>
              <a:off x="7334280" y="4514760"/>
              <a:ext cx="163800" cy="127440"/>
            </a:xfrm>
            <a:custGeom>
              <a:avLst/>
              <a:gdLst/>
              <a:ahLst/>
              <a:rect l="0" t="0" r="r" b="b"/>
              <a:pathLst>
                <a:path w="455" h="354">
                  <a:moveTo>
                    <a:pt x="455" y="212"/>
                  </a:moveTo>
                  <a:lnTo>
                    <a:pt x="0" y="354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455" y="2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18280" y="4565520"/>
              <a:ext cx="216000" cy="12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 txBox="1"/>
          <p:nvPr/>
        </p:nvSpPr>
        <p:spPr>
          <a:xfrm>
            <a:off x="5278320" y="395280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9280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468760" y="3952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543640" y="395280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581800" y="3952800"/>
            <a:ext cx="235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63256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72148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97440" y="3952800"/>
            <a:ext cx="2271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48200" y="3952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924520" y="395280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95008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3900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26120" y="39528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202440" y="395280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950080" y="4637160"/>
            <a:ext cx="227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98788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76800" y="4637160"/>
            <a:ext cx="227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11496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202440" y="4637160"/>
            <a:ext cx="235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53200" y="4637160"/>
            <a:ext cx="227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29136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380280" y="4637160"/>
            <a:ext cx="235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3104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1996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95920" y="46371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672240" y="46371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43920" y="3933720"/>
            <a:ext cx="267120" cy="784440"/>
          </a:xfrm>
          <a:custGeom>
            <a:avLst/>
            <a:gdLst/>
            <a:ahLst/>
            <a:rect l="0" t="0" r="r" b="b"/>
            <a:pathLst>
              <a:path w="742" h="2179">
                <a:moveTo>
                  <a:pt x="530" y="2179"/>
                </a:moveTo>
                <a:lnTo>
                  <a:pt x="494" y="2144"/>
                </a:lnTo>
                <a:lnTo>
                  <a:pt x="424" y="2108"/>
                </a:lnTo>
                <a:lnTo>
                  <a:pt x="353" y="2038"/>
                </a:lnTo>
                <a:lnTo>
                  <a:pt x="283" y="1932"/>
                </a:lnTo>
                <a:lnTo>
                  <a:pt x="247" y="1826"/>
                </a:lnTo>
                <a:lnTo>
                  <a:pt x="176" y="1685"/>
                </a:lnTo>
                <a:lnTo>
                  <a:pt x="105" y="1513"/>
                </a:lnTo>
                <a:lnTo>
                  <a:pt x="70" y="1337"/>
                </a:lnTo>
                <a:lnTo>
                  <a:pt x="35" y="1125"/>
                </a:lnTo>
                <a:lnTo>
                  <a:pt x="0" y="948"/>
                </a:lnTo>
                <a:lnTo>
                  <a:pt x="0" y="771"/>
                </a:lnTo>
                <a:lnTo>
                  <a:pt x="0" y="595"/>
                </a:lnTo>
                <a:lnTo>
                  <a:pt x="0" y="418"/>
                </a:lnTo>
                <a:lnTo>
                  <a:pt x="0" y="282"/>
                </a:lnTo>
                <a:lnTo>
                  <a:pt x="35" y="176"/>
                </a:lnTo>
                <a:lnTo>
                  <a:pt x="70" y="70"/>
                </a:lnTo>
                <a:lnTo>
                  <a:pt x="141" y="35"/>
                </a:lnTo>
                <a:lnTo>
                  <a:pt x="176" y="0"/>
                </a:lnTo>
                <a:lnTo>
                  <a:pt x="247" y="0"/>
                </a:lnTo>
                <a:lnTo>
                  <a:pt x="318" y="35"/>
                </a:lnTo>
                <a:lnTo>
                  <a:pt x="389" y="105"/>
                </a:lnTo>
                <a:lnTo>
                  <a:pt x="424" y="211"/>
                </a:lnTo>
                <a:lnTo>
                  <a:pt x="494" y="352"/>
                </a:lnTo>
                <a:lnTo>
                  <a:pt x="566" y="489"/>
                </a:lnTo>
                <a:lnTo>
                  <a:pt x="601" y="665"/>
                </a:lnTo>
                <a:lnTo>
                  <a:pt x="672" y="842"/>
                </a:lnTo>
                <a:lnTo>
                  <a:pt x="707" y="1018"/>
                </a:lnTo>
                <a:lnTo>
                  <a:pt x="707" y="1231"/>
                </a:lnTo>
                <a:lnTo>
                  <a:pt x="742" y="1407"/>
                </a:lnTo>
                <a:lnTo>
                  <a:pt x="742" y="1579"/>
                </a:lnTo>
                <a:lnTo>
                  <a:pt x="742" y="1720"/>
                </a:lnTo>
                <a:lnTo>
                  <a:pt x="707" y="1861"/>
                </a:lnTo>
                <a:lnTo>
                  <a:pt x="672" y="2003"/>
                </a:lnTo>
                <a:lnTo>
                  <a:pt x="637" y="2073"/>
                </a:lnTo>
                <a:lnTo>
                  <a:pt x="601" y="2144"/>
                </a:lnTo>
                <a:lnTo>
                  <a:pt x="530" y="2179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9040" y="4022640"/>
            <a:ext cx="1203840" cy="682920"/>
          </a:xfrm>
          <a:custGeom>
            <a:avLst/>
            <a:gdLst/>
            <a:ahLst/>
            <a:rect l="0" t="0" r="r" b="b"/>
            <a:pathLst>
              <a:path w="3344" h="1897">
                <a:moveTo>
                  <a:pt x="0" y="105"/>
                </a:moveTo>
                <a:lnTo>
                  <a:pt x="70" y="35"/>
                </a:lnTo>
                <a:lnTo>
                  <a:pt x="176" y="0"/>
                </a:lnTo>
                <a:lnTo>
                  <a:pt x="317" y="0"/>
                </a:lnTo>
                <a:lnTo>
                  <a:pt x="529" y="35"/>
                </a:lnTo>
                <a:lnTo>
                  <a:pt x="771" y="70"/>
                </a:lnTo>
                <a:lnTo>
                  <a:pt x="1019" y="136"/>
                </a:lnTo>
                <a:lnTo>
                  <a:pt x="1301" y="242"/>
                </a:lnTo>
                <a:lnTo>
                  <a:pt x="1584" y="383"/>
                </a:lnTo>
                <a:lnTo>
                  <a:pt x="1901" y="524"/>
                </a:lnTo>
                <a:lnTo>
                  <a:pt x="2183" y="665"/>
                </a:lnTo>
                <a:lnTo>
                  <a:pt x="2426" y="806"/>
                </a:lnTo>
                <a:lnTo>
                  <a:pt x="2674" y="984"/>
                </a:lnTo>
                <a:lnTo>
                  <a:pt x="2921" y="1160"/>
                </a:lnTo>
                <a:lnTo>
                  <a:pt x="3097" y="1301"/>
                </a:lnTo>
                <a:lnTo>
                  <a:pt x="3238" y="1438"/>
                </a:lnTo>
                <a:lnTo>
                  <a:pt x="3309" y="1579"/>
                </a:lnTo>
                <a:lnTo>
                  <a:pt x="3344" y="1685"/>
                </a:lnTo>
                <a:lnTo>
                  <a:pt x="3344" y="1791"/>
                </a:lnTo>
                <a:lnTo>
                  <a:pt x="3274" y="1826"/>
                </a:lnTo>
                <a:lnTo>
                  <a:pt x="3168" y="1861"/>
                </a:lnTo>
                <a:lnTo>
                  <a:pt x="2991" y="1897"/>
                </a:lnTo>
                <a:lnTo>
                  <a:pt x="2815" y="1861"/>
                </a:lnTo>
                <a:lnTo>
                  <a:pt x="2568" y="1791"/>
                </a:lnTo>
                <a:lnTo>
                  <a:pt x="2320" y="1720"/>
                </a:lnTo>
                <a:lnTo>
                  <a:pt x="2042" y="1614"/>
                </a:lnTo>
                <a:lnTo>
                  <a:pt x="1760" y="1509"/>
                </a:lnTo>
                <a:lnTo>
                  <a:pt x="1442" y="1368"/>
                </a:lnTo>
                <a:lnTo>
                  <a:pt x="1160" y="1231"/>
                </a:lnTo>
                <a:lnTo>
                  <a:pt x="878" y="1054"/>
                </a:lnTo>
                <a:lnTo>
                  <a:pt x="630" y="877"/>
                </a:lnTo>
                <a:lnTo>
                  <a:pt x="423" y="736"/>
                </a:lnTo>
                <a:lnTo>
                  <a:pt x="246" y="560"/>
                </a:lnTo>
                <a:lnTo>
                  <a:pt x="105" y="418"/>
                </a:lnTo>
                <a:lnTo>
                  <a:pt x="35" y="313"/>
                </a:lnTo>
                <a:lnTo>
                  <a:pt x="0" y="171"/>
                </a:lnTo>
                <a:lnTo>
                  <a:pt x="0" y="105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30800" y="5705640"/>
            <a:ext cx="15228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43400" y="5932440"/>
            <a:ext cx="114480" cy="114480"/>
            <a:chOff x="5243400" y="5932440"/>
            <a:chExt cx="114480" cy="114480"/>
          </a:xfrm>
        </p:grpSpPr>
        <p:sp>
          <p:nvSpPr>
            <p:cNvPr id="311" name=""/>
            <p:cNvSpPr/>
            <p:nvPr/>
          </p:nvSpPr>
          <p:spPr>
            <a:xfrm>
              <a:off x="5243400" y="5932440"/>
              <a:ext cx="114480" cy="1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43400" y="5932440"/>
              <a:ext cx="114480" cy="1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72896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988320" y="3827520"/>
            <a:ext cx="316440" cy="1686240"/>
          </a:xfrm>
          <a:custGeom>
            <a:avLst/>
            <a:gdLst/>
            <a:ahLst/>
            <a:rect l="0" t="0" r="r" b="b"/>
            <a:pathLst>
              <a:path w="879" h="4684">
                <a:moveTo>
                  <a:pt x="0" y="0"/>
                </a:moveTo>
                <a:lnTo>
                  <a:pt x="879" y="0"/>
                </a:lnTo>
                <a:lnTo>
                  <a:pt x="879" y="4684"/>
                </a:lnTo>
                <a:lnTo>
                  <a:pt x="0" y="468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47920" y="2801880"/>
            <a:ext cx="57927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473200" y="1382760"/>
            <a:ext cx="5591520" cy="1394280"/>
            <a:chOff x="2473200" y="1382760"/>
            <a:chExt cx="5591520" cy="1394280"/>
          </a:xfrm>
        </p:grpSpPr>
        <p:grpSp>
          <p:nvGrpSpPr>
            <p:cNvPr id="317" name=""/>
            <p:cNvGrpSpPr/>
            <p:nvPr/>
          </p:nvGrpSpPr>
          <p:grpSpPr>
            <a:xfrm>
              <a:off x="2473200" y="1382760"/>
              <a:ext cx="2537280" cy="1394280"/>
              <a:chOff x="2473200" y="1382760"/>
              <a:chExt cx="2537280" cy="139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247320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61"/>
                    </a:moveTo>
                    <a:lnTo>
                      <a:pt x="0" y="1761"/>
                    </a:lnTo>
                    <a:lnTo>
                      <a:pt x="35" y="1867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690"/>
                    </a:lnTo>
                    <a:lnTo>
                      <a:pt x="105" y="1832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20"/>
                    </a:lnTo>
                    <a:lnTo>
                      <a:pt x="246" y="1726"/>
                    </a:lnTo>
                    <a:lnTo>
                      <a:pt x="246" y="1761"/>
                    </a:lnTo>
                    <a:lnTo>
                      <a:pt x="282" y="1549"/>
                    </a:lnTo>
                    <a:lnTo>
                      <a:pt x="282" y="1514"/>
                    </a:lnTo>
                    <a:lnTo>
                      <a:pt x="317" y="1585"/>
                    </a:lnTo>
                    <a:lnTo>
                      <a:pt x="317" y="1620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37"/>
                    </a:lnTo>
                    <a:lnTo>
                      <a:pt x="423" y="1266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25"/>
                    </a:lnTo>
                    <a:lnTo>
                      <a:pt x="493" y="1090"/>
                    </a:lnTo>
                    <a:lnTo>
                      <a:pt x="529" y="1196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090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5" y="949"/>
                    </a:lnTo>
                    <a:lnTo>
                      <a:pt x="635" y="913"/>
                    </a:lnTo>
                    <a:lnTo>
                      <a:pt x="670" y="949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36"/>
                    </a:lnTo>
                    <a:lnTo>
                      <a:pt x="776" y="777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777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00"/>
                    </a:lnTo>
                    <a:lnTo>
                      <a:pt x="1024" y="671"/>
                    </a:lnTo>
                    <a:lnTo>
                      <a:pt x="1024" y="388"/>
                    </a:lnTo>
                    <a:lnTo>
                      <a:pt x="1059" y="458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52"/>
                    </a:lnTo>
                    <a:lnTo>
                      <a:pt x="1129" y="530"/>
                    </a:lnTo>
                    <a:lnTo>
                      <a:pt x="1165" y="494"/>
                    </a:lnTo>
                    <a:lnTo>
                      <a:pt x="1165" y="282"/>
                    </a:lnTo>
                    <a:lnTo>
                      <a:pt x="1200" y="352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1" y="211"/>
                    </a:lnTo>
                    <a:lnTo>
                      <a:pt x="1271" y="352"/>
                    </a:lnTo>
                    <a:lnTo>
                      <a:pt x="1306" y="423"/>
                    </a:lnTo>
                    <a:lnTo>
                      <a:pt x="1306" y="211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11"/>
                    </a:lnTo>
                    <a:lnTo>
                      <a:pt x="1376" y="141"/>
                    </a:lnTo>
                    <a:lnTo>
                      <a:pt x="1412" y="352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41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35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320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96"/>
                    </a:moveTo>
                    <a:lnTo>
                      <a:pt x="0" y="1761"/>
                    </a:lnTo>
                    <a:lnTo>
                      <a:pt x="35" y="1902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726"/>
                    </a:lnTo>
                    <a:lnTo>
                      <a:pt x="105" y="1867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55"/>
                    </a:lnTo>
                    <a:lnTo>
                      <a:pt x="246" y="1726"/>
                    </a:lnTo>
                    <a:lnTo>
                      <a:pt x="246" y="1796"/>
                    </a:lnTo>
                    <a:lnTo>
                      <a:pt x="282" y="1549"/>
                    </a:lnTo>
                    <a:lnTo>
                      <a:pt x="317" y="1585"/>
                    </a:lnTo>
                    <a:lnTo>
                      <a:pt x="317" y="1655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72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60"/>
                    </a:lnTo>
                    <a:lnTo>
                      <a:pt x="493" y="1090"/>
                    </a:lnTo>
                    <a:lnTo>
                      <a:pt x="529" y="1231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125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5" y="984"/>
                    </a:lnTo>
                    <a:lnTo>
                      <a:pt x="635" y="913"/>
                    </a:lnTo>
                    <a:lnTo>
                      <a:pt x="670" y="984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71"/>
                    </a:lnTo>
                    <a:lnTo>
                      <a:pt x="776" y="812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812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36"/>
                    </a:lnTo>
                    <a:lnTo>
                      <a:pt x="1024" y="671"/>
                    </a:lnTo>
                    <a:lnTo>
                      <a:pt x="1024" y="423"/>
                    </a:lnTo>
                    <a:lnTo>
                      <a:pt x="1059" y="494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88"/>
                    </a:lnTo>
                    <a:lnTo>
                      <a:pt x="1129" y="565"/>
                    </a:lnTo>
                    <a:lnTo>
                      <a:pt x="1165" y="494"/>
                    </a:lnTo>
                    <a:lnTo>
                      <a:pt x="1165" y="317"/>
                    </a:lnTo>
                    <a:lnTo>
                      <a:pt x="1200" y="388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1" y="246"/>
                    </a:lnTo>
                    <a:lnTo>
                      <a:pt x="1271" y="352"/>
                    </a:lnTo>
                    <a:lnTo>
                      <a:pt x="1306" y="423"/>
                    </a:lnTo>
                    <a:lnTo>
                      <a:pt x="1306" y="246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46"/>
                    </a:lnTo>
                    <a:lnTo>
                      <a:pt x="1376" y="176"/>
                    </a:lnTo>
                    <a:lnTo>
                      <a:pt x="1412" y="388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76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70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8304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867"/>
                    </a:lnTo>
                    <a:lnTo>
                      <a:pt x="70" y="2078"/>
                    </a:lnTo>
                    <a:lnTo>
                      <a:pt x="70" y="2008"/>
                    </a:lnTo>
                    <a:lnTo>
                      <a:pt x="105" y="1761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37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61"/>
                    </a:lnTo>
                    <a:lnTo>
                      <a:pt x="282" y="1973"/>
                    </a:lnTo>
                    <a:lnTo>
                      <a:pt x="282" y="1937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61"/>
                    </a:lnTo>
                    <a:lnTo>
                      <a:pt x="388" y="1867"/>
                    </a:lnTo>
                    <a:lnTo>
                      <a:pt x="423" y="1902"/>
                    </a:lnTo>
                    <a:lnTo>
                      <a:pt x="423" y="1690"/>
                    </a:lnTo>
                    <a:lnTo>
                      <a:pt x="458" y="1726"/>
                    </a:lnTo>
                    <a:lnTo>
                      <a:pt x="458" y="1867"/>
                    </a:lnTo>
                    <a:lnTo>
                      <a:pt x="493" y="1937"/>
                    </a:lnTo>
                    <a:lnTo>
                      <a:pt x="493" y="1726"/>
                    </a:lnTo>
                    <a:lnTo>
                      <a:pt x="529" y="1655"/>
                    </a:lnTo>
                    <a:lnTo>
                      <a:pt x="529" y="1902"/>
                    </a:lnTo>
                    <a:lnTo>
                      <a:pt x="564" y="1796"/>
                    </a:lnTo>
                    <a:lnTo>
                      <a:pt x="564" y="1655"/>
                    </a:lnTo>
                    <a:lnTo>
                      <a:pt x="599" y="1620"/>
                    </a:lnTo>
                    <a:lnTo>
                      <a:pt x="599" y="1796"/>
                    </a:lnTo>
                    <a:lnTo>
                      <a:pt x="635" y="1761"/>
                    </a:lnTo>
                    <a:lnTo>
                      <a:pt x="635" y="1513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41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41"/>
                    </a:lnTo>
                    <a:lnTo>
                      <a:pt x="878" y="282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11"/>
                    </a:lnTo>
                    <a:lnTo>
                      <a:pt x="1054" y="35"/>
                    </a:lnTo>
                    <a:lnTo>
                      <a:pt x="1090" y="141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41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282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11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282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282"/>
                    </a:lnTo>
                    <a:lnTo>
                      <a:pt x="1654" y="282"/>
                    </a:lnTo>
                    <a:lnTo>
                      <a:pt x="1689" y="141"/>
                    </a:lnTo>
                    <a:lnTo>
                      <a:pt x="1689" y="35"/>
                    </a:lnTo>
                    <a:lnTo>
                      <a:pt x="1725" y="28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8304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902"/>
                    </a:lnTo>
                    <a:lnTo>
                      <a:pt x="70" y="2078"/>
                    </a:lnTo>
                    <a:lnTo>
                      <a:pt x="70" y="2043"/>
                    </a:lnTo>
                    <a:lnTo>
                      <a:pt x="105" y="1796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73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96"/>
                    </a:lnTo>
                    <a:lnTo>
                      <a:pt x="282" y="1973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96"/>
                    </a:lnTo>
                    <a:lnTo>
                      <a:pt x="388" y="1902"/>
                    </a:lnTo>
                    <a:lnTo>
                      <a:pt x="423" y="1902"/>
                    </a:lnTo>
                    <a:lnTo>
                      <a:pt x="423" y="1690"/>
                    </a:lnTo>
                    <a:lnTo>
                      <a:pt x="458" y="1726"/>
                    </a:lnTo>
                    <a:lnTo>
                      <a:pt x="458" y="1902"/>
                    </a:lnTo>
                    <a:lnTo>
                      <a:pt x="493" y="1937"/>
                    </a:lnTo>
                    <a:lnTo>
                      <a:pt x="493" y="1726"/>
                    </a:lnTo>
                    <a:lnTo>
                      <a:pt x="529" y="1655"/>
                    </a:lnTo>
                    <a:lnTo>
                      <a:pt x="529" y="1902"/>
                    </a:lnTo>
                    <a:lnTo>
                      <a:pt x="564" y="1796"/>
                    </a:lnTo>
                    <a:lnTo>
                      <a:pt x="564" y="1655"/>
                    </a:lnTo>
                    <a:lnTo>
                      <a:pt x="599" y="1620"/>
                    </a:lnTo>
                    <a:lnTo>
                      <a:pt x="599" y="1796"/>
                    </a:lnTo>
                    <a:lnTo>
                      <a:pt x="635" y="1796"/>
                    </a:lnTo>
                    <a:lnTo>
                      <a:pt x="635" y="1548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76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76"/>
                    </a:lnTo>
                    <a:lnTo>
                      <a:pt x="878" y="317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46"/>
                    </a:lnTo>
                    <a:lnTo>
                      <a:pt x="1054" y="70"/>
                    </a:lnTo>
                    <a:lnTo>
                      <a:pt x="1090" y="176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76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317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46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317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317"/>
                    </a:lnTo>
                    <a:lnTo>
                      <a:pt x="1654" y="282"/>
                    </a:lnTo>
                    <a:lnTo>
                      <a:pt x="1689" y="176"/>
                    </a:lnTo>
                    <a:lnTo>
                      <a:pt x="1689" y="70"/>
                    </a:lnTo>
                    <a:lnTo>
                      <a:pt x="1725" y="3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0368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8" y="211"/>
                    </a:lnTo>
                    <a:lnTo>
                      <a:pt x="988" y="105"/>
                    </a:lnTo>
                    <a:lnTo>
                      <a:pt x="1024" y="282"/>
                    </a:lnTo>
                    <a:lnTo>
                      <a:pt x="1024" y="317"/>
                    </a:lnTo>
                    <a:lnTo>
                      <a:pt x="1059" y="211"/>
                    </a:lnTo>
                    <a:lnTo>
                      <a:pt x="1059" y="176"/>
                    </a:lnTo>
                    <a:lnTo>
                      <a:pt x="1094" y="246"/>
                    </a:lnTo>
                    <a:lnTo>
                      <a:pt x="1094" y="317"/>
                    </a:lnTo>
                    <a:lnTo>
                      <a:pt x="1129" y="176"/>
                    </a:lnTo>
                    <a:lnTo>
                      <a:pt x="1165" y="352"/>
                    </a:lnTo>
                    <a:lnTo>
                      <a:pt x="1165" y="918"/>
                    </a:lnTo>
                    <a:lnTo>
                      <a:pt x="1200" y="1160"/>
                    </a:lnTo>
                    <a:lnTo>
                      <a:pt x="1200" y="1090"/>
                    </a:lnTo>
                    <a:lnTo>
                      <a:pt x="1235" y="1372"/>
                    </a:lnTo>
                    <a:lnTo>
                      <a:pt x="1235" y="1549"/>
                    </a:lnTo>
                    <a:lnTo>
                      <a:pt x="1272" y="1513"/>
                    </a:lnTo>
                    <a:lnTo>
                      <a:pt x="1272" y="1585"/>
                    </a:lnTo>
                    <a:lnTo>
                      <a:pt x="1307" y="1796"/>
                    </a:lnTo>
                    <a:lnTo>
                      <a:pt x="1307" y="1937"/>
                    </a:lnTo>
                    <a:lnTo>
                      <a:pt x="1342" y="1620"/>
                    </a:lnTo>
                    <a:lnTo>
                      <a:pt x="1342" y="1867"/>
                    </a:lnTo>
                    <a:lnTo>
                      <a:pt x="1377" y="1973"/>
                    </a:lnTo>
                    <a:lnTo>
                      <a:pt x="1377" y="1973"/>
                    </a:lnTo>
                    <a:lnTo>
                      <a:pt x="1413" y="1761"/>
                    </a:lnTo>
                    <a:lnTo>
                      <a:pt x="1413" y="1726"/>
                    </a:lnTo>
                    <a:lnTo>
                      <a:pt x="1448" y="1973"/>
                    </a:lnTo>
                    <a:lnTo>
                      <a:pt x="1483" y="1796"/>
                    </a:lnTo>
                    <a:lnTo>
                      <a:pt x="1483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368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8" y="211"/>
                    </a:lnTo>
                    <a:lnTo>
                      <a:pt x="988" y="105"/>
                    </a:lnTo>
                    <a:lnTo>
                      <a:pt x="1024" y="282"/>
                    </a:lnTo>
                    <a:lnTo>
                      <a:pt x="1024" y="317"/>
                    </a:lnTo>
                    <a:lnTo>
                      <a:pt x="1059" y="211"/>
                    </a:lnTo>
                    <a:lnTo>
                      <a:pt x="1059" y="176"/>
                    </a:lnTo>
                    <a:lnTo>
                      <a:pt x="1094" y="246"/>
                    </a:lnTo>
                    <a:lnTo>
                      <a:pt x="1094" y="317"/>
                    </a:lnTo>
                    <a:lnTo>
                      <a:pt x="1129" y="176"/>
                    </a:lnTo>
                    <a:lnTo>
                      <a:pt x="1165" y="352"/>
                    </a:lnTo>
                    <a:lnTo>
                      <a:pt x="1165" y="918"/>
                    </a:lnTo>
                    <a:lnTo>
                      <a:pt x="1200" y="1160"/>
                    </a:lnTo>
                    <a:lnTo>
                      <a:pt x="1200" y="1090"/>
                    </a:lnTo>
                    <a:lnTo>
                      <a:pt x="1235" y="1372"/>
                    </a:lnTo>
                    <a:lnTo>
                      <a:pt x="1235" y="1549"/>
                    </a:lnTo>
                    <a:lnTo>
                      <a:pt x="1272" y="1513"/>
                    </a:lnTo>
                    <a:lnTo>
                      <a:pt x="1272" y="1585"/>
                    </a:lnTo>
                    <a:lnTo>
                      <a:pt x="1307" y="1796"/>
                    </a:lnTo>
                    <a:lnTo>
                      <a:pt x="1307" y="1937"/>
                    </a:lnTo>
                    <a:lnTo>
                      <a:pt x="1342" y="1620"/>
                    </a:lnTo>
                    <a:lnTo>
                      <a:pt x="1342" y="1867"/>
                    </a:lnTo>
                    <a:lnTo>
                      <a:pt x="1377" y="1973"/>
                    </a:lnTo>
                    <a:lnTo>
                      <a:pt x="1413" y="1761"/>
                    </a:lnTo>
                    <a:lnTo>
                      <a:pt x="1413" y="1726"/>
                    </a:lnTo>
                    <a:lnTo>
                      <a:pt x="1448" y="1973"/>
                    </a:lnTo>
                    <a:lnTo>
                      <a:pt x="1483" y="1796"/>
                    </a:lnTo>
                    <a:lnTo>
                      <a:pt x="1483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1172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52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52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52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52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99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99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46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90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84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83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1172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17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17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17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17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64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11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54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79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2120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12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42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42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2120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48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77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77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487680" y="1382760"/>
              <a:ext cx="2537280" cy="1394280"/>
              <a:chOff x="3487680" y="1382760"/>
              <a:chExt cx="2537280" cy="1394280"/>
            </a:xfrm>
          </p:grpSpPr>
          <p:sp>
            <p:nvSpPr>
              <p:cNvPr id="329" name=""/>
              <p:cNvSpPr/>
              <p:nvPr/>
            </p:nvSpPr>
            <p:spPr>
              <a:xfrm>
                <a:off x="348768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61"/>
                    </a:moveTo>
                    <a:lnTo>
                      <a:pt x="0" y="1761"/>
                    </a:lnTo>
                    <a:lnTo>
                      <a:pt x="35" y="1867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690"/>
                    </a:lnTo>
                    <a:lnTo>
                      <a:pt x="105" y="1832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20"/>
                    </a:lnTo>
                    <a:lnTo>
                      <a:pt x="246" y="1726"/>
                    </a:lnTo>
                    <a:lnTo>
                      <a:pt x="246" y="1761"/>
                    </a:lnTo>
                    <a:lnTo>
                      <a:pt x="282" y="1549"/>
                    </a:lnTo>
                    <a:lnTo>
                      <a:pt x="282" y="1514"/>
                    </a:lnTo>
                    <a:lnTo>
                      <a:pt x="317" y="1585"/>
                    </a:lnTo>
                    <a:lnTo>
                      <a:pt x="317" y="1620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37"/>
                    </a:lnTo>
                    <a:lnTo>
                      <a:pt x="423" y="1266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25"/>
                    </a:lnTo>
                    <a:lnTo>
                      <a:pt x="493" y="1090"/>
                    </a:lnTo>
                    <a:lnTo>
                      <a:pt x="529" y="1196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090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4" y="949"/>
                    </a:lnTo>
                    <a:lnTo>
                      <a:pt x="634" y="913"/>
                    </a:lnTo>
                    <a:lnTo>
                      <a:pt x="670" y="949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36"/>
                    </a:lnTo>
                    <a:lnTo>
                      <a:pt x="776" y="777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777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00"/>
                    </a:lnTo>
                    <a:lnTo>
                      <a:pt x="1024" y="671"/>
                    </a:lnTo>
                    <a:lnTo>
                      <a:pt x="1024" y="388"/>
                    </a:lnTo>
                    <a:lnTo>
                      <a:pt x="1059" y="458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52"/>
                    </a:lnTo>
                    <a:lnTo>
                      <a:pt x="1129" y="530"/>
                    </a:lnTo>
                    <a:lnTo>
                      <a:pt x="1165" y="494"/>
                    </a:lnTo>
                    <a:lnTo>
                      <a:pt x="1165" y="282"/>
                    </a:lnTo>
                    <a:lnTo>
                      <a:pt x="1200" y="352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0" y="211"/>
                    </a:lnTo>
                    <a:lnTo>
                      <a:pt x="1270" y="352"/>
                    </a:lnTo>
                    <a:lnTo>
                      <a:pt x="1306" y="423"/>
                    </a:lnTo>
                    <a:lnTo>
                      <a:pt x="1306" y="211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11"/>
                    </a:lnTo>
                    <a:lnTo>
                      <a:pt x="1376" y="141"/>
                    </a:lnTo>
                    <a:lnTo>
                      <a:pt x="1412" y="352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41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35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8768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96"/>
                    </a:moveTo>
                    <a:lnTo>
                      <a:pt x="0" y="1761"/>
                    </a:lnTo>
                    <a:lnTo>
                      <a:pt x="35" y="1902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726"/>
                    </a:lnTo>
                    <a:lnTo>
                      <a:pt x="105" y="1867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55"/>
                    </a:lnTo>
                    <a:lnTo>
                      <a:pt x="246" y="1726"/>
                    </a:lnTo>
                    <a:lnTo>
                      <a:pt x="246" y="1796"/>
                    </a:lnTo>
                    <a:lnTo>
                      <a:pt x="282" y="1549"/>
                    </a:lnTo>
                    <a:lnTo>
                      <a:pt x="317" y="1585"/>
                    </a:lnTo>
                    <a:lnTo>
                      <a:pt x="317" y="1655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72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60"/>
                    </a:lnTo>
                    <a:lnTo>
                      <a:pt x="493" y="1090"/>
                    </a:lnTo>
                    <a:lnTo>
                      <a:pt x="529" y="1231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125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4" y="984"/>
                    </a:lnTo>
                    <a:lnTo>
                      <a:pt x="634" y="913"/>
                    </a:lnTo>
                    <a:lnTo>
                      <a:pt x="670" y="984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71"/>
                    </a:lnTo>
                    <a:lnTo>
                      <a:pt x="776" y="812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812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36"/>
                    </a:lnTo>
                    <a:lnTo>
                      <a:pt x="1024" y="671"/>
                    </a:lnTo>
                    <a:lnTo>
                      <a:pt x="1024" y="423"/>
                    </a:lnTo>
                    <a:lnTo>
                      <a:pt x="1059" y="494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88"/>
                    </a:lnTo>
                    <a:lnTo>
                      <a:pt x="1129" y="565"/>
                    </a:lnTo>
                    <a:lnTo>
                      <a:pt x="1165" y="494"/>
                    </a:lnTo>
                    <a:lnTo>
                      <a:pt x="1165" y="317"/>
                    </a:lnTo>
                    <a:lnTo>
                      <a:pt x="1200" y="388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0" y="246"/>
                    </a:lnTo>
                    <a:lnTo>
                      <a:pt x="1270" y="352"/>
                    </a:lnTo>
                    <a:lnTo>
                      <a:pt x="1306" y="423"/>
                    </a:lnTo>
                    <a:lnTo>
                      <a:pt x="1306" y="246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46"/>
                    </a:lnTo>
                    <a:lnTo>
                      <a:pt x="1376" y="176"/>
                    </a:lnTo>
                    <a:lnTo>
                      <a:pt x="1412" y="388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76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70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9716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867"/>
                    </a:lnTo>
                    <a:lnTo>
                      <a:pt x="70" y="2078"/>
                    </a:lnTo>
                    <a:lnTo>
                      <a:pt x="70" y="2008"/>
                    </a:lnTo>
                    <a:lnTo>
                      <a:pt x="105" y="1761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37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61"/>
                    </a:lnTo>
                    <a:lnTo>
                      <a:pt x="282" y="1973"/>
                    </a:lnTo>
                    <a:lnTo>
                      <a:pt x="282" y="1937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61"/>
                    </a:lnTo>
                    <a:lnTo>
                      <a:pt x="388" y="1867"/>
                    </a:lnTo>
                    <a:lnTo>
                      <a:pt x="418" y="1902"/>
                    </a:lnTo>
                    <a:lnTo>
                      <a:pt x="418" y="1690"/>
                    </a:lnTo>
                    <a:lnTo>
                      <a:pt x="454" y="1726"/>
                    </a:lnTo>
                    <a:lnTo>
                      <a:pt x="454" y="1867"/>
                    </a:lnTo>
                    <a:lnTo>
                      <a:pt x="489" y="1937"/>
                    </a:lnTo>
                    <a:lnTo>
                      <a:pt x="489" y="1726"/>
                    </a:lnTo>
                    <a:lnTo>
                      <a:pt x="524" y="1655"/>
                    </a:lnTo>
                    <a:lnTo>
                      <a:pt x="524" y="1902"/>
                    </a:lnTo>
                    <a:lnTo>
                      <a:pt x="560" y="1796"/>
                    </a:lnTo>
                    <a:lnTo>
                      <a:pt x="560" y="1655"/>
                    </a:lnTo>
                    <a:lnTo>
                      <a:pt x="595" y="1620"/>
                    </a:lnTo>
                    <a:lnTo>
                      <a:pt x="595" y="1796"/>
                    </a:lnTo>
                    <a:lnTo>
                      <a:pt x="630" y="1761"/>
                    </a:lnTo>
                    <a:lnTo>
                      <a:pt x="630" y="1513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41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41"/>
                    </a:lnTo>
                    <a:lnTo>
                      <a:pt x="878" y="282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11"/>
                    </a:lnTo>
                    <a:lnTo>
                      <a:pt x="1054" y="35"/>
                    </a:lnTo>
                    <a:lnTo>
                      <a:pt x="1090" y="141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41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282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11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282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282"/>
                    </a:lnTo>
                    <a:lnTo>
                      <a:pt x="1654" y="282"/>
                    </a:lnTo>
                    <a:lnTo>
                      <a:pt x="1689" y="141"/>
                    </a:lnTo>
                    <a:lnTo>
                      <a:pt x="1689" y="35"/>
                    </a:lnTo>
                    <a:lnTo>
                      <a:pt x="1725" y="282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9716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902"/>
                    </a:lnTo>
                    <a:lnTo>
                      <a:pt x="70" y="2078"/>
                    </a:lnTo>
                    <a:lnTo>
                      <a:pt x="70" y="2043"/>
                    </a:lnTo>
                    <a:lnTo>
                      <a:pt x="105" y="1796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73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96"/>
                    </a:lnTo>
                    <a:lnTo>
                      <a:pt x="282" y="1973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96"/>
                    </a:lnTo>
                    <a:lnTo>
                      <a:pt x="388" y="1902"/>
                    </a:lnTo>
                    <a:lnTo>
                      <a:pt x="418" y="1902"/>
                    </a:lnTo>
                    <a:lnTo>
                      <a:pt x="418" y="1690"/>
                    </a:lnTo>
                    <a:lnTo>
                      <a:pt x="454" y="1726"/>
                    </a:lnTo>
                    <a:lnTo>
                      <a:pt x="454" y="1902"/>
                    </a:lnTo>
                    <a:lnTo>
                      <a:pt x="489" y="1937"/>
                    </a:lnTo>
                    <a:lnTo>
                      <a:pt x="489" y="1726"/>
                    </a:lnTo>
                    <a:lnTo>
                      <a:pt x="524" y="1655"/>
                    </a:lnTo>
                    <a:lnTo>
                      <a:pt x="524" y="1902"/>
                    </a:lnTo>
                    <a:lnTo>
                      <a:pt x="560" y="1796"/>
                    </a:lnTo>
                    <a:lnTo>
                      <a:pt x="560" y="1655"/>
                    </a:lnTo>
                    <a:lnTo>
                      <a:pt x="595" y="1620"/>
                    </a:lnTo>
                    <a:lnTo>
                      <a:pt x="595" y="1796"/>
                    </a:lnTo>
                    <a:lnTo>
                      <a:pt x="630" y="1796"/>
                    </a:lnTo>
                    <a:lnTo>
                      <a:pt x="630" y="1548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76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76"/>
                    </a:lnTo>
                    <a:lnTo>
                      <a:pt x="878" y="317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46"/>
                    </a:lnTo>
                    <a:lnTo>
                      <a:pt x="1054" y="70"/>
                    </a:lnTo>
                    <a:lnTo>
                      <a:pt x="1090" y="176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76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317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46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317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317"/>
                    </a:lnTo>
                    <a:lnTo>
                      <a:pt x="1654" y="282"/>
                    </a:lnTo>
                    <a:lnTo>
                      <a:pt x="1689" y="176"/>
                    </a:lnTo>
                    <a:lnTo>
                      <a:pt x="1689" y="70"/>
                    </a:lnTo>
                    <a:lnTo>
                      <a:pt x="1725" y="317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1816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8" y="211"/>
                    </a:lnTo>
                    <a:lnTo>
                      <a:pt x="988" y="105"/>
                    </a:lnTo>
                    <a:lnTo>
                      <a:pt x="1024" y="282"/>
                    </a:lnTo>
                    <a:lnTo>
                      <a:pt x="1024" y="317"/>
                    </a:lnTo>
                    <a:lnTo>
                      <a:pt x="1059" y="211"/>
                    </a:lnTo>
                    <a:lnTo>
                      <a:pt x="1059" y="176"/>
                    </a:lnTo>
                    <a:lnTo>
                      <a:pt x="1094" y="246"/>
                    </a:lnTo>
                    <a:lnTo>
                      <a:pt x="1094" y="317"/>
                    </a:lnTo>
                    <a:lnTo>
                      <a:pt x="1129" y="176"/>
                    </a:lnTo>
                    <a:lnTo>
                      <a:pt x="1165" y="352"/>
                    </a:lnTo>
                    <a:lnTo>
                      <a:pt x="1165" y="918"/>
                    </a:lnTo>
                    <a:lnTo>
                      <a:pt x="1200" y="1160"/>
                    </a:lnTo>
                    <a:lnTo>
                      <a:pt x="1200" y="1090"/>
                    </a:lnTo>
                    <a:lnTo>
                      <a:pt x="1235" y="1372"/>
                    </a:lnTo>
                    <a:lnTo>
                      <a:pt x="1235" y="1549"/>
                    </a:lnTo>
                    <a:lnTo>
                      <a:pt x="1272" y="1513"/>
                    </a:lnTo>
                    <a:lnTo>
                      <a:pt x="1272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1816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8" y="211"/>
                    </a:lnTo>
                    <a:lnTo>
                      <a:pt x="988" y="105"/>
                    </a:lnTo>
                    <a:lnTo>
                      <a:pt x="1024" y="282"/>
                    </a:lnTo>
                    <a:lnTo>
                      <a:pt x="1024" y="317"/>
                    </a:lnTo>
                    <a:lnTo>
                      <a:pt x="1059" y="211"/>
                    </a:lnTo>
                    <a:lnTo>
                      <a:pt x="1059" y="176"/>
                    </a:lnTo>
                    <a:lnTo>
                      <a:pt x="1094" y="246"/>
                    </a:lnTo>
                    <a:lnTo>
                      <a:pt x="1094" y="317"/>
                    </a:lnTo>
                    <a:lnTo>
                      <a:pt x="1129" y="176"/>
                    </a:lnTo>
                    <a:lnTo>
                      <a:pt x="1165" y="352"/>
                    </a:lnTo>
                    <a:lnTo>
                      <a:pt x="1165" y="918"/>
                    </a:lnTo>
                    <a:lnTo>
                      <a:pt x="1200" y="1160"/>
                    </a:lnTo>
                    <a:lnTo>
                      <a:pt x="1200" y="1090"/>
                    </a:lnTo>
                    <a:lnTo>
                      <a:pt x="1235" y="1372"/>
                    </a:lnTo>
                    <a:lnTo>
                      <a:pt x="1235" y="1549"/>
                    </a:lnTo>
                    <a:lnTo>
                      <a:pt x="1272" y="1513"/>
                    </a:lnTo>
                    <a:lnTo>
                      <a:pt x="1272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2620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52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52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52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52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99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99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46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90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84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831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2620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17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17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17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17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64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11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54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795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3568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12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42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42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93568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48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77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77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527720" y="1382760"/>
              <a:ext cx="2535480" cy="1394280"/>
              <a:chOff x="4527720" y="1382760"/>
              <a:chExt cx="2535480" cy="1394280"/>
            </a:xfrm>
          </p:grpSpPr>
          <p:sp>
            <p:nvSpPr>
              <p:cNvPr id="340" name=""/>
              <p:cNvSpPr/>
              <p:nvPr/>
            </p:nvSpPr>
            <p:spPr>
              <a:xfrm>
                <a:off x="452772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61"/>
                    </a:moveTo>
                    <a:lnTo>
                      <a:pt x="0" y="1761"/>
                    </a:lnTo>
                    <a:lnTo>
                      <a:pt x="35" y="1867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690"/>
                    </a:lnTo>
                    <a:lnTo>
                      <a:pt x="105" y="1832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20"/>
                    </a:lnTo>
                    <a:lnTo>
                      <a:pt x="246" y="1726"/>
                    </a:lnTo>
                    <a:lnTo>
                      <a:pt x="246" y="1761"/>
                    </a:lnTo>
                    <a:lnTo>
                      <a:pt x="282" y="1549"/>
                    </a:lnTo>
                    <a:lnTo>
                      <a:pt x="282" y="1514"/>
                    </a:lnTo>
                    <a:lnTo>
                      <a:pt x="317" y="1585"/>
                    </a:lnTo>
                    <a:lnTo>
                      <a:pt x="317" y="1620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37"/>
                    </a:lnTo>
                    <a:lnTo>
                      <a:pt x="423" y="1266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25"/>
                    </a:lnTo>
                    <a:lnTo>
                      <a:pt x="493" y="1090"/>
                    </a:lnTo>
                    <a:lnTo>
                      <a:pt x="529" y="1196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090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5" y="949"/>
                    </a:lnTo>
                    <a:lnTo>
                      <a:pt x="635" y="913"/>
                    </a:lnTo>
                    <a:lnTo>
                      <a:pt x="670" y="949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36"/>
                    </a:lnTo>
                    <a:lnTo>
                      <a:pt x="776" y="777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777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00"/>
                    </a:lnTo>
                    <a:lnTo>
                      <a:pt x="1024" y="671"/>
                    </a:lnTo>
                    <a:lnTo>
                      <a:pt x="1024" y="388"/>
                    </a:lnTo>
                    <a:lnTo>
                      <a:pt x="1059" y="458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52"/>
                    </a:lnTo>
                    <a:lnTo>
                      <a:pt x="1129" y="530"/>
                    </a:lnTo>
                    <a:lnTo>
                      <a:pt x="1165" y="494"/>
                    </a:lnTo>
                    <a:lnTo>
                      <a:pt x="1165" y="282"/>
                    </a:lnTo>
                    <a:lnTo>
                      <a:pt x="1200" y="352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1" y="211"/>
                    </a:lnTo>
                    <a:lnTo>
                      <a:pt x="1271" y="352"/>
                    </a:lnTo>
                    <a:lnTo>
                      <a:pt x="1306" y="423"/>
                    </a:lnTo>
                    <a:lnTo>
                      <a:pt x="1306" y="211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11"/>
                    </a:lnTo>
                    <a:lnTo>
                      <a:pt x="1376" y="141"/>
                    </a:lnTo>
                    <a:lnTo>
                      <a:pt x="1412" y="352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41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35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27720" y="2079720"/>
                <a:ext cx="609840" cy="697320"/>
              </a:xfrm>
              <a:custGeom>
                <a:avLst/>
                <a:gdLst/>
                <a:ahLst/>
                <a:rect l="0" t="0" r="r" b="b"/>
                <a:pathLst>
                  <a:path fill="none" w="1694" h="1937">
                    <a:moveTo>
                      <a:pt x="0" y="1796"/>
                    </a:moveTo>
                    <a:lnTo>
                      <a:pt x="0" y="1761"/>
                    </a:lnTo>
                    <a:lnTo>
                      <a:pt x="35" y="1902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726"/>
                    </a:lnTo>
                    <a:lnTo>
                      <a:pt x="105" y="1867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55"/>
                    </a:lnTo>
                    <a:lnTo>
                      <a:pt x="246" y="1726"/>
                    </a:lnTo>
                    <a:lnTo>
                      <a:pt x="246" y="1796"/>
                    </a:lnTo>
                    <a:lnTo>
                      <a:pt x="282" y="1549"/>
                    </a:lnTo>
                    <a:lnTo>
                      <a:pt x="317" y="1585"/>
                    </a:lnTo>
                    <a:lnTo>
                      <a:pt x="317" y="1655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72"/>
                    </a:lnTo>
                    <a:lnTo>
                      <a:pt x="423" y="1301"/>
                    </a:lnTo>
                    <a:lnTo>
                      <a:pt x="458" y="1337"/>
                    </a:lnTo>
                    <a:lnTo>
                      <a:pt x="458" y="1231"/>
                    </a:lnTo>
                    <a:lnTo>
                      <a:pt x="493" y="1160"/>
                    </a:lnTo>
                    <a:lnTo>
                      <a:pt x="493" y="1090"/>
                    </a:lnTo>
                    <a:lnTo>
                      <a:pt x="529" y="1231"/>
                    </a:lnTo>
                    <a:lnTo>
                      <a:pt x="529" y="1196"/>
                    </a:lnTo>
                    <a:lnTo>
                      <a:pt x="564" y="1019"/>
                    </a:lnTo>
                    <a:lnTo>
                      <a:pt x="564" y="984"/>
                    </a:lnTo>
                    <a:lnTo>
                      <a:pt x="564" y="1125"/>
                    </a:lnTo>
                    <a:lnTo>
                      <a:pt x="599" y="949"/>
                    </a:lnTo>
                    <a:lnTo>
                      <a:pt x="599" y="847"/>
                    </a:lnTo>
                    <a:lnTo>
                      <a:pt x="635" y="984"/>
                    </a:lnTo>
                    <a:lnTo>
                      <a:pt x="635" y="913"/>
                    </a:lnTo>
                    <a:lnTo>
                      <a:pt x="670" y="984"/>
                    </a:lnTo>
                    <a:lnTo>
                      <a:pt x="670" y="847"/>
                    </a:lnTo>
                    <a:lnTo>
                      <a:pt x="705" y="777"/>
                    </a:lnTo>
                    <a:lnTo>
                      <a:pt x="705" y="913"/>
                    </a:lnTo>
                    <a:lnTo>
                      <a:pt x="740" y="741"/>
                    </a:lnTo>
                    <a:lnTo>
                      <a:pt x="740" y="777"/>
                    </a:lnTo>
                    <a:lnTo>
                      <a:pt x="776" y="671"/>
                    </a:lnTo>
                    <a:lnTo>
                      <a:pt x="776" y="812"/>
                    </a:lnTo>
                    <a:lnTo>
                      <a:pt x="811" y="812"/>
                    </a:lnTo>
                    <a:lnTo>
                      <a:pt x="811" y="600"/>
                    </a:lnTo>
                    <a:lnTo>
                      <a:pt x="846" y="671"/>
                    </a:lnTo>
                    <a:lnTo>
                      <a:pt x="846" y="812"/>
                    </a:lnTo>
                    <a:lnTo>
                      <a:pt x="882" y="812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36"/>
                    </a:lnTo>
                    <a:lnTo>
                      <a:pt x="1024" y="671"/>
                    </a:lnTo>
                    <a:lnTo>
                      <a:pt x="1024" y="423"/>
                    </a:lnTo>
                    <a:lnTo>
                      <a:pt x="1059" y="494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88"/>
                    </a:lnTo>
                    <a:lnTo>
                      <a:pt x="1129" y="565"/>
                    </a:lnTo>
                    <a:lnTo>
                      <a:pt x="1165" y="494"/>
                    </a:lnTo>
                    <a:lnTo>
                      <a:pt x="1165" y="317"/>
                    </a:lnTo>
                    <a:lnTo>
                      <a:pt x="1200" y="388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1" y="246"/>
                    </a:lnTo>
                    <a:lnTo>
                      <a:pt x="1271" y="352"/>
                    </a:lnTo>
                    <a:lnTo>
                      <a:pt x="1306" y="423"/>
                    </a:lnTo>
                    <a:lnTo>
                      <a:pt x="1306" y="246"/>
                    </a:lnTo>
                    <a:lnTo>
                      <a:pt x="1306" y="176"/>
                    </a:lnTo>
                    <a:lnTo>
                      <a:pt x="1341" y="317"/>
                    </a:lnTo>
                    <a:lnTo>
                      <a:pt x="1376" y="246"/>
                    </a:lnTo>
                    <a:lnTo>
                      <a:pt x="1376" y="176"/>
                    </a:lnTo>
                    <a:lnTo>
                      <a:pt x="1412" y="388"/>
                    </a:lnTo>
                    <a:lnTo>
                      <a:pt x="1412" y="317"/>
                    </a:lnTo>
                    <a:lnTo>
                      <a:pt x="1447" y="105"/>
                    </a:lnTo>
                    <a:lnTo>
                      <a:pt x="1447" y="246"/>
                    </a:lnTo>
                    <a:lnTo>
                      <a:pt x="1482" y="352"/>
                    </a:lnTo>
                    <a:lnTo>
                      <a:pt x="1482" y="282"/>
                    </a:lnTo>
                    <a:lnTo>
                      <a:pt x="1517" y="176"/>
                    </a:lnTo>
                    <a:lnTo>
                      <a:pt x="1517" y="105"/>
                    </a:lnTo>
                    <a:lnTo>
                      <a:pt x="1553" y="282"/>
                    </a:lnTo>
                    <a:lnTo>
                      <a:pt x="1553" y="246"/>
                    </a:lnTo>
                    <a:lnTo>
                      <a:pt x="1588" y="176"/>
                    </a:lnTo>
                    <a:lnTo>
                      <a:pt x="1588" y="70"/>
                    </a:lnTo>
                    <a:lnTo>
                      <a:pt x="1623" y="211"/>
                    </a:lnTo>
                    <a:lnTo>
                      <a:pt x="1623" y="246"/>
                    </a:lnTo>
                    <a:lnTo>
                      <a:pt x="1659" y="0"/>
                    </a:lnTo>
                    <a:lnTo>
                      <a:pt x="1659" y="70"/>
                    </a:lnTo>
                    <a:lnTo>
                      <a:pt x="1694" y="211"/>
                    </a:lnTo>
                    <a:lnTo>
                      <a:pt x="1694" y="24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720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867"/>
                    </a:lnTo>
                    <a:lnTo>
                      <a:pt x="70" y="2078"/>
                    </a:lnTo>
                    <a:lnTo>
                      <a:pt x="70" y="2008"/>
                    </a:lnTo>
                    <a:lnTo>
                      <a:pt x="105" y="1761"/>
                    </a:lnTo>
                    <a:lnTo>
                      <a:pt x="105" y="1867"/>
                    </a:lnTo>
                    <a:lnTo>
                      <a:pt x="136" y="2008"/>
                    </a:lnTo>
                    <a:lnTo>
                      <a:pt x="136" y="2078"/>
                    </a:lnTo>
                    <a:lnTo>
                      <a:pt x="171" y="1867"/>
                    </a:lnTo>
                    <a:lnTo>
                      <a:pt x="171" y="1937"/>
                    </a:lnTo>
                    <a:lnTo>
                      <a:pt x="207" y="1973"/>
                    </a:lnTo>
                    <a:lnTo>
                      <a:pt x="207" y="2114"/>
                    </a:lnTo>
                    <a:lnTo>
                      <a:pt x="242" y="1832"/>
                    </a:lnTo>
                    <a:lnTo>
                      <a:pt x="242" y="1761"/>
                    </a:lnTo>
                    <a:lnTo>
                      <a:pt x="277" y="1973"/>
                    </a:lnTo>
                    <a:lnTo>
                      <a:pt x="277" y="1937"/>
                    </a:lnTo>
                    <a:lnTo>
                      <a:pt x="313" y="1726"/>
                    </a:lnTo>
                    <a:lnTo>
                      <a:pt x="313" y="1867"/>
                    </a:lnTo>
                    <a:lnTo>
                      <a:pt x="348" y="2043"/>
                    </a:lnTo>
                    <a:lnTo>
                      <a:pt x="348" y="2008"/>
                    </a:lnTo>
                    <a:lnTo>
                      <a:pt x="348" y="1796"/>
                    </a:lnTo>
                    <a:lnTo>
                      <a:pt x="383" y="1761"/>
                    </a:lnTo>
                    <a:lnTo>
                      <a:pt x="383" y="1867"/>
                    </a:lnTo>
                    <a:lnTo>
                      <a:pt x="418" y="1902"/>
                    </a:lnTo>
                    <a:lnTo>
                      <a:pt x="418" y="1690"/>
                    </a:lnTo>
                    <a:lnTo>
                      <a:pt x="454" y="1726"/>
                    </a:lnTo>
                    <a:lnTo>
                      <a:pt x="454" y="1867"/>
                    </a:lnTo>
                    <a:lnTo>
                      <a:pt x="489" y="1937"/>
                    </a:lnTo>
                    <a:lnTo>
                      <a:pt x="489" y="1726"/>
                    </a:lnTo>
                    <a:lnTo>
                      <a:pt x="524" y="1655"/>
                    </a:lnTo>
                    <a:lnTo>
                      <a:pt x="524" y="1902"/>
                    </a:lnTo>
                    <a:lnTo>
                      <a:pt x="560" y="1796"/>
                    </a:lnTo>
                    <a:lnTo>
                      <a:pt x="560" y="1655"/>
                    </a:lnTo>
                    <a:lnTo>
                      <a:pt x="595" y="1620"/>
                    </a:lnTo>
                    <a:lnTo>
                      <a:pt x="595" y="1796"/>
                    </a:lnTo>
                    <a:lnTo>
                      <a:pt x="630" y="1761"/>
                    </a:lnTo>
                    <a:lnTo>
                      <a:pt x="630" y="1513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41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41"/>
                    </a:lnTo>
                    <a:lnTo>
                      <a:pt x="878" y="282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11"/>
                    </a:lnTo>
                    <a:lnTo>
                      <a:pt x="1054" y="35"/>
                    </a:lnTo>
                    <a:lnTo>
                      <a:pt x="1090" y="141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41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282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11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282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282"/>
                    </a:lnTo>
                    <a:lnTo>
                      <a:pt x="1654" y="282"/>
                    </a:lnTo>
                    <a:lnTo>
                      <a:pt x="1689" y="141"/>
                    </a:lnTo>
                    <a:lnTo>
                      <a:pt x="1689" y="35"/>
                    </a:lnTo>
                    <a:lnTo>
                      <a:pt x="1725" y="28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37200" y="1395360"/>
                <a:ext cx="621000" cy="773640"/>
              </a:xfrm>
              <a:custGeom>
                <a:avLst/>
                <a:gdLst/>
                <a:ahLst/>
                <a:rect l="0" t="0" r="r" b="b"/>
                <a:pathLst>
                  <a:path fill="none" w="1725" h="2149">
                    <a:moveTo>
                      <a:pt x="0" y="2149"/>
                    </a:moveTo>
                    <a:lnTo>
                      <a:pt x="35" y="1902"/>
                    </a:lnTo>
                    <a:lnTo>
                      <a:pt x="70" y="2078"/>
                    </a:lnTo>
                    <a:lnTo>
                      <a:pt x="70" y="2043"/>
                    </a:lnTo>
                    <a:lnTo>
                      <a:pt x="105" y="1796"/>
                    </a:lnTo>
                    <a:lnTo>
                      <a:pt x="105" y="1867"/>
                    </a:lnTo>
                    <a:lnTo>
                      <a:pt x="136" y="2008"/>
                    </a:lnTo>
                    <a:lnTo>
                      <a:pt x="136" y="2078"/>
                    </a:lnTo>
                    <a:lnTo>
                      <a:pt x="171" y="1867"/>
                    </a:lnTo>
                    <a:lnTo>
                      <a:pt x="171" y="1973"/>
                    </a:lnTo>
                    <a:lnTo>
                      <a:pt x="207" y="1973"/>
                    </a:lnTo>
                    <a:lnTo>
                      <a:pt x="207" y="2114"/>
                    </a:lnTo>
                    <a:lnTo>
                      <a:pt x="242" y="1832"/>
                    </a:lnTo>
                    <a:lnTo>
                      <a:pt x="242" y="1796"/>
                    </a:lnTo>
                    <a:lnTo>
                      <a:pt x="277" y="1973"/>
                    </a:lnTo>
                    <a:lnTo>
                      <a:pt x="313" y="1726"/>
                    </a:lnTo>
                    <a:lnTo>
                      <a:pt x="313" y="1867"/>
                    </a:lnTo>
                    <a:lnTo>
                      <a:pt x="348" y="2043"/>
                    </a:lnTo>
                    <a:lnTo>
                      <a:pt x="348" y="2008"/>
                    </a:lnTo>
                    <a:lnTo>
                      <a:pt x="348" y="1796"/>
                    </a:lnTo>
                    <a:lnTo>
                      <a:pt x="383" y="1796"/>
                    </a:lnTo>
                    <a:lnTo>
                      <a:pt x="383" y="1902"/>
                    </a:lnTo>
                    <a:lnTo>
                      <a:pt x="418" y="1902"/>
                    </a:lnTo>
                    <a:lnTo>
                      <a:pt x="418" y="1690"/>
                    </a:lnTo>
                    <a:lnTo>
                      <a:pt x="454" y="1726"/>
                    </a:lnTo>
                    <a:lnTo>
                      <a:pt x="454" y="1902"/>
                    </a:lnTo>
                    <a:lnTo>
                      <a:pt x="489" y="1937"/>
                    </a:lnTo>
                    <a:lnTo>
                      <a:pt x="489" y="1726"/>
                    </a:lnTo>
                    <a:lnTo>
                      <a:pt x="524" y="1655"/>
                    </a:lnTo>
                    <a:lnTo>
                      <a:pt x="524" y="1902"/>
                    </a:lnTo>
                    <a:lnTo>
                      <a:pt x="560" y="1796"/>
                    </a:lnTo>
                    <a:lnTo>
                      <a:pt x="560" y="1655"/>
                    </a:lnTo>
                    <a:lnTo>
                      <a:pt x="595" y="1620"/>
                    </a:lnTo>
                    <a:lnTo>
                      <a:pt x="595" y="1796"/>
                    </a:lnTo>
                    <a:lnTo>
                      <a:pt x="630" y="1796"/>
                    </a:lnTo>
                    <a:lnTo>
                      <a:pt x="630" y="1548"/>
                    </a:lnTo>
                    <a:lnTo>
                      <a:pt x="665" y="1442"/>
                    </a:lnTo>
                    <a:lnTo>
                      <a:pt x="665" y="1019"/>
                    </a:lnTo>
                    <a:lnTo>
                      <a:pt x="701" y="423"/>
                    </a:lnTo>
                    <a:lnTo>
                      <a:pt x="701" y="176"/>
                    </a:lnTo>
                    <a:lnTo>
                      <a:pt x="736" y="246"/>
                    </a:lnTo>
                    <a:lnTo>
                      <a:pt x="771" y="282"/>
                    </a:lnTo>
                    <a:lnTo>
                      <a:pt x="771" y="105"/>
                    </a:lnTo>
                    <a:lnTo>
                      <a:pt x="806" y="105"/>
                    </a:lnTo>
                    <a:lnTo>
                      <a:pt x="806" y="317"/>
                    </a:lnTo>
                    <a:lnTo>
                      <a:pt x="842" y="282"/>
                    </a:lnTo>
                    <a:lnTo>
                      <a:pt x="842" y="105"/>
                    </a:lnTo>
                    <a:lnTo>
                      <a:pt x="878" y="176"/>
                    </a:lnTo>
                    <a:lnTo>
                      <a:pt x="878" y="317"/>
                    </a:lnTo>
                    <a:lnTo>
                      <a:pt x="913" y="282"/>
                    </a:lnTo>
                    <a:lnTo>
                      <a:pt x="913" y="105"/>
                    </a:lnTo>
                    <a:lnTo>
                      <a:pt x="949" y="70"/>
                    </a:lnTo>
                    <a:lnTo>
                      <a:pt x="949" y="282"/>
                    </a:lnTo>
                    <a:lnTo>
                      <a:pt x="984" y="352"/>
                    </a:lnTo>
                    <a:lnTo>
                      <a:pt x="984" y="211"/>
                    </a:lnTo>
                    <a:lnTo>
                      <a:pt x="1019" y="35"/>
                    </a:lnTo>
                    <a:lnTo>
                      <a:pt x="1019" y="282"/>
                    </a:lnTo>
                    <a:lnTo>
                      <a:pt x="1054" y="246"/>
                    </a:lnTo>
                    <a:lnTo>
                      <a:pt x="1054" y="70"/>
                    </a:lnTo>
                    <a:lnTo>
                      <a:pt x="1090" y="176"/>
                    </a:lnTo>
                    <a:lnTo>
                      <a:pt x="1090" y="388"/>
                    </a:lnTo>
                    <a:lnTo>
                      <a:pt x="1090" y="317"/>
                    </a:lnTo>
                    <a:lnTo>
                      <a:pt x="1125" y="70"/>
                    </a:lnTo>
                    <a:lnTo>
                      <a:pt x="1125" y="105"/>
                    </a:lnTo>
                    <a:lnTo>
                      <a:pt x="1160" y="246"/>
                    </a:lnTo>
                    <a:lnTo>
                      <a:pt x="1196" y="105"/>
                    </a:lnTo>
                    <a:lnTo>
                      <a:pt x="1196" y="176"/>
                    </a:lnTo>
                    <a:lnTo>
                      <a:pt x="1231" y="282"/>
                    </a:lnTo>
                    <a:lnTo>
                      <a:pt x="1231" y="317"/>
                    </a:lnTo>
                    <a:lnTo>
                      <a:pt x="1266" y="70"/>
                    </a:lnTo>
                    <a:lnTo>
                      <a:pt x="1301" y="246"/>
                    </a:lnTo>
                    <a:lnTo>
                      <a:pt x="1301" y="388"/>
                    </a:lnTo>
                    <a:lnTo>
                      <a:pt x="1337" y="70"/>
                    </a:lnTo>
                    <a:lnTo>
                      <a:pt x="1337" y="105"/>
                    </a:lnTo>
                    <a:lnTo>
                      <a:pt x="1372" y="317"/>
                    </a:lnTo>
                    <a:lnTo>
                      <a:pt x="1407" y="0"/>
                    </a:lnTo>
                    <a:lnTo>
                      <a:pt x="1407" y="141"/>
                    </a:lnTo>
                    <a:lnTo>
                      <a:pt x="1442" y="317"/>
                    </a:lnTo>
                    <a:lnTo>
                      <a:pt x="1442" y="388"/>
                    </a:lnTo>
                    <a:lnTo>
                      <a:pt x="1478" y="105"/>
                    </a:lnTo>
                    <a:lnTo>
                      <a:pt x="1513" y="317"/>
                    </a:lnTo>
                    <a:lnTo>
                      <a:pt x="1513" y="246"/>
                    </a:lnTo>
                    <a:lnTo>
                      <a:pt x="1548" y="105"/>
                    </a:lnTo>
                    <a:lnTo>
                      <a:pt x="1548" y="141"/>
                    </a:lnTo>
                    <a:lnTo>
                      <a:pt x="1584" y="317"/>
                    </a:lnTo>
                    <a:lnTo>
                      <a:pt x="1619" y="70"/>
                    </a:lnTo>
                    <a:lnTo>
                      <a:pt x="1619" y="105"/>
                    </a:lnTo>
                    <a:lnTo>
                      <a:pt x="1654" y="317"/>
                    </a:lnTo>
                    <a:lnTo>
                      <a:pt x="1654" y="282"/>
                    </a:lnTo>
                    <a:lnTo>
                      <a:pt x="1689" y="176"/>
                    </a:lnTo>
                    <a:lnTo>
                      <a:pt x="1689" y="70"/>
                    </a:lnTo>
                    <a:lnTo>
                      <a:pt x="1725" y="3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5784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4" y="211"/>
                    </a:lnTo>
                    <a:lnTo>
                      <a:pt x="984" y="105"/>
                    </a:lnTo>
                    <a:lnTo>
                      <a:pt x="1019" y="282"/>
                    </a:lnTo>
                    <a:lnTo>
                      <a:pt x="1019" y="317"/>
                    </a:lnTo>
                    <a:lnTo>
                      <a:pt x="1054" y="211"/>
                    </a:lnTo>
                    <a:lnTo>
                      <a:pt x="1054" y="176"/>
                    </a:lnTo>
                    <a:lnTo>
                      <a:pt x="1090" y="246"/>
                    </a:lnTo>
                    <a:lnTo>
                      <a:pt x="1090" y="317"/>
                    </a:lnTo>
                    <a:lnTo>
                      <a:pt x="1125" y="176"/>
                    </a:lnTo>
                    <a:lnTo>
                      <a:pt x="1160" y="352"/>
                    </a:lnTo>
                    <a:lnTo>
                      <a:pt x="1160" y="918"/>
                    </a:lnTo>
                    <a:lnTo>
                      <a:pt x="1196" y="1160"/>
                    </a:lnTo>
                    <a:lnTo>
                      <a:pt x="1196" y="1090"/>
                    </a:lnTo>
                    <a:lnTo>
                      <a:pt x="1231" y="1372"/>
                    </a:lnTo>
                    <a:lnTo>
                      <a:pt x="1231" y="1549"/>
                    </a:lnTo>
                    <a:lnTo>
                      <a:pt x="1266" y="1513"/>
                    </a:lnTo>
                    <a:lnTo>
                      <a:pt x="1266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5784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7" y="317"/>
                    </a:lnTo>
                    <a:lnTo>
                      <a:pt x="777" y="105"/>
                    </a:lnTo>
                    <a:lnTo>
                      <a:pt x="812" y="176"/>
                    </a:lnTo>
                    <a:lnTo>
                      <a:pt x="812" y="388"/>
                    </a:lnTo>
                    <a:lnTo>
                      <a:pt x="847" y="141"/>
                    </a:lnTo>
                    <a:lnTo>
                      <a:pt x="847" y="176"/>
                    </a:lnTo>
                    <a:lnTo>
                      <a:pt x="882" y="317"/>
                    </a:lnTo>
                    <a:lnTo>
                      <a:pt x="882" y="282"/>
                    </a:lnTo>
                    <a:lnTo>
                      <a:pt x="918" y="211"/>
                    </a:lnTo>
                    <a:lnTo>
                      <a:pt x="918" y="141"/>
                    </a:lnTo>
                    <a:lnTo>
                      <a:pt x="953" y="388"/>
                    </a:lnTo>
                    <a:lnTo>
                      <a:pt x="953" y="317"/>
                    </a:lnTo>
                    <a:lnTo>
                      <a:pt x="984" y="211"/>
                    </a:lnTo>
                    <a:lnTo>
                      <a:pt x="984" y="105"/>
                    </a:lnTo>
                    <a:lnTo>
                      <a:pt x="1019" y="282"/>
                    </a:lnTo>
                    <a:lnTo>
                      <a:pt x="1019" y="317"/>
                    </a:lnTo>
                    <a:lnTo>
                      <a:pt x="1054" y="211"/>
                    </a:lnTo>
                    <a:lnTo>
                      <a:pt x="1054" y="176"/>
                    </a:lnTo>
                    <a:lnTo>
                      <a:pt x="1090" y="246"/>
                    </a:lnTo>
                    <a:lnTo>
                      <a:pt x="1090" y="317"/>
                    </a:lnTo>
                    <a:lnTo>
                      <a:pt x="1125" y="176"/>
                    </a:lnTo>
                    <a:lnTo>
                      <a:pt x="1160" y="352"/>
                    </a:lnTo>
                    <a:lnTo>
                      <a:pt x="1160" y="918"/>
                    </a:lnTo>
                    <a:lnTo>
                      <a:pt x="1196" y="1160"/>
                    </a:lnTo>
                    <a:lnTo>
                      <a:pt x="1196" y="1090"/>
                    </a:lnTo>
                    <a:lnTo>
                      <a:pt x="1231" y="1372"/>
                    </a:lnTo>
                    <a:lnTo>
                      <a:pt x="1231" y="1549"/>
                    </a:lnTo>
                    <a:lnTo>
                      <a:pt x="1266" y="1513"/>
                    </a:lnTo>
                    <a:lnTo>
                      <a:pt x="1266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6588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52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52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52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52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99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99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46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90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84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83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65880" y="2028960"/>
                <a:ext cx="609840" cy="709920"/>
              </a:xfrm>
              <a:custGeom>
                <a:avLst/>
                <a:gdLst/>
                <a:ahLst/>
                <a:rect l="0" t="0" r="r" b="b"/>
                <a:pathLst>
                  <a:path fill="none" w="1694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17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17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17"/>
                    </a:lnTo>
                    <a:lnTo>
                      <a:pt x="423" y="317"/>
                    </a:lnTo>
                    <a:lnTo>
                      <a:pt x="423" y="423"/>
                    </a:lnTo>
                    <a:lnTo>
                      <a:pt x="458" y="423"/>
                    </a:lnTo>
                    <a:lnTo>
                      <a:pt x="458" y="317"/>
                    </a:lnTo>
                    <a:lnTo>
                      <a:pt x="493" y="352"/>
                    </a:lnTo>
                    <a:lnTo>
                      <a:pt x="493" y="388"/>
                    </a:lnTo>
                    <a:lnTo>
                      <a:pt x="529" y="493"/>
                    </a:lnTo>
                    <a:lnTo>
                      <a:pt x="529" y="317"/>
                    </a:lnTo>
                    <a:lnTo>
                      <a:pt x="564" y="388"/>
                    </a:lnTo>
                    <a:lnTo>
                      <a:pt x="564" y="529"/>
                    </a:lnTo>
                    <a:lnTo>
                      <a:pt x="599" y="564"/>
                    </a:lnTo>
                    <a:lnTo>
                      <a:pt x="599" y="458"/>
                    </a:lnTo>
                    <a:lnTo>
                      <a:pt x="599" y="352"/>
                    </a:lnTo>
                    <a:lnTo>
                      <a:pt x="635" y="564"/>
                    </a:lnTo>
                    <a:lnTo>
                      <a:pt x="670" y="458"/>
                    </a:lnTo>
                    <a:lnTo>
                      <a:pt x="705" y="493"/>
                    </a:lnTo>
                    <a:lnTo>
                      <a:pt x="705" y="705"/>
                    </a:lnTo>
                    <a:lnTo>
                      <a:pt x="740" y="529"/>
                    </a:lnTo>
                    <a:lnTo>
                      <a:pt x="740" y="458"/>
                    </a:lnTo>
                    <a:lnTo>
                      <a:pt x="776" y="670"/>
                    </a:lnTo>
                    <a:lnTo>
                      <a:pt x="776" y="740"/>
                    </a:lnTo>
                    <a:lnTo>
                      <a:pt x="811" y="635"/>
                    </a:lnTo>
                    <a:lnTo>
                      <a:pt x="811" y="529"/>
                    </a:lnTo>
                    <a:lnTo>
                      <a:pt x="846" y="776"/>
                    </a:lnTo>
                    <a:lnTo>
                      <a:pt x="846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11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1" y="1125"/>
                    </a:lnTo>
                    <a:lnTo>
                      <a:pt x="1306" y="1054"/>
                    </a:lnTo>
                    <a:lnTo>
                      <a:pt x="1306" y="1125"/>
                    </a:lnTo>
                    <a:lnTo>
                      <a:pt x="1341" y="1231"/>
                    </a:lnTo>
                    <a:lnTo>
                      <a:pt x="1341" y="1196"/>
                    </a:lnTo>
                    <a:lnTo>
                      <a:pt x="1376" y="1301"/>
                    </a:lnTo>
                    <a:lnTo>
                      <a:pt x="1412" y="1478"/>
                    </a:lnTo>
                    <a:lnTo>
                      <a:pt x="1412" y="1407"/>
                    </a:lnTo>
                    <a:lnTo>
                      <a:pt x="1447" y="1407"/>
                    </a:lnTo>
                    <a:lnTo>
                      <a:pt x="1447" y="1513"/>
                    </a:lnTo>
                    <a:lnTo>
                      <a:pt x="1482" y="1548"/>
                    </a:lnTo>
                    <a:lnTo>
                      <a:pt x="1517" y="1478"/>
                    </a:lnTo>
                    <a:lnTo>
                      <a:pt x="1517" y="1619"/>
                    </a:lnTo>
                    <a:lnTo>
                      <a:pt x="1553" y="1795"/>
                    </a:lnTo>
                    <a:lnTo>
                      <a:pt x="1553" y="1654"/>
                    </a:lnTo>
                    <a:lnTo>
                      <a:pt x="1588" y="1689"/>
                    </a:lnTo>
                    <a:lnTo>
                      <a:pt x="1588" y="1760"/>
                    </a:lnTo>
                    <a:lnTo>
                      <a:pt x="1623" y="1866"/>
                    </a:lnTo>
                    <a:lnTo>
                      <a:pt x="1623" y="1760"/>
                    </a:lnTo>
                    <a:lnTo>
                      <a:pt x="1659" y="1725"/>
                    </a:lnTo>
                    <a:lnTo>
                      <a:pt x="1659" y="1901"/>
                    </a:lnTo>
                    <a:lnTo>
                      <a:pt x="1694" y="1972"/>
                    </a:lnTo>
                    <a:lnTo>
                      <a:pt x="1694" y="179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75360" y="2662200"/>
                <a:ext cx="87840" cy="114840"/>
              </a:xfrm>
              <a:custGeom>
                <a:avLst/>
                <a:gdLst/>
                <a:ahLst/>
                <a:rect l="0" t="0" r="r" b="b"/>
                <a:pathLst>
                  <a:path fill="none" w="244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12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42"/>
                    </a:lnTo>
                    <a:lnTo>
                      <a:pt x="172" y="106"/>
                    </a:lnTo>
                    <a:lnTo>
                      <a:pt x="172" y="248"/>
                    </a:lnTo>
                    <a:lnTo>
                      <a:pt x="209" y="248"/>
                    </a:lnTo>
                    <a:lnTo>
                      <a:pt x="209" y="142"/>
                    </a:lnTo>
                    <a:lnTo>
                      <a:pt x="244" y="70"/>
                    </a:lnTo>
                    <a:lnTo>
                      <a:pt x="244" y="2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75360" y="2662200"/>
                <a:ext cx="87840" cy="114840"/>
              </a:xfrm>
              <a:custGeom>
                <a:avLst/>
                <a:gdLst/>
                <a:ahLst/>
                <a:rect l="0" t="0" r="r" b="b"/>
                <a:pathLst>
                  <a:path fill="none" w="244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48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77"/>
                    </a:lnTo>
                    <a:lnTo>
                      <a:pt x="172" y="106"/>
                    </a:lnTo>
                    <a:lnTo>
                      <a:pt x="172" y="248"/>
                    </a:lnTo>
                    <a:lnTo>
                      <a:pt x="209" y="248"/>
                    </a:lnTo>
                    <a:lnTo>
                      <a:pt x="209" y="177"/>
                    </a:lnTo>
                    <a:lnTo>
                      <a:pt x="244" y="70"/>
                    </a:lnTo>
                    <a:lnTo>
                      <a:pt x="244" y="2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529240" y="1382760"/>
              <a:ext cx="2535480" cy="1394280"/>
              <a:chOff x="5529240" y="1382760"/>
              <a:chExt cx="2535480" cy="1394280"/>
            </a:xfrm>
          </p:grpSpPr>
          <p:sp>
            <p:nvSpPr>
              <p:cNvPr id="351" name=""/>
              <p:cNvSpPr/>
              <p:nvPr/>
            </p:nvSpPr>
            <p:spPr>
              <a:xfrm>
                <a:off x="5529240" y="2079720"/>
                <a:ext cx="608400" cy="697320"/>
              </a:xfrm>
              <a:custGeom>
                <a:avLst/>
                <a:gdLst/>
                <a:ahLst/>
                <a:rect l="0" t="0" r="r" b="b"/>
                <a:pathLst>
                  <a:path fill="none" w="1690" h="1937">
                    <a:moveTo>
                      <a:pt x="0" y="1761"/>
                    </a:moveTo>
                    <a:lnTo>
                      <a:pt x="0" y="1761"/>
                    </a:lnTo>
                    <a:lnTo>
                      <a:pt x="35" y="1867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690"/>
                    </a:lnTo>
                    <a:lnTo>
                      <a:pt x="105" y="1832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20"/>
                    </a:lnTo>
                    <a:lnTo>
                      <a:pt x="246" y="1726"/>
                    </a:lnTo>
                    <a:lnTo>
                      <a:pt x="246" y="1761"/>
                    </a:lnTo>
                    <a:lnTo>
                      <a:pt x="282" y="1549"/>
                    </a:lnTo>
                    <a:lnTo>
                      <a:pt x="282" y="1514"/>
                    </a:lnTo>
                    <a:lnTo>
                      <a:pt x="317" y="1585"/>
                    </a:lnTo>
                    <a:lnTo>
                      <a:pt x="317" y="1620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37"/>
                    </a:lnTo>
                    <a:lnTo>
                      <a:pt x="424" y="1266"/>
                    </a:lnTo>
                    <a:lnTo>
                      <a:pt x="424" y="1301"/>
                    </a:lnTo>
                    <a:lnTo>
                      <a:pt x="459" y="1337"/>
                    </a:lnTo>
                    <a:lnTo>
                      <a:pt x="459" y="1231"/>
                    </a:lnTo>
                    <a:lnTo>
                      <a:pt x="494" y="1125"/>
                    </a:lnTo>
                    <a:lnTo>
                      <a:pt x="494" y="1090"/>
                    </a:lnTo>
                    <a:lnTo>
                      <a:pt x="530" y="1196"/>
                    </a:lnTo>
                    <a:lnTo>
                      <a:pt x="530" y="1196"/>
                    </a:lnTo>
                    <a:lnTo>
                      <a:pt x="565" y="1019"/>
                    </a:lnTo>
                    <a:lnTo>
                      <a:pt x="565" y="984"/>
                    </a:lnTo>
                    <a:lnTo>
                      <a:pt x="565" y="1090"/>
                    </a:lnTo>
                    <a:lnTo>
                      <a:pt x="600" y="949"/>
                    </a:lnTo>
                    <a:lnTo>
                      <a:pt x="600" y="847"/>
                    </a:lnTo>
                    <a:lnTo>
                      <a:pt x="636" y="949"/>
                    </a:lnTo>
                    <a:lnTo>
                      <a:pt x="636" y="913"/>
                    </a:lnTo>
                    <a:lnTo>
                      <a:pt x="671" y="949"/>
                    </a:lnTo>
                    <a:lnTo>
                      <a:pt x="671" y="847"/>
                    </a:lnTo>
                    <a:lnTo>
                      <a:pt x="706" y="777"/>
                    </a:lnTo>
                    <a:lnTo>
                      <a:pt x="706" y="913"/>
                    </a:lnTo>
                    <a:lnTo>
                      <a:pt x="741" y="741"/>
                    </a:lnTo>
                    <a:lnTo>
                      <a:pt x="741" y="777"/>
                    </a:lnTo>
                    <a:lnTo>
                      <a:pt x="777" y="636"/>
                    </a:lnTo>
                    <a:lnTo>
                      <a:pt x="777" y="777"/>
                    </a:lnTo>
                    <a:lnTo>
                      <a:pt x="812" y="812"/>
                    </a:lnTo>
                    <a:lnTo>
                      <a:pt x="812" y="600"/>
                    </a:lnTo>
                    <a:lnTo>
                      <a:pt x="847" y="671"/>
                    </a:lnTo>
                    <a:lnTo>
                      <a:pt x="847" y="812"/>
                    </a:lnTo>
                    <a:lnTo>
                      <a:pt x="882" y="777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00"/>
                    </a:lnTo>
                    <a:lnTo>
                      <a:pt x="1024" y="671"/>
                    </a:lnTo>
                    <a:lnTo>
                      <a:pt x="1024" y="388"/>
                    </a:lnTo>
                    <a:lnTo>
                      <a:pt x="1059" y="458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52"/>
                    </a:lnTo>
                    <a:lnTo>
                      <a:pt x="1129" y="530"/>
                    </a:lnTo>
                    <a:lnTo>
                      <a:pt x="1165" y="494"/>
                    </a:lnTo>
                    <a:lnTo>
                      <a:pt x="1165" y="282"/>
                    </a:lnTo>
                    <a:lnTo>
                      <a:pt x="1200" y="352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2" y="211"/>
                    </a:lnTo>
                    <a:lnTo>
                      <a:pt x="1272" y="352"/>
                    </a:lnTo>
                    <a:lnTo>
                      <a:pt x="1307" y="423"/>
                    </a:lnTo>
                    <a:lnTo>
                      <a:pt x="1307" y="211"/>
                    </a:lnTo>
                    <a:lnTo>
                      <a:pt x="1307" y="176"/>
                    </a:lnTo>
                    <a:lnTo>
                      <a:pt x="1342" y="317"/>
                    </a:lnTo>
                    <a:lnTo>
                      <a:pt x="1377" y="211"/>
                    </a:lnTo>
                    <a:lnTo>
                      <a:pt x="1377" y="141"/>
                    </a:lnTo>
                    <a:lnTo>
                      <a:pt x="1413" y="352"/>
                    </a:lnTo>
                    <a:lnTo>
                      <a:pt x="1413" y="317"/>
                    </a:lnTo>
                    <a:lnTo>
                      <a:pt x="1448" y="105"/>
                    </a:lnTo>
                    <a:lnTo>
                      <a:pt x="1448" y="246"/>
                    </a:lnTo>
                    <a:lnTo>
                      <a:pt x="1483" y="352"/>
                    </a:lnTo>
                    <a:lnTo>
                      <a:pt x="1483" y="282"/>
                    </a:lnTo>
                    <a:lnTo>
                      <a:pt x="1518" y="176"/>
                    </a:lnTo>
                    <a:lnTo>
                      <a:pt x="1518" y="105"/>
                    </a:lnTo>
                    <a:lnTo>
                      <a:pt x="1554" y="282"/>
                    </a:lnTo>
                    <a:lnTo>
                      <a:pt x="1554" y="246"/>
                    </a:lnTo>
                    <a:lnTo>
                      <a:pt x="1589" y="141"/>
                    </a:lnTo>
                    <a:lnTo>
                      <a:pt x="1589" y="70"/>
                    </a:lnTo>
                    <a:lnTo>
                      <a:pt x="1620" y="211"/>
                    </a:lnTo>
                    <a:lnTo>
                      <a:pt x="1620" y="246"/>
                    </a:lnTo>
                    <a:lnTo>
                      <a:pt x="1655" y="0"/>
                    </a:lnTo>
                    <a:lnTo>
                      <a:pt x="1655" y="35"/>
                    </a:lnTo>
                    <a:lnTo>
                      <a:pt x="1690" y="211"/>
                    </a:lnTo>
                    <a:lnTo>
                      <a:pt x="1690" y="24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29240" y="2079720"/>
                <a:ext cx="608400" cy="697320"/>
              </a:xfrm>
              <a:custGeom>
                <a:avLst/>
                <a:gdLst/>
                <a:ahLst/>
                <a:rect l="0" t="0" r="r" b="b"/>
                <a:pathLst>
                  <a:path fill="none" w="1690" h="1937">
                    <a:moveTo>
                      <a:pt x="0" y="1796"/>
                    </a:moveTo>
                    <a:lnTo>
                      <a:pt x="0" y="1761"/>
                    </a:lnTo>
                    <a:lnTo>
                      <a:pt x="35" y="1902"/>
                    </a:lnTo>
                    <a:lnTo>
                      <a:pt x="35" y="1937"/>
                    </a:lnTo>
                    <a:lnTo>
                      <a:pt x="70" y="1761"/>
                    </a:lnTo>
                    <a:lnTo>
                      <a:pt x="70" y="1726"/>
                    </a:lnTo>
                    <a:lnTo>
                      <a:pt x="105" y="1867"/>
                    </a:lnTo>
                    <a:lnTo>
                      <a:pt x="141" y="1655"/>
                    </a:lnTo>
                    <a:lnTo>
                      <a:pt x="141" y="1761"/>
                    </a:lnTo>
                    <a:lnTo>
                      <a:pt x="176" y="1796"/>
                    </a:lnTo>
                    <a:lnTo>
                      <a:pt x="176" y="1832"/>
                    </a:lnTo>
                    <a:lnTo>
                      <a:pt x="211" y="1655"/>
                    </a:lnTo>
                    <a:lnTo>
                      <a:pt x="246" y="1726"/>
                    </a:lnTo>
                    <a:lnTo>
                      <a:pt x="246" y="1796"/>
                    </a:lnTo>
                    <a:lnTo>
                      <a:pt x="282" y="1549"/>
                    </a:lnTo>
                    <a:lnTo>
                      <a:pt x="317" y="1585"/>
                    </a:lnTo>
                    <a:lnTo>
                      <a:pt x="317" y="1655"/>
                    </a:lnTo>
                    <a:lnTo>
                      <a:pt x="352" y="1407"/>
                    </a:lnTo>
                    <a:lnTo>
                      <a:pt x="352" y="1442"/>
                    </a:lnTo>
                    <a:lnTo>
                      <a:pt x="388" y="1514"/>
                    </a:lnTo>
                    <a:lnTo>
                      <a:pt x="388" y="1372"/>
                    </a:lnTo>
                    <a:lnTo>
                      <a:pt x="424" y="1301"/>
                    </a:lnTo>
                    <a:lnTo>
                      <a:pt x="459" y="1337"/>
                    </a:lnTo>
                    <a:lnTo>
                      <a:pt x="459" y="1231"/>
                    </a:lnTo>
                    <a:lnTo>
                      <a:pt x="494" y="1160"/>
                    </a:lnTo>
                    <a:lnTo>
                      <a:pt x="494" y="1090"/>
                    </a:lnTo>
                    <a:lnTo>
                      <a:pt x="530" y="1231"/>
                    </a:lnTo>
                    <a:lnTo>
                      <a:pt x="530" y="1196"/>
                    </a:lnTo>
                    <a:lnTo>
                      <a:pt x="565" y="1019"/>
                    </a:lnTo>
                    <a:lnTo>
                      <a:pt x="565" y="984"/>
                    </a:lnTo>
                    <a:lnTo>
                      <a:pt x="565" y="1125"/>
                    </a:lnTo>
                    <a:lnTo>
                      <a:pt x="600" y="949"/>
                    </a:lnTo>
                    <a:lnTo>
                      <a:pt x="600" y="847"/>
                    </a:lnTo>
                    <a:lnTo>
                      <a:pt x="636" y="984"/>
                    </a:lnTo>
                    <a:lnTo>
                      <a:pt x="636" y="913"/>
                    </a:lnTo>
                    <a:lnTo>
                      <a:pt x="671" y="984"/>
                    </a:lnTo>
                    <a:lnTo>
                      <a:pt x="671" y="847"/>
                    </a:lnTo>
                    <a:lnTo>
                      <a:pt x="706" y="777"/>
                    </a:lnTo>
                    <a:lnTo>
                      <a:pt x="706" y="913"/>
                    </a:lnTo>
                    <a:lnTo>
                      <a:pt x="741" y="741"/>
                    </a:lnTo>
                    <a:lnTo>
                      <a:pt x="741" y="777"/>
                    </a:lnTo>
                    <a:lnTo>
                      <a:pt x="777" y="671"/>
                    </a:lnTo>
                    <a:lnTo>
                      <a:pt x="777" y="812"/>
                    </a:lnTo>
                    <a:lnTo>
                      <a:pt x="812" y="812"/>
                    </a:lnTo>
                    <a:lnTo>
                      <a:pt x="812" y="600"/>
                    </a:lnTo>
                    <a:lnTo>
                      <a:pt x="847" y="671"/>
                    </a:lnTo>
                    <a:lnTo>
                      <a:pt x="847" y="812"/>
                    </a:lnTo>
                    <a:lnTo>
                      <a:pt x="882" y="812"/>
                    </a:lnTo>
                    <a:lnTo>
                      <a:pt x="882" y="530"/>
                    </a:lnTo>
                    <a:lnTo>
                      <a:pt x="918" y="565"/>
                    </a:lnTo>
                    <a:lnTo>
                      <a:pt x="918" y="741"/>
                    </a:lnTo>
                    <a:lnTo>
                      <a:pt x="953" y="706"/>
                    </a:lnTo>
                    <a:lnTo>
                      <a:pt x="953" y="530"/>
                    </a:lnTo>
                    <a:lnTo>
                      <a:pt x="988" y="600"/>
                    </a:lnTo>
                    <a:lnTo>
                      <a:pt x="988" y="636"/>
                    </a:lnTo>
                    <a:lnTo>
                      <a:pt x="1024" y="671"/>
                    </a:lnTo>
                    <a:lnTo>
                      <a:pt x="1024" y="423"/>
                    </a:lnTo>
                    <a:lnTo>
                      <a:pt x="1059" y="494"/>
                    </a:lnTo>
                    <a:lnTo>
                      <a:pt x="1059" y="565"/>
                    </a:lnTo>
                    <a:lnTo>
                      <a:pt x="1094" y="600"/>
                    </a:lnTo>
                    <a:lnTo>
                      <a:pt x="1094" y="352"/>
                    </a:lnTo>
                    <a:lnTo>
                      <a:pt x="1129" y="388"/>
                    </a:lnTo>
                    <a:lnTo>
                      <a:pt x="1129" y="565"/>
                    </a:lnTo>
                    <a:lnTo>
                      <a:pt x="1165" y="494"/>
                    </a:lnTo>
                    <a:lnTo>
                      <a:pt x="1165" y="317"/>
                    </a:lnTo>
                    <a:lnTo>
                      <a:pt x="1200" y="388"/>
                    </a:lnTo>
                    <a:lnTo>
                      <a:pt x="1200" y="530"/>
                    </a:lnTo>
                    <a:lnTo>
                      <a:pt x="1235" y="317"/>
                    </a:lnTo>
                    <a:lnTo>
                      <a:pt x="1272" y="246"/>
                    </a:lnTo>
                    <a:lnTo>
                      <a:pt x="1272" y="352"/>
                    </a:lnTo>
                    <a:lnTo>
                      <a:pt x="1307" y="423"/>
                    </a:lnTo>
                    <a:lnTo>
                      <a:pt x="1307" y="246"/>
                    </a:lnTo>
                    <a:lnTo>
                      <a:pt x="1307" y="176"/>
                    </a:lnTo>
                    <a:lnTo>
                      <a:pt x="1342" y="317"/>
                    </a:lnTo>
                    <a:lnTo>
                      <a:pt x="1377" y="246"/>
                    </a:lnTo>
                    <a:lnTo>
                      <a:pt x="1377" y="176"/>
                    </a:lnTo>
                    <a:lnTo>
                      <a:pt x="1413" y="388"/>
                    </a:lnTo>
                    <a:lnTo>
                      <a:pt x="1413" y="317"/>
                    </a:lnTo>
                    <a:lnTo>
                      <a:pt x="1448" y="105"/>
                    </a:lnTo>
                    <a:lnTo>
                      <a:pt x="1448" y="246"/>
                    </a:lnTo>
                    <a:lnTo>
                      <a:pt x="1483" y="352"/>
                    </a:lnTo>
                    <a:lnTo>
                      <a:pt x="1483" y="282"/>
                    </a:lnTo>
                    <a:lnTo>
                      <a:pt x="1518" y="176"/>
                    </a:lnTo>
                    <a:lnTo>
                      <a:pt x="1518" y="105"/>
                    </a:lnTo>
                    <a:lnTo>
                      <a:pt x="1554" y="282"/>
                    </a:lnTo>
                    <a:lnTo>
                      <a:pt x="1554" y="246"/>
                    </a:lnTo>
                    <a:lnTo>
                      <a:pt x="1589" y="176"/>
                    </a:lnTo>
                    <a:lnTo>
                      <a:pt x="1589" y="70"/>
                    </a:lnTo>
                    <a:lnTo>
                      <a:pt x="1620" y="211"/>
                    </a:lnTo>
                    <a:lnTo>
                      <a:pt x="1620" y="246"/>
                    </a:lnTo>
                    <a:lnTo>
                      <a:pt x="1655" y="0"/>
                    </a:lnTo>
                    <a:lnTo>
                      <a:pt x="1655" y="70"/>
                    </a:lnTo>
                    <a:lnTo>
                      <a:pt x="1690" y="211"/>
                    </a:lnTo>
                    <a:lnTo>
                      <a:pt x="1690" y="24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37280" y="1395360"/>
                <a:ext cx="622800" cy="773640"/>
              </a:xfrm>
              <a:custGeom>
                <a:avLst/>
                <a:gdLst/>
                <a:ahLst/>
                <a:rect l="0" t="0" r="r" b="b"/>
                <a:pathLst>
                  <a:path fill="none" w="1730" h="2149">
                    <a:moveTo>
                      <a:pt x="0" y="2149"/>
                    </a:moveTo>
                    <a:lnTo>
                      <a:pt x="35" y="1867"/>
                    </a:lnTo>
                    <a:lnTo>
                      <a:pt x="70" y="2078"/>
                    </a:lnTo>
                    <a:lnTo>
                      <a:pt x="70" y="2008"/>
                    </a:lnTo>
                    <a:lnTo>
                      <a:pt x="105" y="1761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37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61"/>
                    </a:lnTo>
                    <a:lnTo>
                      <a:pt x="282" y="1973"/>
                    </a:lnTo>
                    <a:lnTo>
                      <a:pt x="282" y="1937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61"/>
                    </a:lnTo>
                    <a:lnTo>
                      <a:pt x="388" y="1867"/>
                    </a:lnTo>
                    <a:lnTo>
                      <a:pt x="423" y="1902"/>
                    </a:lnTo>
                    <a:lnTo>
                      <a:pt x="423" y="1690"/>
                    </a:lnTo>
                    <a:lnTo>
                      <a:pt x="459" y="1726"/>
                    </a:lnTo>
                    <a:lnTo>
                      <a:pt x="459" y="1867"/>
                    </a:lnTo>
                    <a:lnTo>
                      <a:pt x="494" y="1937"/>
                    </a:lnTo>
                    <a:lnTo>
                      <a:pt x="494" y="1726"/>
                    </a:lnTo>
                    <a:lnTo>
                      <a:pt x="530" y="1655"/>
                    </a:lnTo>
                    <a:lnTo>
                      <a:pt x="530" y="1902"/>
                    </a:lnTo>
                    <a:lnTo>
                      <a:pt x="565" y="1796"/>
                    </a:lnTo>
                    <a:lnTo>
                      <a:pt x="565" y="1655"/>
                    </a:lnTo>
                    <a:lnTo>
                      <a:pt x="600" y="1620"/>
                    </a:lnTo>
                    <a:lnTo>
                      <a:pt x="600" y="1796"/>
                    </a:lnTo>
                    <a:lnTo>
                      <a:pt x="636" y="1761"/>
                    </a:lnTo>
                    <a:lnTo>
                      <a:pt x="636" y="1513"/>
                    </a:lnTo>
                    <a:lnTo>
                      <a:pt x="671" y="1442"/>
                    </a:lnTo>
                    <a:lnTo>
                      <a:pt x="671" y="1019"/>
                    </a:lnTo>
                    <a:lnTo>
                      <a:pt x="706" y="423"/>
                    </a:lnTo>
                    <a:lnTo>
                      <a:pt x="706" y="141"/>
                    </a:lnTo>
                    <a:lnTo>
                      <a:pt x="741" y="246"/>
                    </a:lnTo>
                    <a:lnTo>
                      <a:pt x="777" y="282"/>
                    </a:lnTo>
                    <a:lnTo>
                      <a:pt x="777" y="105"/>
                    </a:lnTo>
                    <a:lnTo>
                      <a:pt x="812" y="105"/>
                    </a:lnTo>
                    <a:lnTo>
                      <a:pt x="812" y="317"/>
                    </a:lnTo>
                    <a:lnTo>
                      <a:pt x="847" y="282"/>
                    </a:lnTo>
                    <a:lnTo>
                      <a:pt x="847" y="105"/>
                    </a:lnTo>
                    <a:lnTo>
                      <a:pt x="882" y="141"/>
                    </a:lnTo>
                    <a:lnTo>
                      <a:pt x="882" y="282"/>
                    </a:lnTo>
                    <a:lnTo>
                      <a:pt x="918" y="282"/>
                    </a:lnTo>
                    <a:lnTo>
                      <a:pt x="918" y="105"/>
                    </a:lnTo>
                    <a:lnTo>
                      <a:pt x="953" y="70"/>
                    </a:lnTo>
                    <a:lnTo>
                      <a:pt x="953" y="282"/>
                    </a:lnTo>
                    <a:lnTo>
                      <a:pt x="988" y="352"/>
                    </a:lnTo>
                    <a:lnTo>
                      <a:pt x="988" y="211"/>
                    </a:lnTo>
                    <a:lnTo>
                      <a:pt x="1024" y="35"/>
                    </a:lnTo>
                    <a:lnTo>
                      <a:pt x="1024" y="282"/>
                    </a:lnTo>
                    <a:lnTo>
                      <a:pt x="1059" y="211"/>
                    </a:lnTo>
                    <a:lnTo>
                      <a:pt x="1059" y="35"/>
                    </a:lnTo>
                    <a:lnTo>
                      <a:pt x="1094" y="141"/>
                    </a:lnTo>
                    <a:lnTo>
                      <a:pt x="1094" y="388"/>
                    </a:lnTo>
                    <a:lnTo>
                      <a:pt x="1094" y="317"/>
                    </a:lnTo>
                    <a:lnTo>
                      <a:pt x="1129" y="70"/>
                    </a:lnTo>
                    <a:lnTo>
                      <a:pt x="1129" y="105"/>
                    </a:lnTo>
                    <a:lnTo>
                      <a:pt x="1165" y="246"/>
                    </a:lnTo>
                    <a:lnTo>
                      <a:pt x="1200" y="105"/>
                    </a:lnTo>
                    <a:lnTo>
                      <a:pt x="1200" y="141"/>
                    </a:lnTo>
                    <a:lnTo>
                      <a:pt x="1235" y="282"/>
                    </a:lnTo>
                    <a:lnTo>
                      <a:pt x="1235" y="317"/>
                    </a:lnTo>
                    <a:lnTo>
                      <a:pt x="1271" y="70"/>
                    </a:lnTo>
                    <a:lnTo>
                      <a:pt x="1307" y="246"/>
                    </a:lnTo>
                    <a:lnTo>
                      <a:pt x="1307" y="388"/>
                    </a:lnTo>
                    <a:lnTo>
                      <a:pt x="1342" y="70"/>
                    </a:lnTo>
                    <a:lnTo>
                      <a:pt x="1342" y="105"/>
                    </a:lnTo>
                    <a:lnTo>
                      <a:pt x="1377" y="282"/>
                    </a:lnTo>
                    <a:lnTo>
                      <a:pt x="1413" y="0"/>
                    </a:lnTo>
                    <a:lnTo>
                      <a:pt x="1413" y="141"/>
                    </a:lnTo>
                    <a:lnTo>
                      <a:pt x="1448" y="317"/>
                    </a:lnTo>
                    <a:lnTo>
                      <a:pt x="1448" y="388"/>
                    </a:lnTo>
                    <a:lnTo>
                      <a:pt x="1483" y="105"/>
                    </a:lnTo>
                    <a:lnTo>
                      <a:pt x="1518" y="317"/>
                    </a:lnTo>
                    <a:lnTo>
                      <a:pt x="1518" y="211"/>
                    </a:lnTo>
                    <a:lnTo>
                      <a:pt x="1554" y="105"/>
                    </a:lnTo>
                    <a:lnTo>
                      <a:pt x="1554" y="141"/>
                    </a:lnTo>
                    <a:lnTo>
                      <a:pt x="1589" y="282"/>
                    </a:lnTo>
                    <a:lnTo>
                      <a:pt x="1624" y="70"/>
                    </a:lnTo>
                    <a:lnTo>
                      <a:pt x="1624" y="105"/>
                    </a:lnTo>
                    <a:lnTo>
                      <a:pt x="1660" y="282"/>
                    </a:lnTo>
                    <a:lnTo>
                      <a:pt x="1660" y="282"/>
                    </a:lnTo>
                    <a:lnTo>
                      <a:pt x="1695" y="141"/>
                    </a:lnTo>
                    <a:lnTo>
                      <a:pt x="1695" y="35"/>
                    </a:lnTo>
                    <a:lnTo>
                      <a:pt x="1730" y="282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37280" y="1395360"/>
                <a:ext cx="622800" cy="773640"/>
              </a:xfrm>
              <a:custGeom>
                <a:avLst/>
                <a:gdLst/>
                <a:ahLst/>
                <a:rect l="0" t="0" r="r" b="b"/>
                <a:pathLst>
                  <a:path fill="none" w="1730" h="2149">
                    <a:moveTo>
                      <a:pt x="0" y="2149"/>
                    </a:moveTo>
                    <a:lnTo>
                      <a:pt x="35" y="1902"/>
                    </a:lnTo>
                    <a:lnTo>
                      <a:pt x="70" y="2078"/>
                    </a:lnTo>
                    <a:lnTo>
                      <a:pt x="70" y="2043"/>
                    </a:lnTo>
                    <a:lnTo>
                      <a:pt x="105" y="1796"/>
                    </a:lnTo>
                    <a:lnTo>
                      <a:pt x="105" y="1867"/>
                    </a:lnTo>
                    <a:lnTo>
                      <a:pt x="141" y="2008"/>
                    </a:lnTo>
                    <a:lnTo>
                      <a:pt x="141" y="2078"/>
                    </a:lnTo>
                    <a:lnTo>
                      <a:pt x="176" y="1867"/>
                    </a:lnTo>
                    <a:lnTo>
                      <a:pt x="176" y="1973"/>
                    </a:lnTo>
                    <a:lnTo>
                      <a:pt x="211" y="1973"/>
                    </a:lnTo>
                    <a:lnTo>
                      <a:pt x="211" y="2114"/>
                    </a:lnTo>
                    <a:lnTo>
                      <a:pt x="246" y="1832"/>
                    </a:lnTo>
                    <a:lnTo>
                      <a:pt x="246" y="1796"/>
                    </a:lnTo>
                    <a:lnTo>
                      <a:pt x="282" y="1973"/>
                    </a:lnTo>
                    <a:lnTo>
                      <a:pt x="317" y="1726"/>
                    </a:lnTo>
                    <a:lnTo>
                      <a:pt x="317" y="1867"/>
                    </a:lnTo>
                    <a:lnTo>
                      <a:pt x="352" y="2043"/>
                    </a:lnTo>
                    <a:lnTo>
                      <a:pt x="352" y="2008"/>
                    </a:lnTo>
                    <a:lnTo>
                      <a:pt x="352" y="1796"/>
                    </a:lnTo>
                    <a:lnTo>
                      <a:pt x="388" y="1796"/>
                    </a:lnTo>
                    <a:lnTo>
                      <a:pt x="388" y="1902"/>
                    </a:lnTo>
                    <a:lnTo>
                      <a:pt x="423" y="1902"/>
                    </a:lnTo>
                    <a:lnTo>
                      <a:pt x="423" y="1690"/>
                    </a:lnTo>
                    <a:lnTo>
                      <a:pt x="459" y="1726"/>
                    </a:lnTo>
                    <a:lnTo>
                      <a:pt x="459" y="1902"/>
                    </a:lnTo>
                    <a:lnTo>
                      <a:pt x="494" y="1937"/>
                    </a:lnTo>
                    <a:lnTo>
                      <a:pt x="494" y="1726"/>
                    </a:lnTo>
                    <a:lnTo>
                      <a:pt x="530" y="1655"/>
                    </a:lnTo>
                    <a:lnTo>
                      <a:pt x="530" y="1902"/>
                    </a:lnTo>
                    <a:lnTo>
                      <a:pt x="565" y="1796"/>
                    </a:lnTo>
                    <a:lnTo>
                      <a:pt x="565" y="1655"/>
                    </a:lnTo>
                    <a:lnTo>
                      <a:pt x="600" y="1620"/>
                    </a:lnTo>
                    <a:lnTo>
                      <a:pt x="600" y="1796"/>
                    </a:lnTo>
                    <a:lnTo>
                      <a:pt x="636" y="1796"/>
                    </a:lnTo>
                    <a:lnTo>
                      <a:pt x="636" y="1548"/>
                    </a:lnTo>
                    <a:lnTo>
                      <a:pt x="671" y="1442"/>
                    </a:lnTo>
                    <a:lnTo>
                      <a:pt x="671" y="1019"/>
                    </a:lnTo>
                    <a:lnTo>
                      <a:pt x="706" y="423"/>
                    </a:lnTo>
                    <a:lnTo>
                      <a:pt x="706" y="176"/>
                    </a:lnTo>
                    <a:lnTo>
                      <a:pt x="741" y="246"/>
                    </a:lnTo>
                    <a:lnTo>
                      <a:pt x="777" y="282"/>
                    </a:lnTo>
                    <a:lnTo>
                      <a:pt x="777" y="105"/>
                    </a:lnTo>
                    <a:lnTo>
                      <a:pt x="812" y="105"/>
                    </a:lnTo>
                    <a:lnTo>
                      <a:pt x="812" y="317"/>
                    </a:lnTo>
                    <a:lnTo>
                      <a:pt x="847" y="282"/>
                    </a:lnTo>
                    <a:lnTo>
                      <a:pt x="847" y="105"/>
                    </a:lnTo>
                    <a:lnTo>
                      <a:pt x="882" y="176"/>
                    </a:lnTo>
                    <a:lnTo>
                      <a:pt x="882" y="317"/>
                    </a:lnTo>
                    <a:lnTo>
                      <a:pt x="918" y="282"/>
                    </a:lnTo>
                    <a:lnTo>
                      <a:pt x="918" y="105"/>
                    </a:lnTo>
                    <a:lnTo>
                      <a:pt x="953" y="70"/>
                    </a:lnTo>
                    <a:lnTo>
                      <a:pt x="953" y="282"/>
                    </a:lnTo>
                    <a:lnTo>
                      <a:pt x="988" y="352"/>
                    </a:lnTo>
                    <a:lnTo>
                      <a:pt x="988" y="211"/>
                    </a:lnTo>
                    <a:lnTo>
                      <a:pt x="1024" y="35"/>
                    </a:lnTo>
                    <a:lnTo>
                      <a:pt x="1024" y="282"/>
                    </a:lnTo>
                    <a:lnTo>
                      <a:pt x="1059" y="246"/>
                    </a:lnTo>
                    <a:lnTo>
                      <a:pt x="1059" y="70"/>
                    </a:lnTo>
                    <a:lnTo>
                      <a:pt x="1094" y="176"/>
                    </a:lnTo>
                    <a:lnTo>
                      <a:pt x="1094" y="388"/>
                    </a:lnTo>
                    <a:lnTo>
                      <a:pt x="1094" y="317"/>
                    </a:lnTo>
                    <a:lnTo>
                      <a:pt x="1129" y="70"/>
                    </a:lnTo>
                    <a:lnTo>
                      <a:pt x="1129" y="105"/>
                    </a:lnTo>
                    <a:lnTo>
                      <a:pt x="1165" y="246"/>
                    </a:lnTo>
                    <a:lnTo>
                      <a:pt x="1200" y="105"/>
                    </a:lnTo>
                    <a:lnTo>
                      <a:pt x="1200" y="176"/>
                    </a:lnTo>
                    <a:lnTo>
                      <a:pt x="1235" y="282"/>
                    </a:lnTo>
                    <a:lnTo>
                      <a:pt x="1235" y="317"/>
                    </a:lnTo>
                    <a:lnTo>
                      <a:pt x="1271" y="70"/>
                    </a:lnTo>
                    <a:lnTo>
                      <a:pt x="1307" y="246"/>
                    </a:lnTo>
                    <a:lnTo>
                      <a:pt x="1307" y="388"/>
                    </a:lnTo>
                    <a:lnTo>
                      <a:pt x="1342" y="70"/>
                    </a:lnTo>
                    <a:lnTo>
                      <a:pt x="1342" y="105"/>
                    </a:lnTo>
                    <a:lnTo>
                      <a:pt x="1377" y="317"/>
                    </a:lnTo>
                    <a:lnTo>
                      <a:pt x="1413" y="0"/>
                    </a:lnTo>
                    <a:lnTo>
                      <a:pt x="1413" y="141"/>
                    </a:lnTo>
                    <a:lnTo>
                      <a:pt x="1448" y="317"/>
                    </a:lnTo>
                    <a:lnTo>
                      <a:pt x="1448" y="388"/>
                    </a:lnTo>
                    <a:lnTo>
                      <a:pt x="1483" y="105"/>
                    </a:lnTo>
                    <a:lnTo>
                      <a:pt x="1518" y="317"/>
                    </a:lnTo>
                    <a:lnTo>
                      <a:pt x="1518" y="246"/>
                    </a:lnTo>
                    <a:lnTo>
                      <a:pt x="1554" y="105"/>
                    </a:lnTo>
                    <a:lnTo>
                      <a:pt x="1554" y="141"/>
                    </a:lnTo>
                    <a:lnTo>
                      <a:pt x="1589" y="317"/>
                    </a:lnTo>
                    <a:lnTo>
                      <a:pt x="1624" y="70"/>
                    </a:lnTo>
                    <a:lnTo>
                      <a:pt x="1624" y="105"/>
                    </a:lnTo>
                    <a:lnTo>
                      <a:pt x="1660" y="317"/>
                    </a:lnTo>
                    <a:lnTo>
                      <a:pt x="1660" y="282"/>
                    </a:lnTo>
                    <a:lnTo>
                      <a:pt x="1695" y="176"/>
                    </a:lnTo>
                    <a:lnTo>
                      <a:pt x="1695" y="70"/>
                    </a:lnTo>
                    <a:lnTo>
                      <a:pt x="1730" y="317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5972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2" y="317"/>
                    </a:lnTo>
                    <a:lnTo>
                      <a:pt x="772" y="105"/>
                    </a:lnTo>
                    <a:lnTo>
                      <a:pt x="807" y="176"/>
                    </a:lnTo>
                    <a:lnTo>
                      <a:pt x="807" y="388"/>
                    </a:lnTo>
                    <a:lnTo>
                      <a:pt x="843" y="141"/>
                    </a:lnTo>
                    <a:lnTo>
                      <a:pt x="843" y="176"/>
                    </a:lnTo>
                    <a:lnTo>
                      <a:pt x="878" y="317"/>
                    </a:lnTo>
                    <a:lnTo>
                      <a:pt x="878" y="282"/>
                    </a:lnTo>
                    <a:lnTo>
                      <a:pt x="913" y="211"/>
                    </a:lnTo>
                    <a:lnTo>
                      <a:pt x="913" y="141"/>
                    </a:lnTo>
                    <a:lnTo>
                      <a:pt x="949" y="388"/>
                    </a:lnTo>
                    <a:lnTo>
                      <a:pt x="949" y="317"/>
                    </a:lnTo>
                    <a:lnTo>
                      <a:pt x="984" y="211"/>
                    </a:lnTo>
                    <a:lnTo>
                      <a:pt x="984" y="105"/>
                    </a:lnTo>
                    <a:lnTo>
                      <a:pt x="1019" y="282"/>
                    </a:lnTo>
                    <a:lnTo>
                      <a:pt x="1019" y="317"/>
                    </a:lnTo>
                    <a:lnTo>
                      <a:pt x="1054" y="211"/>
                    </a:lnTo>
                    <a:lnTo>
                      <a:pt x="1054" y="176"/>
                    </a:lnTo>
                    <a:lnTo>
                      <a:pt x="1090" y="246"/>
                    </a:lnTo>
                    <a:lnTo>
                      <a:pt x="1090" y="317"/>
                    </a:lnTo>
                    <a:lnTo>
                      <a:pt x="1125" y="176"/>
                    </a:lnTo>
                    <a:lnTo>
                      <a:pt x="1160" y="352"/>
                    </a:lnTo>
                    <a:lnTo>
                      <a:pt x="1160" y="918"/>
                    </a:lnTo>
                    <a:lnTo>
                      <a:pt x="1196" y="1160"/>
                    </a:lnTo>
                    <a:lnTo>
                      <a:pt x="1196" y="1090"/>
                    </a:lnTo>
                    <a:lnTo>
                      <a:pt x="1231" y="1372"/>
                    </a:lnTo>
                    <a:lnTo>
                      <a:pt x="1231" y="1549"/>
                    </a:lnTo>
                    <a:lnTo>
                      <a:pt x="1266" y="1513"/>
                    </a:lnTo>
                    <a:lnTo>
                      <a:pt x="1266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59720" y="1382760"/>
                <a:ext cx="608400" cy="735480"/>
              </a:xfrm>
              <a:custGeom>
                <a:avLst/>
                <a:gdLst/>
                <a:ahLst/>
                <a:rect l="0" t="0" r="r" b="b"/>
                <a:pathLst>
                  <a:path fill="none" w="1690" h="2043">
                    <a:moveTo>
                      <a:pt x="0" y="317"/>
                    </a:moveTo>
                    <a:lnTo>
                      <a:pt x="0" y="388"/>
                    </a:lnTo>
                    <a:lnTo>
                      <a:pt x="35" y="141"/>
                    </a:lnTo>
                    <a:lnTo>
                      <a:pt x="35" y="105"/>
                    </a:lnTo>
                    <a:lnTo>
                      <a:pt x="70" y="317"/>
                    </a:lnTo>
                    <a:lnTo>
                      <a:pt x="70" y="388"/>
                    </a:lnTo>
                    <a:lnTo>
                      <a:pt x="105" y="176"/>
                    </a:lnTo>
                    <a:lnTo>
                      <a:pt x="105" y="70"/>
                    </a:lnTo>
                    <a:lnTo>
                      <a:pt x="105" y="317"/>
                    </a:lnTo>
                    <a:lnTo>
                      <a:pt x="141" y="423"/>
                    </a:lnTo>
                    <a:lnTo>
                      <a:pt x="141" y="176"/>
                    </a:lnTo>
                    <a:lnTo>
                      <a:pt x="176" y="141"/>
                    </a:lnTo>
                    <a:lnTo>
                      <a:pt x="176" y="282"/>
                    </a:lnTo>
                    <a:lnTo>
                      <a:pt x="211" y="317"/>
                    </a:lnTo>
                    <a:lnTo>
                      <a:pt x="211" y="70"/>
                    </a:lnTo>
                    <a:lnTo>
                      <a:pt x="246" y="176"/>
                    </a:lnTo>
                    <a:lnTo>
                      <a:pt x="246" y="317"/>
                    </a:lnTo>
                    <a:lnTo>
                      <a:pt x="282" y="282"/>
                    </a:lnTo>
                    <a:lnTo>
                      <a:pt x="282" y="141"/>
                    </a:lnTo>
                    <a:lnTo>
                      <a:pt x="317" y="105"/>
                    </a:lnTo>
                    <a:lnTo>
                      <a:pt x="317" y="388"/>
                    </a:lnTo>
                    <a:lnTo>
                      <a:pt x="352" y="352"/>
                    </a:lnTo>
                    <a:lnTo>
                      <a:pt x="352" y="105"/>
                    </a:lnTo>
                    <a:lnTo>
                      <a:pt x="388" y="176"/>
                    </a:lnTo>
                    <a:lnTo>
                      <a:pt x="388" y="282"/>
                    </a:lnTo>
                    <a:lnTo>
                      <a:pt x="424" y="458"/>
                    </a:lnTo>
                    <a:lnTo>
                      <a:pt x="424" y="176"/>
                    </a:lnTo>
                    <a:lnTo>
                      <a:pt x="459" y="70"/>
                    </a:lnTo>
                    <a:lnTo>
                      <a:pt x="459" y="352"/>
                    </a:lnTo>
                    <a:lnTo>
                      <a:pt x="494" y="317"/>
                    </a:lnTo>
                    <a:lnTo>
                      <a:pt x="494" y="141"/>
                    </a:lnTo>
                    <a:lnTo>
                      <a:pt x="530" y="176"/>
                    </a:lnTo>
                    <a:lnTo>
                      <a:pt x="530" y="282"/>
                    </a:lnTo>
                    <a:lnTo>
                      <a:pt x="565" y="388"/>
                    </a:lnTo>
                    <a:lnTo>
                      <a:pt x="565" y="211"/>
                    </a:lnTo>
                    <a:lnTo>
                      <a:pt x="600" y="176"/>
                    </a:lnTo>
                    <a:lnTo>
                      <a:pt x="600" y="282"/>
                    </a:lnTo>
                    <a:lnTo>
                      <a:pt x="636" y="423"/>
                    </a:lnTo>
                    <a:lnTo>
                      <a:pt x="636" y="70"/>
                    </a:lnTo>
                    <a:lnTo>
                      <a:pt x="671" y="70"/>
                    </a:lnTo>
                    <a:lnTo>
                      <a:pt x="671" y="352"/>
                    </a:lnTo>
                    <a:lnTo>
                      <a:pt x="706" y="423"/>
                    </a:lnTo>
                    <a:lnTo>
                      <a:pt x="706" y="0"/>
                    </a:lnTo>
                    <a:lnTo>
                      <a:pt x="741" y="176"/>
                    </a:lnTo>
                    <a:lnTo>
                      <a:pt x="741" y="458"/>
                    </a:lnTo>
                    <a:lnTo>
                      <a:pt x="772" y="317"/>
                    </a:lnTo>
                    <a:lnTo>
                      <a:pt x="772" y="105"/>
                    </a:lnTo>
                    <a:lnTo>
                      <a:pt x="807" y="176"/>
                    </a:lnTo>
                    <a:lnTo>
                      <a:pt x="807" y="388"/>
                    </a:lnTo>
                    <a:lnTo>
                      <a:pt x="843" y="141"/>
                    </a:lnTo>
                    <a:lnTo>
                      <a:pt x="843" y="176"/>
                    </a:lnTo>
                    <a:lnTo>
                      <a:pt x="878" y="317"/>
                    </a:lnTo>
                    <a:lnTo>
                      <a:pt x="878" y="282"/>
                    </a:lnTo>
                    <a:lnTo>
                      <a:pt x="913" y="211"/>
                    </a:lnTo>
                    <a:lnTo>
                      <a:pt x="913" y="141"/>
                    </a:lnTo>
                    <a:lnTo>
                      <a:pt x="949" y="388"/>
                    </a:lnTo>
                    <a:lnTo>
                      <a:pt x="949" y="317"/>
                    </a:lnTo>
                    <a:lnTo>
                      <a:pt x="984" y="211"/>
                    </a:lnTo>
                    <a:lnTo>
                      <a:pt x="984" y="105"/>
                    </a:lnTo>
                    <a:lnTo>
                      <a:pt x="1019" y="282"/>
                    </a:lnTo>
                    <a:lnTo>
                      <a:pt x="1019" y="317"/>
                    </a:lnTo>
                    <a:lnTo>
                      <a:pt x="1054" y="211"/>
                    </a:lnTo>
                    <a:lnTo>
                      <a:pt x="1054" y="176"/>
                    </a:lnTo>
                    <a:lnTo>
                      <a:pt x="1090" y="246"/>
                    </a:lnTo>
                    <a:lnTo>
                      <a:pt x="1090" y="317"/>
                    </a:lnTo>
                    <a:lnTo>
                      <a:pt x="1125" y="176"/>
                    </a:lnTo>
                    <a:lnTo>
                      <a:pt x="1160" y="352"/>
                    </a:lnTo>
                    <a:lnTo>
                      <a:pt x="1160" y="918"/>
                    </a:lnTo>
                    <a:lnTo>
                      <a:pt x="1196" y="1160"/>
                    </a:lnTo>
                    <a:lnTo>
                      <a:pt x="1196" y="1090"/>
                    </a:lnTo>
                    <a:lnTo>
                      <a:pt x="1231" y="1372"/>
                    </a:lnTo>
                    <a:lnTo>
                      <a:pt x="1231" y="1549"/>
                    </a:lnTo>
                    <a:lnTo>
                      <a:pt x="1266" y="1513"/>
                    </a:lnTo>
                    <a:lnTo>
                      <a:pt x="1266" y="1585"/>
                    </a:lnTo>
                    <a:lnTo>
                      <a:pt x="1302" y="1796"/>
                    </a:lnTo>
                    <a:lnTo>
                      <a:pt x="1302" y="1937"/>
                    </a:lnTo>
                    <a:lnTo>
                      <a:pt x="1338" y="1620"/>
                    </a:lnTo>
                    <a:lnTo>
                      <a:pt x="1338" y="1867"/>
                    </a:lnTo>
                    <a:lnTo>
                      <a:pt x="1373" y="1973"/>
                    </a:lnTo>
                    <a:lnTo>
                      <a:pt x="1408" y="1761"/>
                    </a:lnTo>
                    <a:lnTo>
                      <a:pt x="1408" y="1726"/>
                    </a:lnTo>
                    <a:lnTo>
                      <a:pt x="1443" y="1973"/>
                    </a:lnTo>
                    <a:lnTo>
                      <a:pt x="1479" y="1796"/>
                    </a:lnTo>
                    <a:lnTo>
                      <a:pt x="1479" y="1726"/>
                    </a:lnTo>
                    <a:lnTo>
                      <a:pt x="1514" y="2008"/>
                    </a:lnTo>
                    <a:lnTo>
                      <a:pt x="1549" y="1761"/>
                    </a:lnTo>
                    <a:lnTo>
                      <a:pt x="1549" y="1902"/>
                    </a:lnTo>
                    <a:lnTo>
                      <a:pt x="1549" y="2043"/>
                    </a:lnTo>
                    <a:lnTo>
                      <a:pt x="1585" y="2008"/>
                    </a:lnTo>
                    <a:lnTo>
                      <a:pt x="1585" y="1832"/>
                    </a:lnTo>
                    <a:lnTo>
                      <a:pt x="1620" y="1832"/>
                    </a:lnTo>
                    <a:lnTo>
                      <a:pt x="1620" y="1973"/>
                    </a:lnTo>
                    <a:lnTo>
                      <a:pt x="1655" y="1973"/>
                    </a:lnTo>
                    <a:lnTo>
                      <a:pt x="1655" y="1902"/>
                    </a:lnTo>
                    <a:lnTo>
                      <a:pt x="1690" y="1796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67760" y="2028960"/>
                <a:ext cx="608400" cy="709920"/>
              </a:xfrm>
              <a:custGeom>
                <a:avLst/>
                <a:gdLst/>
                <a:ahLst/>
                <a:rect l="0" t="0" r="r" b="b"/>
                <a:pathLst>
                  <a:path fill="none" w="1690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52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52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52"/>
                    </a:lnTo>
                    <a:lnTo>
                      <a:pt x="424" y="317"/>
                    </a:lnTo>
                    <a:lnTo>
                      <a:pt x="424" y="423"/>
                    </a:lnTo>
                    <a:lnTo>
                      <a:pt x="459" y="423"/>
                    </a:lnTo>
                    <a:lnTo>
                      <a:pt x="459" y="317"/>
                    </a:lnTo>
                    <a:lnTo>
                      <a:pt x="494" y="352"/>
                    </a:lnTo>
                    <a:lnTo>
                      <a:pt x="494" y="388"/>
                    </a:lnTo>
                    <a:lnTo>
                      <a:pt x="530" y="493"/>
                    </a:lnTo>
                    <a:lnTo>
                      <a:pt x="530" y="352"/>
                    </a:lnTo>
                    <a:lnTo>
                      <a:pt x="565" y="388"/>
                    </a:lnTo>
                    <a:lnTo>
                      <a:pt x="565" y="529"/>
                    </a:lnTo>
                    <a:lnTo>
                      <a:pt x="600" y="599"/>
                    </a:lnTo>
                    <a:lnTo>
                      <a:pt x="600" y="458"/>
                    </a:lnTo>
                    <a:lnTo>
                      <a:pt x="600" y="352"/>
                    </a:lnTo>
                    <a:lnTo>
                      <a:pt x="636" y="599"/>
                    </a:lnTo>
                    <a:lnTo>
                      <a:pt x="636" y="564"/>
                    </a:lnTo>
                    <a:lnTo>
                      <a:pt x="671" y="458"/>
                    </a:lnTo>
                    <a:lnTo>
                      <a:pt x="706" y="493"/>
                    </a:lnTo>
                    <a:lnTo>
                      <a:pt x="706" y="705"/>
                    </a:lnTo>
                    <a:lnTo>
                      <a:pt x="741" y="529"/>
                    </a:lnTo>
                    <a:lnTo>
                      <a:pt x="741" y="458"/>
                    </a:lnTo>
                    <a:lnTo>
                      <a:pt x="777" y="670"/>
                    </a:lnTo>
                    <a:lnTo>
                      <a:pt x="777" y="740"/>
                    </a:lnTo>
                    <a:lnTo>
                      <a:pt x="812" y="635"/>
                    </a:lnTo>
                    <a:lnTo>
                      <a:pt x="812" y="529"/>
                    </a:lnTo>
                    <a:lnTo>
                      <a:pt x="847" y="776"/>
                    </a:lnTo>
                    <a:lnTo>
                      <a:pt x="847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46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2" y="1125"/>
                    </a:lnTo>
                    <a:lnTo>
                      <a:pt x="1307" y="1090"/>
                    </a:lnTo>
                    <a:lnTo>
                      <a:pt x="1307" y="1125"/>
                    </a:lnTo>
                    <a:lnTo>
                      <a:pt x="1342" y="1231"/>
                    </a:lnTo>
                    <a:lnTo>
                      <a:pt x="1342" y="1196"/>
                    </a:lnTo>
                    <a:lnTo>
                      <a:pt x="1377" y="1301"/>
                    </a:lnTo>
                    <a:lnTo>
                      <a:pt x="1413" y="1478"/>
                    </a:lnTo>
                    <a:lnTo>
                      <a:pt x="1413" y="1407"/>
                    </a:lnTo>
                    <a:lnTo>
                      <a:pt x="1448" y="1407"/>
                    </a:lnTo>
                    <a:lnTo>
                      <a:pt x="1448" y="1513"/>
                    </a:lnTo>
                    <a:lnTo>
                      <a:pt x="1483" y="1584"/>
                    </a:lnTo>
                    <a:lnTo>
                      <a:pt x="1483" y="1548"/>
                    </a:lnTo>
                    <a:lnTo>
                      <a:pt x="1518" y="1478"/>
                    </a:lnTo>
                    <a:lnTo>
                      <a:pt x="1518" y="1619"/>
                    </a:lnTo>
                    <a:lnTo>
                      <a:pt x="1554" y="1795"/>
                    </a:lnTo>
                    <a:lnTo>
                      <a:pt x="1554" y="1654"/>
                    </a:lnTo>
                    <a:lnTo>
                      <a:pt x="1589" y="1689"/>
                    </a:lnTo>
                    <a:lnTo>
                      <a:pt x="1589" y="1760"/>
                    </a:lnTo>
                    <a:lnTo>
                      <a:pt x="1624" y="1866"/>
                    </a:lnTo>
                    <a:lnTo>
                      <a:pt x="1624" y="1760"/>
                    </a:lnTo>
                    <a:lnTo>
                      <a:pt x="1660" y="1725"/>
                    </a:lnTo>
                    <a:lnTo>
                      <a:pt x="1660" y="1901"/>
                    </a:lnTo>
                    <a:lnTo>
                      <a:pt x="1690" y="1972"/>
                    </a:lnTo>
                    <a:lnTo>
                      <a:pt x="1690" y="1831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67760" y="2028960"/>
                <a:ext cx="608400" cy="709920"/>
              </a:xfrm>
              <a:custGeom>
                <a:avLst/>
                <a:gdLst/>
                <a:ahLst/>
                <a:rect l="0" t="0" r="r" b="b"/>
                <a:pathLst>
                  <a:path fill="none" w="1690" h="1972">
                    <a:moveTo>
                      <a:pt x="0" y="0"/>
                    </a:moveTo>
                    <a:lnTo>
                      <a:pt x="0" y="141"/>
                    </a:lnTo>
                    <a:lnTo>
                      <a:pt x="35" y="317"/>
                    </a:lnTo>
                    <a:lnTo>
                      <a:pt x="35" y="105"/>
                    </a:lnTo>
                    <a:lnTo>
                      <a:pt x="70" y="70"/>
                    </a:lnTo>
                    <a:lnTo>
                      <a:pt x="70" y="246"/>
                    </a:lnTo>
                    <a:lnTo>
                      <a:pt x="105" y="317"/>
                    </a:lnTo>
                    <a:lnTo>
                      <a:pt x="105" y="70"/>
                    </a:lnTo>
                    <a:lnTo>
                      <a:pt x="141" y="35"/>
                    </a:lnTo>
                    <a:lnTo>
                      <a:pt x="141" y="282"/>
                    </a:lnTo>
                    <a:lnTo>
                      <a:pt x="176" y="423"/>
                    </a:lnTo>
                    <a:lnTo>
                      <a:pt x="176" y="246"/>
                    </a:lnTo>
                    <a:lnTo>
                      <a:pt x="211" y="105"/>
                    </a:lnTo>
                    <a:lnTo>
                      <a:pt x="211" y="317"/>
                    </a:lnTo>
                    <a:lnTo>
                      <a:pt x="246" y="388"/>
                    </a:lnTo>
                    <a:lnTo>
                      <a:pt x="246" y="246"/>
                    </a:lnTo>
                    <a:lnTo>
                      <a:pt x="282" y="105"/>
                    </a:lnTo>
                    <a:lnTo>
                      <a:pt x="282" y="317"/>
                    </a:lnTo>
                    <a:lnTo>
                      <a:pt x="317" y="423"/>
                    </a:lnTo>
                    <a:lnTo>
                      <a:pt x="317" y="246"/>
                    </a:lnTo>
                    <a:lnTo>
                      <a:pt x="352" y="211"/>
                    </a:lnTo>
                    <a:lnTo>
                      <a:pt x="352" y="388"/>
                    </a:lnTo>
                    <a:lnTo>
                      <a:pt x="388" y="423"/>
                    </a:lnTo>
                    <a:lnTo>
                      <a:pt x="388" y="317"/>
                    </a:lnTo>
                    <a:lnTo>
                      <a:pt x="424" y="317"/>
                    </a:lnTo>
                    <a:lnTo>
                      <a:pt x="424" y="423"/>
                    </a:lnTo>
                    <a:lnTo>
                      <a:pt x="459" y="423"/>
                    </a:lnTo>
                    <a:lnTo>
                      <a:pt x="459" y="317"/>
                    </a:lnTo>
                    <a:lnTo>
                      <a:pt x="494" y="352"/>
                    </a:lnTo>
                    <a:lnTo>
                      <a:pt x="494" y="388"/>
                    </a:lnTo>
                    <a:lnTo>
                      <a:pt x="530" y="493"/>
                    </a:lnTo>
                    <a:lnTo>
                      <a:pt x="530" y="317"/>
                    </a:lnTo>
                    <a:lnTo>
                      <a:pt x="565" y="388"/>
                    </a:lnTo>
                    <a:lnTo>
                      <a:pt x="565" y="529"/>
                    </a:lnTo>
                    <a:lnTo>
                      <a:pt x="600" y="564"/>
                    </a:lnTo>
                    <a:lnTo>
                      <a:pt x="600" y="458"/>
                    </a:lnTo>
                    <a:lnTo>
                      <a:pt x="600" y="352"/>
                    </a:lnTo>
                    <a:lnTo>
                      <a:pt x="636" y="564"/>
                    </a:lnTo>
                    <a:lnTo>
                      <a:pt x="671" y="458"/>
                    </a:lnTo>
                    <a:lnTo>
                      <a:pt x="706" y="493"/>
                    </a:lnTo>
                    <a:lnTo>
                      <a:pt x="706" y="705"/>
                    </a:lnTo>
                    <a:lnTo>
                      <a:pt x="741" y="529"/>
                    </a:lnTo>
                    <a:lnTo>
                      <a:pt x="741" y="458"/>
                    </a:lnTo>
                    <a:lnTo>
                      <a:pt x="777" y="670"/>
                    </a:lnTo>
                    <a:lnTo>
                      <a:pt x="777" y="740"/>
                    </a:lnTo>
                    <a:lnTo>
                      <a:pt x="812" y="635"/>
                    </a:lnTo>
                    <a:lnTo>
                      <a:pt x="812" y="529"/>
                    </a:lnTo>
                    <a:lnTo>
                      <a:pt x="847" y="776"/>
                    </a:lnTo>
                    <a:lnTo>
                      <a:pt x="847" y="740"/>
                    </a:lnTo>
                    <a:lnTo>
                      <a:pt x="882" y="564"/>
                    </a:lnTo>
                    <a:lnTo>
                      <a:pt x="882" y="740"/>
                    </a:lnTo>
                    <a:lnTo>
                      <a:pt x="918" y="776"/>
                    </a:lnTo>
                    <a:lnTo>
                      <a:pt x="918" y="740"/>
                    </a:lnTo>
                    <a:lnTo>
                      <a:pt x="953" y="705"/>
                    </a:lnTo>
                    <a:lnTo>
                      <a:pt x="953" y="670"/>
                    </a:lnTo>
                    <a:lnTo>
                      <a:pt x="988" y="811"/>
                    </a:lnTo>
                    <a:lnTo>
                      <a:pt x="988" y="988"/>
                    </a:lnTo>
                    <a:lnTo>
                      <a:pt x="1024" y="811"/>
                    </a:lnTo>
                    <a:lnTo>
                      <a:pt x="1024" y="776"/>
                    </a:lnTo>
                    <a:lnTo>
                      <a:pt x="1059" y="776"/>
                    </a:lnTo>
                    <a:lnTo>
                      <a:pt x="1059" y="917"/>
                    </a:lnTo>
                    <a:lnTo>
                      <a:pt x="1094" y="846"/>
                    </a:lnTo>
                    <a:lnTo>
                      <a:pt x="1094" y="740"/>
                    </a:lnTo>
                    <a:lnTo>
                      <a:pt x="1129" y="917"/>
                    </a:lnTo>
                    <a:lnTo>
                      <a:pt x="1129" y="988"/>
                    </a:lnTo>
                    <a:lnTo>
                      <a:pt x="1165" y="881"/>
                    </a:lnTo>
                    <a:lnTo>
                      <a:pt x="1165" y="917"/>
                    </a:lnTo>
                    <a:lnTo>
                      <a:pt x="1200" y="1054"/>
                    </a:lnTo>
                    <a:lnTo>
                      <a:pt x="1200" y="1196"/>
                    </a:lnTo>
                    <a:lnTo>
                      <a:pt x="1235" y="988"/>
                    </a:lnTo>
                    <a:lnTo>
                      <a:pt x="1235" y="1024"/>
                    </a:lnTo>
                    <a:lnTo>
                      <a:pt x="1272" y="1125"/>
                    </a:lnTo>
                    <a:lnTo>
                      <a:pt x="1307" y="1054"/>
                    </a:lnTo>
                    <a:lnTo>
                      <a:pt x="1307" y="1125"/>
                    </a:lnTo>
                    <a:lnTo>
                      <a:pt x="1342" y="1231"/>
                    </a:lnTo>
                    <a:lnTo>
                      <a:pt x="1342" y="1196"/>
                    </a:lnTo>
                    <a:lnTo>
                      <a:pt x="1377" y="1301"/>
                    </a:lnTo>
                    <a:lnTo>
                      <a:pt x="1413" y="1478"/>
                    </a:lnTo>
                    <a:lnTo>
                      <a:pt x="1413" y="1407"/>
                    </a:lnTo>
                    <a:lnTo>
                      <a:pt x="1448" y="1407"/>
                    </a:lnTo>
                    <a:lnTo>
                      <a:pt x="1448" y="1513"/>
                    </a:lnTo>
                    <a:lnTo>
                      <a:pt x="1483" y="1548"/>
                    </a:lnTo>
                    <a:lnTo>
                      <a:pt x="1518" y="1478"/>
                    </a:lnTo>
                    <a:lnTo>
                      <a:pt x="1518" y="1619"/>
                    </a:lnTo>
                    <a:lnTo>
                      <a:pt x="1554" y="1795"/>
                    </a:lnTo>
                    <a:lnTo>
                      <a:pt x="1554" y="1654"/>
                    </a:lnTo>
                    <a:lnTo>
                      <a:pt x="1589" y="1689"/>
                    </a:lnTo>
                    <a:lnTo>
                      <a:pt x="1589" y="1760"/>
                    </a:lnTo>
                    <a:lnTo>
                      <a:pt x="1624" y="1866"/>
                    </a:lnTo>
                    <a:lnTo>
                      <a:pt x="1624" y="1760"/>
                    </a:lnTo>
                    <a:lnTo>
                      <a:pt x="1660" y="1725"/>
                    </a:lnTo>
                    <a:lnTo>
                      <a:pt x="1660" y="1901"/>
                    </a:lnTo>
                    <a:lnTo>
                      <a:pt x="1690" y="1972"/>
                    </a:lnTo>
                    <a:lnTo>
                      <a:pt x="1690" y="1795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7544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12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42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42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75440" y="266220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fill="none" w="248" h="319">
                    <a:moveTo>
                      <a:pt x="0" y="70"/>
                    </a:moveTo>
                    <a:lnTo>
                      <a:pt x="35" y="0"/>
                    </a:lnTo>
                    <a:lnTo>
                      <a:pt x="35" y="177"/>
                    </a:lnTo>
                    <a:lnTo>
                      <a:pt x="71" y="248"/>
                    </a:lnTo>
                    <a:lnTo>
                      <a:pt x="71" y="106"/>
                    </a:lnTo>
                    <a:lnTo>
                      <a:pt x="106" y="70"/>
                    </a:lnTo>
                    <a:lnTo>
                      <a:pt x="106" y="248"/>
                    </a:lnTo>
                    <a:lnTo>
                      <a:pt x="142" y="319"/>
                    </a:lnTo>
                    <a:lnTo>
                      <a:pt x="142" y="177"/>
                    </a:lnTo>
                    <a:lnTo>
                      <a:pt x="177" y="106"/>
                    </a:lnTo>
                    <a:lnTo>
                      <a:pt x="177" y="248"/>
                    </a:lnTo>
                    <a:lnTo>
                      <a:pt x="213" y="248"/>
                    </a:lnTo>
                    <a:lnTo>
                      <a:pt x="213" y="177"/>
                    </a:lnTo>
                    <a:lnTo>
                      <a:pt x="248" y="70"/>
                    </a:lnTo>
                    <a:lnTo>
                      <a:pt x="248" y="248"/>
                    </a:lnTo>
                  </a:path>
                </a:pathLst>
              </a:custGeom>
              <a:ln w="12600">
                <a:solidFill>
                  <a:srgbClr val="7f7f7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3209760" y="2967120"/>
            <a:ext cx="4094640" cy="125640"/>
            <a:chOff x="3209760" y="2967120"/>
            <a:chExt cx="4094640" cy="125640"/>
          </a:xfrm>
        </p:grpSpPr>
        <p:sp>
          <p:nvSpPr>
            <p:cNvPr id="362" name=""/>
            <p:cNvSpPr/>
            <p:nvPr/>
          </p:nvSpPr>
          <p:spPr>
            <a:xfrm>
              <a:off x="3209760" y="2967120"/>
              <a:ext cx="138600" cy="125640"/>
            </a:xfrm>
            <a:custGeom>
              <a:avLst/>
              <a:gdLst/>
              <a:ahLst/>
              <a:rect l="0" t="0" r="r" b="b"/>
              <a:pathLst>
                <a:path w="385" h="349">
                  <a:moveTo>
                    <a:pt x="0" y="177"/>
                  </a:moveTo>
                  <a:lnTo>
                    <a:pt x="385" y="0"/>
                  </a:lnTo>
                  <a:lnTo>
                    <a:pt x="247" y="177"/>
                  </a:lnTo>
                  <a:lnTo>
                    <a:pt x="385" y="34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64360" y="2967120"/>
              <a:ext cx="140040" cy="125640"/>
            </a:xfrm>
            <a:custGeom>
              <a:avLst/>
              <a:gdLst/>
              <a:ahLst/>
              <a:rect l="0" t="0" r="r" b="b"/>
              <a:pathLst>
                <a:path w="389" h="349">
                  <a:moveTo>
                    <a:pt x="389" y="177"/>
                  </a:moveTo>
                  <a:lnTo>
                    <a:pt x="0" y="349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8680" y="3030480"/>
              <a:ext cx="391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870440" y="2878200"/>
            <a:ext cx="925920" cy="265320"/>
          </a:xfrm>
          <a:custGeom>
            <a:avLst/>
            <a:gdLst/>
            <a:ahLst/>
            <a:rect l="0" t="0" r="r" b="b"/>
            <a:pathLst>
              <a:path w="2572" h="737">
                <a:moveTo>
                  <a:pt x="0" y="0"/>
                </a:moveTo>
                <a:lnTo>
                  <a:pt x="2572" y="0"/>
                </a:lnTo>
                <a:lnTo>
                  <a:pt x="2572" y="737"/>
                </a:lnTo>
                <a:lnTo>
                  <a:pt x="0" y="73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78280" y="28400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05360" y="28400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32440" y="28400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157720" y="28400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221440" y="284004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411880" y="28400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6760" y="28400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741840" y="1103400"/>
            <a:ext cx="1014480" cy="127440"/>
            <a:chOff x="3741840" y="1103400"/>
            <a:chExt cx="1014480" cy="127440"/>
          </a:xfrm>
        </p:grpSpPr>
        <p:sp>
          <p:nvSpPr>
            <p:cNvPr id="374" name=""/>
            <p:cNvSpPr/>
            <p:nvPr/>
          </p:nvSpPr>
          <p:spPr>
            <a:xfrm>
              <a:off x="3741840" y="110340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0" y="177"/>
                  </a:moveTo>
                  <a:lnTo>
                    <a:pt x="389" y="0"/>
                  </a:lnTo>
                  <a:lnTo>
                    <a:pt x="247" y="177"/>
                  </a:lnTo>
                  <a:lnTo>
                    <a:pt x="389" y="354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16280" y="110340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389" y="177"/>
                  </a:moveTo>
                  <a:lnTo>
                    <a:pt x="0" y="354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30760" y="1166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995640" y="939960"/>
            <a:ext cx="621000" cy="214560"/>
          </a:xfrm>
          <a:custGeom>
            <a:avLst/>
            <a:gdLst/>
            <a:ahLst/>
            <a:rect l="0" t="0" r="r" b="b"/>
            <a:pathLst>
              <a:path w="1725" h="596">
                <a:moveTo>
                  <a:pt x="0" y="0"/>
                </a:moveTo>
                <a:lnTo>
                  <a:pt x="1725" y="0"/>
                </a:lnTo>
                <a:lnTo>
                  <a:pt x="1725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903840" y="8967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05360" y="8967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106880" y="896760"/>
            <a:ext cx="2332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45040" y="896760"/>
            <a:ext cx="331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95880" y="896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422600" y="8967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373480" y="2535120"/>
            <a:ext cx="5805720" cy="127440"/>
            <a:chOff x="2373480" y="2535120"/>
            <a:chExt cx="5805720" cy="127440"/>
          </a:xfrm>
        </p:grpSpPr>
        <p:sp>
          <p:nvSpPr>
            <p:cNvPr id="385" name=""/>
            <p:cNvSpPr/>
            <p:nvPr/>
          </p:nvSpPr>
          <p:spPr>
            <a:xfrm>
              <a:off x="8039160" y="253512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389" y="177"/>
                  </a:moveTo>
                  <a:lnTo>
                    <a:pt x="0" y="354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3480" y="2598840"/>
              <a:ext cx="571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 txBox="1"/>
          <p:nvPr/>
        </p:nvSpPr>
        <p:spPr>
          <a:xfrm>
            <a:off x="1127160" y="134604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305000" y="134604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55840" y="134604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08120" y="134604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760400" y="13460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36720" y="134604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014560" y="134604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54240" y="13460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317680" y="134604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27160" y="1992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54240" y="1992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379520" y="19922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42880" y="199224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633680" y="1992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60400" y="1992240"/>
            <a:ext cx="235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811160" y="19922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874880" y="19922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938240" y="1992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127160" y="172080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266840" y="172080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366920" y="17208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506600" y="1720800"/>
            <a:ext cx="331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646280" y="1720800"/>
            <a:ext cx="2332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97040" y="1720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798560" y="172080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849320" y="172080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900080" y="1720800"/>
            <a:ext cx="223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938240" y="17208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027160" y="1720800"/>
            <a:ext cx="223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065320" y="1720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66840" y="1720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255760" y="17208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343240" y="17208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2160" y="16747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495520" y="1674720"/>
            <a:ext cx="317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635200" y="16747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698920" y="16747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25640" y="16747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889360" y="16747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35320" y="5538960"/>
            <a:ext cx="57927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41840" y="1052640"/>
            <a:ext cx="25920" cy="4588200"/>
          </a:xfrm>
          <a:custGeom>
            <a:avLst/>
            <a:gdLst/>
            <a:ahLst/>
            <a:rect l="0" t="0" r="r" b="b"/>
            <a:pathLst>
              <a:path w="72" h="12745">
                <a:moveTo>
                  <a:pt x="0" y="0"/>
                </a:moveTo>
                <a:lnTo>
                  <a:pt x="72" y="0"/>
                </a:lnTo>
                <a:lnTo>
                  <a:pt x="72" y="12745"/>
                </a:lnTo>
                <a:lnTo>
                  <a:pt x="0" y="1274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56320" y="1052640"/>
            <a:ext cx="25920" cy="4588200"/>
          </a:xfrm>
          <a:custGeom>
            <a:avLst/>
            <a:gdLst/>
            <a:ahLst/>
            <a:rect l="0" t="0" r="r" b="b"/>
            <a:pathLst>
              <a:path w="72" h="12745">
                <a:moveTo>
                  <a:pt x="0" y="0"/>
                </a:moveTo>
                <a:lnTo>
                  <a:pt x="72" y="0"/>
                </a:lnTo>
                <a:lnTo>
                  <a:pt x="72" y="12745"/>
                </a:lnTo>
                <a:lnTo>
                  <a:pt x="0" y="1274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35320" y="3827520"/>
            <a:ext cx="290880" cy="1711800"/>
          </a:xfrm>
          <a:custGeom>
            <a:avLst/>
            <a:gdLst/>
            <a:ahLst/>
            <a:rect l="0" t="0" r="r" b="b"/>
            <a:pathLst>
              <a:path w="808" h="4755">
                <a:moveTo>
                  <a:pt x="0" y="0"/>
                </a:moveTo>
                <a:lnTo>
                  <a:pt x="808" y="0"/>
                </a:lnTo>
                <a:lnTo>
                  <a:pt x="808" y="4755"/>
                </a:lnTo>
                <a:lnTo>
                  <a:pt x="0" y="475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291440" y="1092240"/>
            <a:ext cx="12600" cy="4573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209760" y="1090440"/>
            <a:ext cx="0" cy="457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76600" y="4132440"/>
            <a:ext cx="2535840" cy="1381320"/>
            <a:chOff x="2676600" y="4132440"/>
            <a:chExt cx="2535840" cy="1381320"/>
          </a:xfrm>
        </p:grpSpPr>
        <p:sp>
          <p:nvSpPr>
            <p:cNvPr id="433" name=""/>
            <p:cNvSpPr/>
            <p:nvPr/>
          </p:nvSpPr>
          <p:spPr>
            <a:xfrm>
              <a:off x="26766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867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20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20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25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36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388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41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41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766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902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55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55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60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71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423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76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76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860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1" y="1796"/>
                  </a:lnTo>
                  <a:lnTo>
                    <a:pt x="101" y="1867"/>
                  </a:lnTo>
                  <a:lnTo>
                    <a:pt x="136" y="2008"/>
                  </a:lnTo>
                  <a:lnTo>
                    <a:pt x="136" y="2078"/>
                  </a:lnTo>
                  <a:lnTo>
                    <a:pt x="171" y="1867"/>
                  </a:lnTo>
                  <a:lnTo>
                    <a:pt x="171" y="1973"/>
                  </a:lnTo>
                  <a:lnTo>
                    <a:pt x="207" y="1973"/>
                  </a:lnTo>
                  <a:lnTo>
                    <a:pt x="207" y="2114"/>
                  </a:lnTo>
                  <a:lnTo>
                    <a:pt x="242" y="1832"/>
                  </a:lnTo>
                  <a:lnTo>
                    <a:pt x="242" y="1796"/>
                  </a:lnTo>
                  <a:lnTo>
                    <a:pt x="277" y="1973"/>
                  </a:lnTo>
                  <a:lnTo>
                    <a:pt x="277" y="1973"/>
                  </a:lnTo>
                  <a:lnTo>
                    <a:pt x="313" y="1726"/>
                  </a:lnTo>
                  <a:lnTo>
                    <a:pt x="313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860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1" y="1796"/>
                  </a:lnTo>
                  <a:lnTo>
                    <a:pt x="101" y="1867"/>
                  </a:lnTo>
                  <a:lnTo>
                    <a:pt x="136" y="2008"/>
                  </a:lnTo>
                  <a:lnTo>
                    <a:pt x="136" y="2078"/>
                  </a:lnTo>
                  <a:lnTo>
                    <a:pt x="171" y="1867"/>
                  </a:lnTo>
                  <a:lnTo>
                    <a:pt x="171" y="1973"/>
                  </a:lnTo>
                  <a:lnTo>
                    <a:pt x="207" y="1973"/>
                  </a:lnTo>
                  <a:lnTo>
                    <a:pt x="207" y="2114"/>
                  </a:lnTo>
                  <a:lnTo>
                    <a:pt x="242" y="1832"/>
                  </a:lnTo>
                  <a:lnTo>
                    <a:pt x="242" y="1796"/>
                  </a:lnTo>
                  <a:lnTo>
                    <a:pt x="277" y="1973"/>
                  </a:lnTo>
                  <a:lnTo>
                    <a:pt x="313" y="1726"/>
                  </a:lnTo>
                  <a:lnTo>
                    <a:pt x="313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67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52"/>
                  </a:lnTo>
                  <a:lnTo>
                    <a:pt x="35" y="105"/>
                  </a:lnTo>
                  <a:lnTo>
                    <a:pt x="35" y="70"/>
                  </a:lnTo>
                  <a:lnTo>
                    <a:pt x="70" y="282"/>
                  </a:lnTo>
                  <a:lnTo>
                    <a:pt x="70" y="352"/>
                  </a:lnTo>
                  <a:lnTo>
                    <a:pt x="105" y="141"/>
                  </a:lnTo>
                  <a:lnTo>
                    <a:pt x="105" y="70"/>
                  </a:lnTo>
                  <a:lnTo>
                    <a:pt x="105" y="282"/>
                  </a:lnTo>
                  <a:lnTo>
                    <a:pt x="141" y="388"/>
                  </a:lnTo>
                  <a:lnTo>
                    <a:pt x="141" y="141"/>
                  </a:lnTo>
                  <a:lnTo>
                    <a:pt x="176" y="105"/>
                  </a:lnTo>
                  <a:lnTo>
                    <a:pt x="176" y="246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41"/>
                  </a:lnTo>
                  <a:lnTo>
                    <a:pt x="246" y="282"/>
                  </a:lnTo>
                  <a:lnTo>
                    <a:pt x="282" y="246"/>
                  </a:lnTo>
                  <a:lnTo>
                    <a:pt x="282" y="105"/>
                  </a:lnTo>
                  <a:lnTo>
                    <a:pt x="317" y="70"/>
                  </a:lnTo>
                  <a:lnTo>
                    <a:pt x="317" y="352"/>
                  </a:lnTo>
                  <a:lnTo>
                    <a:pt x="352" y="317"/>
                  </a:lnTo>
                  <a:lnTo>
                    <a:pt x="352" y="70"/>
                  </a:lnTo>
                  <a:lnTo>
                    <a:pt x="388" y="141"/>
                  </a:lnTo>
                  <a:lnTo>
                    <a:pt x="388" y="246"/>
                  </a:lnTo>
                  <a:lnTo>
                    <a:pt x="424" y="423"/>
                  </a:lnTo>
                  <a:lnTo>
                    <a:pt x="424" y="141"/>
                  </a:lnTo>
                  <a:lnTo>
                    <a:pt x="459" y="70"/>
                  </a:lnTo>
                  <a:lnTo>
                    <a:pt x="459" y="317"/>
                  </a:lnTo>
                  <a:lnTo>
                    <a:pt x="494" y="317"/>
                  </a:lnTo>
                  <a:lnTo>
                    <a:pt x="494" y="105"/>
                  </a:lnTo>
                  <a:lnTo>
                    <a:pt x="530" y="141"/>
                  </a:lnTo>
                  <a:lnTo>
                    <a:pt x="530" y="246"/>
                  </a:lnTo>
                  <a:lnTo>
                    <a:pt x="565" y="352"/>
                  </a:lnTo>
                  <a:lnTo>
                    <a:pt x="565" y="176"/>
                  </a:lnTo>
                  <a:lnTo>
                    <a:pt x="600" y="141"/>
                  </a:lnTo>
                  <a:lnTo>
                    <a:pt x="600" y="246"/>
                  </a:lnTo>
                  <a:lnTo>
                    <a:pt x="636" y="388"/>
                  </a:lnTo>
                  <a:lnTo>
                    <a:pt x="636" y="70"/>
                  </a:lnTo>
                  <a:lnTo>
                    <a:pt x="671" y="35"/>
                  </a:lnTo>
                  <a:lnTo>
                    <a:pt x="671" y="317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41"/>
                  </a:lnTo>
                  <a:lnTo>
                    <a:pt x="741" y="423"/>
                  </a:lnTo>
                  <a:lnTo>
                    <a:pt x="777" y="282"/>
                  </a:lnTo>
                  <a:lnTo>
                    <a:pt x="777" y="70"/>
                  </a:lnTo>
                  <a:lnTo>
                    <a:pt x="812" y="141"/>
                  </a:lnTo>
                  <a:lnTo>
                    <a:pt x="812" y="352"/>
                  </a:lnTo>
                  <a:lnTo>
                    <a:pt x="847" y="105"/>
                  </a:lnTo>
                  <a:lnTo>
                    <a:pt x="847" y="141"/>
                  </a:lnTo>
                  <a:lnTo>
                    <a:pt x="882" y="282"/>
                  </a:lnTo>
                  <a:lnTo>
                    <a:pt x="882" y="246"/>
                  </a:lnTo>
                  <a:lnTo>
                    <a:pt x="918" y="176"/>
                  </a:lnTo>
                  <a:lnTo>
                    <a:pt x="918" y="105"/>
                  </a:lnTo>
                  <a:lnTo>
                    <a:pt x="949" y="352"/>
                  </a:lnTo>
                  <a:lnTo>
                    <a:pt x="949" y="317"/>
                  </a:lnTo>
                  <a:lnTo>
                    <a:pt x="984" y="176"/>
                  </a:lnTo>
                  <a:lnTo>
                    <a:pt x="984" y="70"/>
                  </a:lnTo>
                  <a:lnTo>
                    <a:pt x="1019" y="246"/>
                  </a:lnTo>
                  <a:lnTo>
                    <a:pt x="1019" y="282"/>
                  </a:lnTo>
                  <a:lnTo>
                    <a:pt x="1054" y="176"/>
                  </a:lnTo>
                  <a:lnTo>
                    <a:pt x="1054" y="141"/>
                  </a:lnTo>
                  <a:lnTo>
                    <a:pt x="1090" y="246"/>
                  </a:lnTo>
                  <a:lnTo>
                    <a:pt x="1090" y="317"/>
                  </a:lnTo>
                  <a:lnTo>
                    <a:pt x="1125" y="176"/>
                  </a:lnTo>
                  <a:lnTo>
                    <a:pt x="1160" y="317"/>
                  </a:lnTo>
                  <a:lnTo>
                    <a:pt x="1160" y="913"/>
                  </a:lnTo>
                  <a:lnTo>
                    <a:pt x="1196" y="1160"/>
                  </a:lnTo>
                  <a:lnTo>
                    <a:pt x="1196" y="1054"/>
                  </a:lnTo>
                  <a:lnTo>
                    <a:pt x="1231" y="1337"/>
                  </a:lnTo>
                  <a:lnTo>
                    <a:pt x="1231" y="1513"/>
                  </a:lnTo>
                  <a:lnTo>
                    <a:pt x="1266" y="1478"/>
                  </a:lnTo>
                  <a:lnTo>
                    <a:pt x="1266" y="1549"/>
                  </a:lnTo>
                  <a:lnTo>
                    <a:pt x="1302" y="1796"/>
                  </a:lnTo>
                  <a:lnTo>
                    <a:pt x="1302" y="1902"/>
                  </a:lnTo>
                  <a:lnTo>
                    <a:pt x="1338" y="1585"/>
                  </a:lnTo>
                  <a:lnTo>
                    <a:pt x="1338" y="1832"/>
                  </a:lnTo>
                  <a:lnTo>
                    <a:pt x="1373" y="1937"/>
                  </a:lnTo>
                  <a:lnTo>
                    <a:pt x="1373" y="1973"/>
                  </a:lnTo>
                  <a:lnTo>
                    <a:pt x="1408" y="1726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690"/>
                  </a:lnTo>
                  <a:lnTo>
                    <a:pt x="1514" y="1973"/>
                  </a:lnTo>
                  <a:lnTo>
                    <a:pt x="1549" y="1726"/>
                  </a:lnTo>
                  <a:lnTo>
                    <a:pt x="1549" y="1867"/>
                  </a:lnTo>
                  <a:lnTo>
                    <a:pt x="1549" y="2043"/>
                  </a:lnTo>
                  <a:lnTo>
                    <a:pt x="1585" y="1973"/>
                  </a:lnTo>
                  <a:lnTo>
                    <a:pt x="1585" y="1796"/>
                  </a:lnTo>
                  <a:lnTo>
                    <a:pt x="1620" y="1796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67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88"/>
                  </a:lnTo>
                  <a:lnTo>
                    <a:pt x="35" y="141"/>
                  </a:lnTo>
                  <a:lnTo>
                    <a:pt x="35" y="105"/>
                  </a:lnTo>
                  <a:lnTo>
                    <a:pt x="70" y="317"/>
                  </a:lnTo>
                  <a:lnTo>
                    <a:pt x="70" y="388"/>
                  </a:lnTo>
                  <a:lnTo>
                    <a:pt x="105" y="176"/>
                  </a:lnTo>
                  <a:lnTo>
                    <a:pt x="105" y="70"/>
                  </a:lnTo>
                  <a:lnTo>
                    <a:pt x="105" y="317"/>
                  </a:lnTo>
                  <a:lnTo>
                    <a:pt x="141" y="423"/>
                  </a:lnTo>
                  <a:lnTo>
                    <a:pt x="141" y="176"/>
                  </a:lnTo>
                  <a:lnTo>
                    <a:pt x="176" y="141"/>
                  </a:lnTo>
                  <a:lnTo>
                    <a:pt x="176" y="282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76"/>
                  </a:lnTo>
                  <a:lnTo>
                    <a:pt x="246" y="317"/>
                  </a:lnTo>
                  <a:lnTo>
                    <a:pt x="282" y="282"/>
                  </a:lnTo>
                  <a:lnTo>
                    <a:pt x="282" y="141"/>
                  </a:lnTo>
                  <a:lnTo>
                    <a:pt x="317" y="105"/>
                  </a:lnTo>
                  <a:lnTo>
                    <a:pt x="317" y="388"/>
                  </a:lnTo>
                  <a:lnTo>
                    <a:pt x="352" y="352"/>
                  </a:lnTo>
                  <a:lnTo>
                    <a:pt x="352" y="105"/>
                  </a:lnTo>
                  <a:lnTo>
                    <a:pt x="388" y="176"/>
                  </a:lnTo>
                  <a:lnTo>
                    <a:pt x="388" y="282"/>
                  </a:lnTo>
                  <a:lnTo>
                    <a:pt x="424" y="458"/>
                  </a:lnTo>
                  <a:lnTo>
                    <a:pt x="424" y="176"/>
                  </a:lnTo>
                  <a:lnTo>
                    <a:pt x="459" y="70"/>
                  </a:lnTo>
                  <a:lnTo>
                    <a:pt x="459" y="352"/>
                  </a:lnTo>
                  <a:lnTo>
                    <a:pt x="494" y="317"/>
                  </a:lnTo>
                  <a:lnTo>
                    <a:pt x="494" y="141"/>
                  </a:lnTo>
                  <a:lnTo>
                    <a:pt x="530" y="176"/>
                  </a:lnTo>
                  <a:lnTo>
                    <a:pt x="530" y="282"/>
                  </a:lnTo>
                  <a:lnTo>
                    <a:pt x="565" y="388"/>
                  </a:lnTo>
                  <a:lnTo>
                    <a:pt x="565" y="211"/>
                  </a:lnTo>
                  <a:lnTo>
                    <a:pt x="600" y="176"/>
                  </a:lnTo>
                  <a:lnTo>
                    <a:pt x="600" y="282"/>
                  </a:lnTo>
                  <a:lnTo>
                    <a:pt x="636" y="423"/>
                  </a:lnTo>
                  <a:lnTo>
                    <a:pt x="636" y="70"/>
                  </a:lnTo>
                  <a:lnTo>
                    <a:pt x="671" y="70"/>
                  </a:lnTo>
                  <a:lnTo>
                    <a:pt x="671" y="352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76"/>
                  </a:lnTo>
                  <a:lnTo>
                    <a:pt x="741" y="458"/>
                  </a:lnTo>
                  <a:lnTo>
                    <a:pt x="777" y="317"/>
                  </a:lnTo>
                  <a:lnTo>
                    <a:pt x="777" y="105"/>
                  </a:lnTo>
                  <a:lnTo>
                    <a:pt x="812" y="176"/>
                  </a:lnTo>
                  <a:lnTo>
                    <a:pt x="812" y="388"/>
                  </a:lnTo>
                  <a:lnTo>
                    <a:pt x="847" y="141"/>
                  </a:lnTo>
                  <a:lnTo>
                    <a:pt x="847" y="176"/>
                  </a:lnTo>
                  <a:lnTo>
                    <a:pt x="882" y="317"/>
                  </a:lnTo>
                  <a:lnTo>
                    <a:pt x="882" y="282"/>
                  </a:lnTo>
                  <a:lnTo>
                    <a:pt x="918" y="211"/>
                  </a:lnTo>
                  <a:lnTo>
                    <a:pt x="918" y="141"/>
                  </a:lnTo>
                  <a:lnTo>
                    <a:pt x="949" y="388"/>
                  </a:lnTo>
                  <a:lnTo>
                    <a:pt x="949" y="317"/>
                  </a:lnTo>
                  <a:lnTo>
                    <a:pt x="984" y="211"/>
                  </a:lnTo>
                  <a:lnTo>
                    <a:pt x="984" y="105"/>
                  </a:lnTo>
                  <a:lnTo>
                    <a:pt x="1019" y="282"/>
                  </a:lnTo>
                  <a:lnTo>
                    <a:pt x="1019" y="317"/>
                  </a:lnTo>
                  <a:lnTo>
                    <a:pt x="1054" y="211"/>
                  </a:lnTo>
                  <a:lnTo>
                    <a:pt x="1054" y="176"/>
                  </a:lnTo>
                  <a:lnTo>
                    <a:pt x="1090" y="246"/>
                  </a:lnTo>
                  <a:lnTo>
                    <a:pt x="1090" y="317"/>
                  </a:lnTo>
                  <a:lnTo>
                    <a:pt x="1125" y="176"/>
                  </a:lnTo>
                  <a:lnTo>
                    <a:pt x="1160" y="352"/>
                  </a:lnTo>
                  <a:lnTo>
                    <a:pt x="1160" y="913"/>
                  </a:lnTo>
                  <a:lnTo>
                    <a:pt x="1196" y="1160"/>
                  </a:lnTo>
                  <a:lnTo>
                    <a:pt x="1196" y="1090"/>
                  </a:lnTo>
                  <a:lnTo>
                    <a:pt x="1231" y="1372"/>
                  </a:lnTo>
                  <a:lnTo>
                    <a:pt x="1231" y="1549"/>
                  </a:lnTo>
                  <a:lnTo>
                    <a:pt x="1266" y="1513"/>
                  </a:lnTo>
                  <a:lnTo>
                    <a:pt x="1266" y="1585"/>
                  </a:lnTo>
                  <a:lnTo>
                    <a:pt x="1302" y="1796"/>
                  </a:lnTo>
                  <a:lnTo>
                    <a:pt x="1302" y="1937"/>
                  </a:lnTo>
                  <a:lnTo>
                    <a:pt x="1338" y="1620"/>
                  </a:lnTo>
                  <a:lnTo>
                    <a:pt x="1338" y="1867"/>
                  </a:lnTo>
                  <a:lnTo>
                    <a:pt x="1373" y="1973"/>
                  </a:lnTo>
                  <a:lnTo>
                    <a:pt x="1408" y="1761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726"/>
                  </a:lnTo>
                  <a:lnTo>
                    <a:pt x="1514" y="2008"/>
                  </a:lnTo>
                  <a:lnTo>
                    <a:pt x="1549" y="1761"/>
                  </a:lnTo>
                  <a:lnTo>
                    <a:pt x="1549" y="1902"/>
                  </a:lnTo>
                  <a:lnTo>
                    <a:pt x="1549" y="2043"/>
                  </a:lnTo>
                  <a:lnTo>
                    <a:pt x="1585" y="2008"/>
                  </a:lnTo>
                  <a:lnTo>
                    <a:pt x="1585" y="1832"/>
                  </a:lnTo>
                  <a:lnTo>
                    <a:pt x="1620" y="1832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14760" y="477828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0"/>
                  </a:moveTo>
                  <a:lnTo>
                    <a:pt x="0" y="105"/>
                  </a:lnTo>
                  <a:lnTo>
                    <a:pt x="35" y="282"/>
                  </a:lnTo>
                  <a:lnTo>
                    <a:pt x="35" y="105"/>
                  </a:lnTo>
                  <a:lnTo>
                    <a:pt x="70" y="35"/>
                  </a:lnTo>
                  <a:lnTo>
                    <a:pt x="70" y="246"/>
                  </a:lnTo>
                  <a:lnTo>
                    <a:pt x="105" y="282"/>
                  </a:lnTo>
                  <a:lnTo>
                    <a:pt x="105" y="35"/>
                  </a:lnTo>
                  <a:lnTo>
                    <a:pt x="141" y="0"/>
                  </a:lnTo>
                  <a:lnTo>
                    <a:pt x="141" y="246"/>
                  </a:lnTo>
                  <a:lnTo>
                    <a:pt x="176" y="388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52"/>
                  </a:lnTo>
                  <a:lnTo>
                    <a:pt x="246" y="211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11"/>
                  </a:lnTo>
                  <a:lnTo>
                    <a:pt x="352" y="176"/>
                  </a:lnTo>
                  <a:lnTo>
                    <a:pt x="352" y="352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282"/>
                  </a:lnTo>
                  <a:lnTo>
                    <a:pt x="423" y="423"/>
                  </a:lnTo>
                  <a:lnTo>
                    <a:pt x="458" y="388"/>
                  </a:lnTo>
                  <a:lnTo>
                    <a:pt x="458" y="282"/>
                  </a:lnTo>
                  <a:lnTo>
                    <a:pt x="493" y="352"/>
                  </a:lnTo>
                  <a:lnTo>
                    <a:pt x="493" y="352"/>
                  </a:lnTo>
                  <a:lnTo>
                    <a:pt x="529" y="458"/>
                  </a:lnTo>
                  <a:lnTo>
                    <a:pt x="529" y="317"/>
                  </a:lnTo>
                  <a:lnTo>
                    <a:pt x="564" y="352"/>
                  </a:lnTo>
                  <a:lnTo>
                    <a:pt x="564" y="494"/>
                  </a:lnTo>
                  <a:lnTo>
                    <a:pt x="599" y="565"/>
                  </a:lnTo>
                  <a:lnTo>
                    <a:pt x="599" y="423"/>
                  </a:lnTo>
                  <a:lnTo>
                    <a:pt x="599" y="352"/>
                  </a:lnTo>
                  <a:lnTo>
                    <a:pt x="635" y="565"/>
                  </a:lnTo>
                  <a:lnTo>
                    <a:pt x="635" y="530"/>
                  </a:lnTo>
                  <a:lnTo>
                    <a:pt x="670" y="423"/>
                  </a:lnTo>
                  <a:lnTo>
                    <a:pt x="705" y="494"/>
                  </a:lnTo>
                  <a:lnTo>
                    <a:pt x="705" y="671"/>
                  </a:lnTo>
                  <a:lnTo>
                    <a:pt x="740" y="494"/>
                  </a:lnTo>
                  <a:lnTo>
                    <a:pt x="740" y="423"/>
                  </a:lnTo>
                  <a:lnTo>
                    <a:pt x="776" y="671"/>
                  </a:lnTo>
                  <a:lnTo>
                    <a:pt x="776" y="741"/>
                  </a:lnTo>
                  <a:lnTo>
                    <a:pt x="811" y="600"/>
                  </a:lnTo>
                  <a:lnTo>
                    <a:pt x="811" y="494"/>
                  </a:lnTo>
                  <a:lnTo>
                    <a:pt x="846" y="741"/>
                  </a:lnTo>
                  <a:lnTo>
                    <a:pt x="846" y="741"/>
                  </a:lnTo>
                  <a:lnTo>
                    <a:pt x="882" y="530"/>
                  </a:lnTo>
                  <a:lnTo>
                    <a:pt x="882" y="706"/>
                  </a:lnTo>
                  <a:lnTo>
                    <a:pt x="918" y="741"/>
                  </a:lnTo>
                  <a:lnTo>
                    <a:pt x="918" y="741"/>
                  </a:lnTo>
                  <a:lnTo>
                    <a:pt x="953" y="671"/>
                  </a:lnTo>
                  <a:lnTo>
                    <a:pt x="953" y="671"/>
                  </a:lnTo>
                  <a:lnTo>
                    <a:pt x="988" y="812"/>
                  </a:lnTo>
                  <a:lnTo>
                    <a:pt x="988" y="949"/>
                  </a:lnTo>
                  <a:lnTo>
                    <a:pt x="1024" y="777"/>
                  </a:lnTo>
                  <a:lnTo>
                    <a:pt x="1024" y="741"/>
                  </a:lnTo>
                  <a:lnTo>
                    <a:pt x="1059" y="741"/>
                  </a:lnTo>
                  <a:lnTo>
                    <a:pt x="1059" y="913"/>
                  </a:lnTo>
                  <a:lnTo>
                    <a:pt x="1094" y="847"/>
                  </a:lnTo>
                  <a:lnTo>
                    <a:pt x="1094" y="741"/>
                  </a:lnTo>
                  <a:lnTo>
                    <a:pt x="1129" y="913"/>
                  </a:lnTo>
                  <a:lnTo>
                    <a:pt x="1129" y="984"/>
                  </a:lnTo>
                  <a:lnTo>
                    <a:pt x="1165" y="847"/>
                  </a:lnTo>
                  <a:lnTo>
                    <a:pt x="1165" y="882"/>
                  </a:lnTo>
                  <a:lnTo>
                    <a:pt x="1200" y="1019"/>
                  </a:lnTo>
                  <a:lnTo>
                    <a:pt x="1200" y="1160"/>
                  </a:lnTo>
                  <a:lnTo>
                    <a:pt x="1235" y="949"/>
                  </a:lnTo>
                  <a:lnTo>
                    <a:pt x="1235" y="984"/>
                  </a:lnTo>
                  <a:lnTo>
                    <a:pt x="1271" y="1090"/>
                  </a:lnTo>
                  <a:lnTo>
                    <a:pt x="1306" y="1054"/>
                  </a:lnTo>
                  <a:lnTo>
                    <a:pt x="1306" y="1090"/>
                  </a:lnTo>
                  <a:lnTo>
                    <a:pt x="1341" y="1231"/>
                  </a:lnTo>
                  <a:lnTo>
                    <a:pt x="1341" y="1160"/>
                  </a:lnTo>
                  <a:lnTo>
                    <a:pt x="1376" y="1266"/>
                  </a:lnTo>
                  <a:lnTo>
                    <a:pt x="1412" y="1442"/>
                  </a:lnTo>
                  <a:lnTo>
                    <a:pt x="1412" y="1407"/>
                  </a:lnTo>
                  <a:lnTo>
                    <a:pt x="1447" y="1372"/>
                  </a:lnTo>
                  <a:lnTo>
                    <a:pt x="1447" y="1479"/>
                  </a:lnTo>
                  <a:lnTo>
                    <a:pt x="1482" y="1549"/>
                  </a:lnTo>
                  <a:lnTo>
                    <a:pt x="1482" y="1514"/>
                  </a:lnTo>
                  <a:lnTo>
                    <a:pt x="1517" y="1442"/>
                  </a:lnTo>
                  <a:lnTo>
                    <a:pt x="1517" y="1585"/>
                  </a:lnTo>
                  <a:lnTo>
                    <a:pt x="1553" y="1761"/>
                  </a:lnTo>
                  <a:lnTo>
                    <a:pt x="1553" y="1620"/>
                  </a:lnTo>
                  <a:lnTo>
                    <a:pt x="1588" y="1655"/>
                  </a:lnTo>
                  <a:lnTo>
                    <a:pt x="1588" y="1726"/>
                  </a:lnTo>
                  <a:lnTo>
                    <a:pt x="1623" y="1832"/>
                  </a:lnTo>
                  <a:lnTo>
                    <a:pt x="1623" y="1726"/>
                  </a:lnTo>
                  <a:lnTo>
                    <a:pt x="1659" y="1690"/>
                  </a:lnTo>
                  <a:lnTo>
                    <a:pt x="1659" y="1867"/>
                  </a:lnTo>
                  <a:lnTo>
                    <a:pt x="1694" y="1937"/>
                  </a:lnTo>
                  <a:lnTo>
                    <a:pt x="1694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14760" y="4778280"/>
              <a:ext cx="609840" cy="709920"/>
            </a:xfrm>
            <a:custGeom>
              <a:avLst/>
              <a:gdLst/>
              <a:ahLst/>
              <a:rect l="0" t="0" r="r" b="b"/>
              <a:pathLst>
                <a:path fill="none" w="1694" h="1972">
                  <a:moveTo>
                    <a:pt x="0" y="0"/>
                  </a:moveTo>
                  <a:lnTo>
                    <a:pt x="0" y="141"/>
                  </a:lnTo>
                  <a:lnTo>
                    <a:pt x="35" y="317"/>
                  </a:lnTo>
                  <a:lnTo>
                    <a:pt x="35" y="105"/>
                  </a:lnTo>
                  <a:lnTo>
                    <a:pt x="70" y="70"/>
                  </a:lnTo>
                  <a:lnTo>
                    <a:pt x="70" y="246"/>
                  </a:lnTo>
                  <a:lnTo>
                    <a:pt x="105" y="317"/>
                  </a:lnTo>
                  <a:lnTo>
                    <a:pt x="105" y="70"/>
                  </a:lnTo>
                  <a:lnTo>
                    <a:pt x="141" y="35"/>
                  </a:lnTo>
                  <a:lnTo>
                    <a:pt x="141" y="282"/>
                  </a:lnTo>
                  <a:lnTo>
                    <a:pt x="176" y="423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88"/>
                  </a:lnTo>
                  <a:lnTo>
                    <a:pt x="246" y="246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46"/>
                  </a:lnTo>
                  <a:lnTo>
                    <a:pt x="352" y="211"/>
                  </a:lnTo>
                  <a:lnTo>
                    <a:pt x="352" y="388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317"/>
                  </a:lnTo>
                  <a:lnTo>
                    <a:pt x="423" y="423"/>
                  </a:lnTo>
                  <a:lnTo>
                    <a:pt x="458" y="423"/>
                  </a:lnTo>
                  <a:lnTo>
                    <a:pt x="458" y="317"/>
                  </a:lnTo>
                  <a:lnTo>
                    <a:pt x="493" y="352"/>
                  </a:lnTo>
                  <a:lnTo>
                    <a:pt x="493" y="388"/>
                  </a:lnTo>
                  <a:lnTo>
                    <a:pt x="529" y="493"/>
                  </a:lnTo>
                  <a:lnTo>
                    <a:pt x="529" y="317"/>
                  </a:lnTo>
                  <a:lnTo>
                    <a:pt x="564" y="388"/>
                  </a:lnTo>
                  <a:lnTo>
                    <a:pt x="564" y="529"/>
                  </a:lnTo>
                  <a:lnTo>
                    <a:pt x="599" y="564"/>
                  </a:lnTo>
                  <a:lnTo>
                    <a:pt x="599" y="458"/>
                  </a:lnTo>
                  <a:lnTo>
                    <a:pt x="599" y="352"/>
                  </a:lnTo>
                  <a:lnTo>
                    <a:pt x="635" y="564"/>
                  </a:lnTo>
                  <a:lnTo>
                    <a:pt x="670" y="458"/>
                  </a:lnTo>
                  <a:lnTo>
                    <a:pt x="705" y="493"/>
                  </a:lnTo>
                  <a:lnTo>
                    <a:pt x="705" y="705"/>
                  </a:lnTo>
                  <a:lnTo>
                    <a:pt x="740" y="529"/>
                  </a:lnTo>
                  <a:lnTo>
                    <a:pt x="740" y="458"/>
                  </a:lnTo>
                  <a:lnTo>
                    <a:pt x="776" y="670"/>
                  </a:lnTo>
                  <a:lnTo>
                    <a:pt x="776" y="740"/>
                  </a:lnTo>
                  <a:lnTo>
                    <a:pt x="811" y="635"/>
                  </a:lnTo>
                  <a:lnTo>
                    <a:pt x="811" y="529"/>
                  </a:lnTo>
                  <a:lnTo>
                    <a:pt x="846" y="776"/>
                  </a:lnTo>
                  <a:lnTo>
                    <a:pt x="846" y="740"/>
                  </a:lnTo>
                  <a:lnTo>
                    <a:pt x="882" y="564"/>
                  </a:lnTo>
                  <a:lnTo>
                    <a:pt x="882" y="740"/>
                  </a:lnTo>
                  <a:lnTo>
                    <a:pt x="918" y="776"/>
                  </a:lnTo>
                  <a:lnTo>
                    <a:pt x="918" y="740"/>
                  </a:lnTo>
                  <a:lnTo>
                    <a:pt x="953" y="705"/>
                  </a:lnTo>
                  <a:lnTo>
                    <a:pt x="953" y="670"/>
                  </a:lnTo>
                  <a:lnTo>
                    <a:pt x="988" y="811"/>
                  </a:lnTo>
                  <a:lnTo>
                    <a:pt x="988" y="983"/>
                  </a:lnTo>
                  <a:lnTo>
                    <a:pt x="1024" y="811"/>
                  </a:lnTo>
                  <a:lnTo>
                    <a:pt x="1024" y="776"/>
                  </a:lnTo>
                  <a:lnTo>
                    <a:pt x="1059" y="776"/>
                  </a:lnTo>
                  <a:lnTo>
                    <a:pt x="1059" y="912"/>
                  </a:lnTo>
                  <a:lnTo>
                    <a:pt x="1094" y="846"/>
                  </a:lnTo>
                  <a:lnTo>
                    <a:pt x="1094" y="740"/>
                  </a:lnTo>
                  <a:lnTo>
                    <a:pt x="1129" y="912"/>
                  </a:lnTo>
                  <a:lnTo>
                    <a:pt x="1129" y="983"/>
                  </a:lnTo>
                  <a:lnTo>
                    <a:pt x="1165" y="881"/>
                  </a:lnTo>
                  <a:lnTo>
                    <a:pt x="1165" y="912"/>
                  </a:lnTo>
                  <a:lnTo>
                    <a:pt x="1200" y="1054"/>
                  </a:lnTo>
                  <a:lnTo>
                    <a:pt x="1200" y="1196"/>
                  </a:lnTo>
                  <a:lnTo>
                    <a:pt x="1235" y="983"/>
                  </a:lnTo>
                  <a:lnTo>
                    <a:pt x="1235" y="1019"/>
                  </a:lnTo>
                  <a:lnTo>
                    <a:pt x="1271" y="1125"/>
                  </a:lnTo>
                  <a:lnTo>
                    <a:pt x="1306" y="1054"/>
                  </a:lnTo>
                  <a:lnTo>
                    <a:pt x="1306" y="1125"/>
                  </a:lnTo>
                  <a:lnTo>
                    <a:pt x="1341" y="1231"/>
                  </a:lnTo>
                  <a:lnTo>
                    <a:pt x="1341" y="1196"/>
                  </a:lnTo>
                  <a:lnTo>
                    <a:pt x="1376" y="1301"/>
                  </a:lnTo>
                  <a:lnTo>
                    <a:pt x="1412" y="1478"/>
                  </a:lnTo>
                  <a:lnTo>
                    <a:pt x="1412" y="1407"/>
                  </a:lnTo>
                  <a:lnTo>
                    <a:pt x="1447" y="1407"/>
                  </a:lnTo>
                  <a:lnTo>
                    <a:pt x="1447" y="1513"/>
                  </a:lnTo>
                  <a:lnTo>
                    <a:pt x="1482" y="1548"/>
                  </a:lnTo>
                  <a:lnTo>
                    <a:pt x="1517" y="1478"/>
                  </a:lnTo>
                  <a:lnTo>
                    <a:pt x="1517" y="1619"/>
                  </a:lnTo>
                  <a:lnTo>
                    <a:pt x="1553" y="1795"/>
                  </a:lnTo>
                  <a:lnTo>
                    <a:pt x="1553" y="1654"/>
                  </a:lnTo>
                  <a:lnTo>
                    <a:pt x="1588" y="1689"/>
                  </a:lnTo>
                  <a:lnTo>
                    <a:pt x="1588" y="1760"/>
                  </a:lnTo>
                  <a:lnTo>
                    <a:pt x="1623" y="1866"/>
                  </a:lnTo>
                  <a:lnTo>
                    <a:pt x="1623" y="1760"/>
                  </a:lnTo>
                  <a:lnTo>
                    <a:pt x="1659" y="1725"/>
                  </a:lnTo>
                  <a:lnTo>
                    <a:pt x="1659" y="1901"/>
                  </a:lnTo>
                  <a:lnTo>
                    <a:pt x="1694" y="1972"/>
                  </a:lnTo>
                  <a:lnTo>
                    <a:pt x="1694" y="17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24600" y="5398920"/>
              <a:ext cx="87840" cy="114840"/>
            </a:xfrm>
            <a:custGeom>
              <a:avLst/>
              <a:gdLst/>
              <a:ahLst/>
              <a:rect l="0" t="0" r="r" b="b"/>
              <a:pathLst>
                <a:path fill="none" w="244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106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2" y="106"/>
                  </a:lnTo>
                  <a:lnTo>
                    <a:pt x="172" y="248"/>
                  </a:lnTo>
                  <a:lnTo>
                    <a:pt x="209" y="248"/>
                  </a:lnTo>
                  <a:lnTo>
                    <a:pt x="209" y="177"/>
                  </a:lnTo>
                  <a:lnTo>
                    <a:pt x="244" y="106"/>
                  </a:lnTo>
                  <a:lnTo>
                    <a:pt x="244" y="2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24600" y="5398920"/>
              <a:ext cx="87840" cy="114840"/>
            </a:xfrm>
            <a:custGeom>
              <a:avLst/>
              <a:gdLst/>
              <a:ahLst/>
              <a:rect l="0" t="0" r="r" b="b"/>
              <a:pathLst>
                <a:path fill="none" w="244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70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2" y="106"/>
                  </a:lnTo>
                  <a:lnTo>
                    <a:pt x="172" y="248"/>
                  </a:lnTo>
                  <a:lnTo>
                    <a:pt x="209" y="248"/>
                  </a:lnTo>
                  <a:lnTo>
                    <a:pt x="209" y="177"/>
                  </a:lnTo>
                  <a:lnTo>
                    <a:pt x="244" y="70"/>
                  </a:lnTo>
                  <a:lnTo>
                    <a:pt x="244" y="2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564000" y="4132440"/>
            <a:ext cx="2537280" cy="1381320"/>
            <a:chOff x="3564000" y="4132440"/>
            <a:chExt cx="2537280" cy="1381320"/>
          </a:xfrm>
        </p:grpSpPr>
        <p:sp>
          <p:nvSpPr>
            <p:cNvPr id="444" name=""/>
            <p:cNvSpPr/>
            <p:nvPr/>
          </p:nvSpPr>
          <p:spPr>
            <a:xfrm>
              <a:off x="35640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867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20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20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25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36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388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41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41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640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902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55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55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60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71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423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76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76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734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07" y="1973"/>
                  </a:lnTo>
                  <a:lnTo>
                    <a:pt x="207" y="2114"/>
                  </a:lnTo>
                  <a:lnTo>
                    <a:pt x="242" y="1832"/>
                  </a:lnTo>
                  <a:lnTo>
                    <a:pt x="242" y="1796"/>
                  </a:lnTo>
                  <a:lnTo>
                    <a:pt x="277" y="1973"/>
                  </a:lnTo>
                  <a:lnTo>
                    <a:pt x="277" y="1973"/>
                  </a:lnTo>
                  <a:lnTo>
                    <a:pt x="313" y="1726"/>
                  </a:lnTo>
                  <a:lnTo>
                    <a:pt x="313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734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07" y="1973"/>
                  </a:lnTo>
                  <a:lnTo>
                    <a:pt x="207" y="2114"/>
                  </a:lnTo>
                  <a:lnTo>
                    <a:pt x="242" y="1832"/>
                  </a:lnTo>
                  <a:lnTo>
                    <a:pt x="242" y="1796"/>
                  </a:lnTo>
                  <a:lnTo>
                    <a:pt x="277" y="1973"/>
                  </a:lnTo>
                  <a:lnTo>
                    <a:pt x="313" y="1726"/>
                  </a:lnTo>
                  <a:lnTo>
                    <a:pt x="313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41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52"/>
                  </a:lnTo>
                  <a:lnTo>
                    <a:pt x="35" y="105"/>
                  </a:lnTo>
                  <a:lnTo>
                    <a:pt x="35" y="70"/>
                  </a:lnTo>
                  <a:lnTo>
                    <a:pt x="70" y="282"/>
                  </a:lnTo>
                  <a:lnTo>
                    <a:pt x="70" y="352"/>
                  </a:lnTo>
                  <a:lnTo>
                    <a:pt x="105" y="141"/>
                  </a:lnTo>
                  <a:lnTo>
                    <a:pt x="105" y="70"/>
                  </a:lnTo>
                  <a:lnTo>
                    <a:pt x="105" y="282"/>
                  </a:lnTo>
                  <a:lnTo>
                    <a:pt x="141" y="388"/>
                  </a:lnTo>
                  <a:lnTo>
                    <a:pt x="141" y="141"/>
                  </a:lnTo>
                  <a:lnTo>
                    <a:pt x="176" y="105"/>
                  </a:lnTo>
                  <a:lnTo>
                    <a:pt x="176" y="246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41"/>
                  </a:lnTo>
                  <a:lnTo>
                    <a:pt x="246" y="282"/>
                  </a:lnTo>
                  <a:lnTo>
                    <a:pt x="282" y="246"/>
                  </a:lnTo>
                  <a:lnTo>
                    <a:pt x="282" y="105"/>
                  </a:lnTo>
                  <a:lnTo>
                    <a:pt x="317" y="70"/>
                  </a:lnTo>
                  <a:lnTo>
                    <a:pt x="317" y="352"/>
                  </a:lnTo>
                  <a:lnTo>
                    <a:pt x="352" y="317"/>
                  </a:lnTo>
                  <a:lnTo>
                    <a:pt x="352" y="70"/>
                  </a:lnTo>
                  <a:lnTo>
                    <a:pt x="388" y="141"/>
                  </a:lnTo>
                  <a:lnTo>
                    <a:pt x="388" y="246"/>
                  </a:lnTo>
                  <a:lnTo>
                    <a:pt x="424" y="423"/>
                  </a:lnTo>
                  <a:lnTo>
                    <a:pt x="424" y="141"/>
                  </a:lnTo>
                  <a:lnTo>
                    <a:pt x="459" y="70"/>
                  </a:lnTo>
                  <a:lnTo>
                    <a:pt x="459" y="317"/>
                  </a:lnTo>
                  <a:lnTo>
                    <a:pt x="494" y="317"/>
                  </a:lnTo>
                  <a:lnTo>
                    <a:pt x="494" y="105"/>
                  </a:lnTo>
                  <a:lnTo>
                    <a:pt x="530" y="141"/>
                  </a:lnTo>
                  <a:lnTo>
                    <a:pt x="530" y="246"/>
                  </a:lnTo>
                  <a:lnTo>
                    <a:pt x="565" y="352"/>
                  </a:lnTo>
                  <a:lnTo>
                    <a:pt x="565" y="176"/>
                  </a:lnTo>
                  <a:lnTo>
                    <a:pt x="600" y="141"/>
                  </a:lnTo>
                  <a:lnTo>
                    <a:pt x="600" y="246"/>
                  </a:lnTo>
                  <a:lnTo>
                    <a:pt x="636" y="388"/>
                  </a:lnTo>
                  <a:lnTo>
                    <a:pt x="636" y="70"/>
                  </a:lnTo>
                  <a:lnTo>
                    <a:pt x="671" y="35"/>
                  </a:lnTo>
                  <a:lnTo>
                    <a:pt x="671" y="317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41"/>
                  </a:lnTo>
                  <a:lnTo>
                    <a:pt x="741" y="423"/>
                  </a:lnTo>
                  <a:lnTo>
                    <a:pt x="777" y="282"/>
                  </a:lnTo>
                  <a:lnTo>
                    <a:pt x="777" y="70"/>
                  </a:lnTo>
                  <a:lnTo>
                    <a:pt x="812" y="141"/>
                  </a:lnTo>
                  <a:lnTo>
                    <a:pt x="812" y="352"/>
                  </a:lnTo>
                  <a:lnTo>
                    <a:pt x="847" y="105"/>
                  </a:lnTo>
                  <a:lnTo>
                    <a:pt x="847" y="141"/>
                  </a:lnTo>
                  <a:lnTo>
                    <a:pt x="882" y="282"/>
                  </a:lnTo>
                  <a:lnTo>
                    <a:pt x="882" y="246"/>
                  </a:lnTo>
                  <a:lnTo>
                    <a:pt x="918" y="176"/>
                  </a:lnTo>
                  <a:lnTo>
                    <a:pt x="918" y="105"/>
                  </a:lnTo>
                  <a:lnTo>
                    <a:pt x="953" y="352"/>
                  </a:lnTo>
                  <a:lnTo>
                    <a:pt x="953" y="317"/>
                  </a:lnTo>
                  <a:lnTo>
                    <a:pt x="988" y="176"/>
                  </a:lnTo>
                  <a:lnTo>
                    <a:pt x="988" y="70"/>
                  </a:lnTo>
                  <a:lnTo>
                    <a:pt x="1024" y="246"/>
                  </a:lnTo>
                  <a:lnTo>
                    <a:pt x="1024" y="282"/>
                  </a:lnTo>
                  <a:lnTo>
                    <a:pt x="1059" y="176"/>
                  </a:lnTo>
                  <a:lnTo>
                    <a:pt x="1059" y="141"/>
                  </a:lnTo>
                  <a:lnTo>
                    <a:pt x="1090" y="246"/>
                  </a:lnTo>
                  <a:lnTo>
                    <a:pt x="1090" y="317"/>
                  </a:lnTo>
                  <a:lnTo>
                    <a:pt x="1125" y="176"/>
                  </a:lnTo>
                  <a:lnTo>
                    <a:pt x="1160" y="317"/>
                  </a:lnTo>
                  <a:lnTo>
                    <a:pt x="1160" y="913"/>
                  </a:lnTo>
                  <a:lnTo>
                    <a:pt x="1196" y="1160"/>
                  </a:lnTo>
                  <a:lnTo>
                    <a:pt x="1196" y="1054"/>
                  </a:lnTo>
                  <a:lnTo>
                    <a:pt x="1231" y="1337"/>
                  </a:lnTo>
                  <a:lnTo>
                    <a:pt x="1231" y="1513"/>
                  </a:lnTo>
                  <a:lnTo>
                    <a:pt x="1266" y="1478"/>
                  </a:lnTo>
                  <a:lnTo>
                    <a:pt x="1266" y="1549"/>
                  </a:lnTo>
                  <a:lnTo>
                    <a:pt x="1302" y="1796"/>
                  </a:lnTo>
                  <a:lnTo>
                    <a:pt x="1302" y="1902"/>
                  </a:lnTo>
                  <a:lnTo>
                    <a:pt x="1338" y="1585"/>
                  </a:lnTo>
                  <a:lnTo>
                    <a:pt x="1338" y="1832"/>
                  </a:lnTo>
                  <a:lnTo>
                    <a:pt x="1373" y="1937"/>
                  </a:lnTo>
                  <a:lnTo>
                    <a:pt x="1373" y="1973"/>
                  </a:lnTo>
                  <a:lnTo>
                    <a:pt x="1408" y="1726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690"/>
                  </a:lnTo>
                  <a:lnTo>
                    <a:pt x="1514" y="1973"/>
                  </a:lnTo>
                  <a:lnTo>
                    <a:pt x="1549" y="1726"/>
                  </a:lnTo>
                  <a:lnTo>
                    <a:pt x="1549" y="1867"/>
                  </a:lnTo>
                  <a:lnTo>
                    <a:pt x="1549" y="2043"/>
                  </a:lnTo>
                  <a:lnTo>
                    <a:pt x="1585" y="1973"/>
                  </a:lnTo>
                  <a:lnTo>
                    <a:pt x="1585" y="1796"/>
                  </a:lnTo>
                  <a:lnTo>
                    <a:pt x="1620" y="1796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41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88"/>
                  </a:lnTo>
                  <a:lnTo>
                    <a:pt x="35" y="141"/>
                  </a:lnTo>
                  <a:lnTo>
                    <a:pt x="35" y="105"/>
                  </a:lnTo>
                  <a:lnTo>
                    <a:pt x="70" y="317"/>
                  </a:lnTo>
                  <a:lnTo>
                    <a:pt x="70" y="388"/>
                  </a:lnTo>
                  <a:lnTo>
                    <a:pt x="105" y="176"/>
                  </a:lnTo>
                  <a:lnTo>
                    <a:pt x="105" y="70"/>
                  </a:lnTo>
                  <a:lnTo>
                    <a:pt x="105" y="317"/>
                  </a:lnTo>
                  <a:lnTo>
                    <a:pt x="141" y="423"/>
                  </a:lnTo>
                  <a:lnTo>
                    <a:pt x="141" y="176"/>
                  </a:lnTo>
                  <a:lnTo>
                    <a:pt x="176" y="141"/>
                  </a:lnTo>
                  <a:lnTo>
                    <a:pt x="176" y="282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76"/>
                  </a:lnTo>
                  <a:lnTo>
                    <a:pt x="246" y="317"/>
                  </a:lnTo>
                  <a:lnTo>
                    <a:pt x="282" y="282"/>
                  </a:lnTo>
                  <a:lnTo>
                    <a:pt x="282" y="141"/>
                  </a:lnTo>
                  <a:lnTo>
                    <a:pt x="317" y="105"/>
                  </a:lnTo>
                  <a:lnTo>
                    <a:pt x="317" y="388"/>
                  </a:lnTo>
                  <a:lnTo>
                    <a:pt x="352" y="352"/>
                  </a:lnTo>
                  <a:lnTo>
                    <a:pt x="352" y="105"/>
                  </a:lnTo>
                  <a:lnTo>
                    <a:pt x="388" y="176"/>
                  </a:lnTo>
                  <a:lnTo>
                    <a:pt x="388" y="282"/>
                  </a:lnTo>
                  <a:lnTo>
                    <a:pt x="424" y="458"/>
                  </a:lnTo>
                  <a:lnTo>
                    <a:pt x="424" y="176"/>
                  </a:lnTo>
                  <a:lnTo>
                    <a:pt x="459" y="70"/>
                  </a:lnTo>
                  <a:lnTo>
                    <a:pt x="459" y="352"/>
                  </a:lnTo>
                  <a:lnTo>
                    <a:pt x="494" y="317"/>
                  </a:lnTo>
                  <a:lnTo>
                    <a:pt x="494" y="141"/>
                  </a:lnTo>
                  <a:lnTo>
                    <a:pt x="530" y="176"/>
                  </a:lnTo>
                  <a:lnTo>
                    <a:pt x="530" y="282"/>
                  </a:lnTo>
                  <a:lnTo>
                    <a:pt x="565" y="388"/>
                  </a:lnTo>
                  <a:lnTo>
                    <a:pt x="565" y="211"/>
                  </a:lnTo>
                  <a:lnTo>
                    <a:pt x="600" y="176"/>
                  </a:lnTo>
                  <a:lnTo>
                    <a:pt x="600" y="282"/>
                  </a:lnTo>
                  <a:lnTo>
                    <a:pt x="636" y="423"/>
                  </a:lnTo>
                  <a:lnTo>
                    <a:pt x="636" y="70"/>
                  </a:lnTo>
                  <a:lnTo>
                    <a:pt x="671" y="70"/>
                  </a:lnTo>
                  <a:lnTo>
                    <a:pt x="671" y="352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76"/>
                  </a:lnTo>
                  <a:lnTo>
                    <a:pt x="741" y="458"/>
                  </a:lnTo>
                  <a:lnTo>
                    <a:pt x="777" y="317"/>
                  </a:lnTo>
                  <a:lnTo>
                    <a:pt x="777" y="105"/>
                  </a:lnTo>
                  <a:lnTo>
                    <a:pt x="812" y="176"/>
                  </a:lnTo>
                  <a:lnTo>
                    <a:pt x="812" y="388"/>
                  </a:lnTo>
                  <a:lnTo>
                    <a:pt x="847" y="141"/>
                  </a:lnTo>
                  <a:lnTo>
                    <a:pt x="847" y="176"/>
                  </a:lnTo>
                  <a:lnTo>
                    <a:pt x="882" y="317"/>
                  </a:lnTo>
                  <a:lnTo>
                    <a:pt x="882" y="282"/>
                  </a:lnTo>
                  <a:lnTo>
                    <a:pt x="918" y="211"/>
                  </a:lnTo>
                  <a:lnTo>
                    <a:pt x="918" y="141"/>
                  </a:lnTo>
                  <a:lnTo>
                    <a:pt x="953" y="388"/>
                  </a:lnTo>
                  <a:lnTo>
                    <a:pt x="953" y="317"/>
                  </a:lnTo>
                  <a:lnTo>
                    <a:pt x="988" y="211"/>
                  </a:lnTo>
                  <a:lnTo>
                    <a:pt x="988" y="105"/>
                  </a:lnTo>
                  <a:lnTo>
                    <a:pt x="1024" y="282"/>
                  </a:lnTo>
                  <a:lnTo>
                    <a:pt x="1024" y="317"/>
                  </a:lnTo>
                  <a:lnTo>
                    <a:pt x="1059" y="211"/>
                  </a:lnTo>
                  <a:lnTo>
                    <a:pt x="1059" y="176"/>
                  </a:lnTo>
                  <a:lnTo>
                    <a:pt x="1090" y="246"/>
                  </a:lnTo>
                  <a:lnTo>
                    <a:pt x="1090" y="317"/>
                  </a:lnTo>
                  <a:lnTo>
                    <a:pt x="1125" y="176"/>
                  </a:lnTo>
                  <a:lnTo>
                    <a:pt x="1160" y="352"/>
                  </a:lnTo>
                  <a:lnTo>
                    <a:pt x="1160" y="913"/>
                  </a:lnTo>
                  <a:lnTo>
                    <a:pt x="1196" y="1160"/>
                  </a:lnTo>
                  <a:lnTo>
                    <a:pt x="1196" y="1090"/>
                  </a:lnTo>
                  <a:lnTo>
                    <a:pt x="1231" y="1372"/>
                  </a:lnTo>
                  <a:lnTo>
                    <a:pt x="1231" y="1549"/>
                  </a:lnTo>
                  <a:lnTo>
                    <a:pt x="1266" y="1513"/>
                  </a:lnTo>
                  <a:lnTo>
                    <a:pt x="1266" y="1585"/>
                  </a:lnTo>
                  <a:lnTo>
                    <a:pt x="1302" y="1796"/>
                  </a:lnTo>
                  <a:lnTo>
                    <a:pt x="1302" y="1937"/>
                  </a:lnTo>
                  <a:lnTo>
                    <a:pt x="1338" y="1620"/>
                  </a:lnTo>
                  <a:lnTo>
                    <a:pt x="1338" y="1867"/>
                  </a:lnTo>
                  <a:lnTo>
                    <a:pt x="1373" y="1973"/>
                  </a:lnTo>
                  <a:lnTo>
                    <a:pt x="1408" y="1761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726"/>
                  </a:lnTo>
                  <a:lnTo>
                    <a:pt x="1514" y="2008"/>
                  </a:lnTo>
                  <a:lnTo>
                    <a:pt x="1549" y="1761"/>
                  </a:lnTo>
                  <a:lnTo>
                    <a:pt x="1549" y="1902"/>
                  </a:lnTo>
                  <a:lnTo>
                    <a:pt x="1549" y="2043"/>
                  </a:lnTo>
                  <a:lnTo>
                    <a:pt x="1585" y="2008"/>
                  </a:lnTo>
                  <a:lnTo>
                    <a:pt x="1585" y="1832"/>
                  </a:lnTo>
                  <a:lnTo>
                    <a:pt x="1620" y="1832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02160" y="477828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0"/>
                  </a:moveTo>
                  <a:lnTo>
                    <a:pt x="0" y="105"/>
                  </a:lnTo>
                  <a:lnTo>
                    <a:pt x="35" y="282"/>
                  </a:lnTo>
                  <a:lnTo>
                    <a:pt x="35" y="105"/>
                  </a:lnTo>
                  <a:lnTo>
                    <a:pt x="70" y="35"/>
                  </a:lnTo>
                  <a:lnTo>
                    <a:pt x="70" y="246"/>
                  </a:lnTo>
                  <a:lnTo>
                    <a:pt x="105" y="282"/>
                  </a:lnTo>
                  <a:lnTo>
                    <a:pt x="105" y="35"/>
                  </a:lnTo>
                  <a:lnTo>
                    <a:pt x="141" y="0"/>
                  </a:lnTo>
                  <a:lnTo>
                    <a:pt x="141" y="246"/>
                  </a:lnTo>
                  <a:lnTo>
                    <a:pt x="176" y="388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52"/>
                  </a:lnTo>
                  <a:lnTo>
                    <a:pt x="246" y="211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11"/>
                  </a:lnTo>
                  <a:lnTo>
                    <a:pt x="352" y="176"/>
                  </a:lnTo>
                  <a:lnTo>
                    <a:pt x="352" y="352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282"/>
                  </a:lnTo>
                  <a:lnTo>
                    <a:pt x="423" y="423"/>
                  </a:lnTo>
                  <a:lnTo>
                    <a:pt x="458" y="388"/>
                  </a:lnTo>
                  <a:lnTo>
                    <a:pt x="458" y="282"/>
                  </a:lnTo>
                  <a:lnTo>
                    <a:pt x="493" y="352"/>
                  </a:lnTo>
                  <a:lnTo>
                    <a:pt x="493" y="352"/>
                  </a:lnTo>
                  <a:lnTo>
                    <a:pt x="529" y="458"/>
                  </a:lnTo>
                  <a:lnTo>
                    <a:pt x="529" y="317"/>
                  </a:lnTo>
                  <a:lnTo>
                    <a:pt x="564" y="352"/>
                  </a:lnTo>
                  <a:lnTo>
                    <a:pt x="564" y="494"/>
                  </a:lnTo>
                  <a:lnTo>
                    <a:pt x="599" y="565"/>
                  </a:lnTo>
                  <a:lnTo>
                    <a:pt x="599" y="423"/>
                  </a:lnTo>
                  <a:lnTo>
                    <a:pt x="599" y="352"/>
                  </a:lnTo>
                  <a:lnTo>
                    <a:pt x="635" y="565"/>
                  </a:lnTo>
                  <a:lnTo>
                    <a:pt x="635" y="530"/>
                  </a:lnTo>
                  <a:lnTo>
                    <a:pt x="670" y="423"/>
                  </a:lnTo>
                  <a:lnTo>
                    <a:pt x="705" y="494"/>
                  </a:lnTo>
                  <a:lnTo>
                    <a:pt x="705" y="671"/>
                  </a:lnTo>
                  <a:lnTo>
                    <a:pt x="740" y="494"/>
                  </a:lnTo>
                  <a:lnTo>
                    <a:pt x="740" y="423"/>
                  </a:lnTo>
                  <a:lnTo>
                    <a:pt x="776" y="671"/>
                  </a:lnTo>
                  <a:lnTo>
                    <a:pt x="776" y="741"/>
                  </a:lnTo>
                  <a:lnTo>
                    <a:pt x="811" y="600"/>
                  </a:lnTo>
                  <a:lnTo>
                    <a:pt x="811" y="494"/>
                  </a:lnTo>
                  <a:lnTo>
                    <a:pt x="846" y="741"/>
                  </a:lnTo>
                  <a:lnTo>
                    <a:pt x="846" y="741"/>
                  </a:lnTo>
                  <a:lnTo>
                    <a:pt x="882" y="530"/>
                  </a:lnTo>
                  <a:lnTo>
                    <a:pt x="882" y="706"/>
                  </a:lnTo>
                  <a:lnTo>
                    <a:pt x="918" y="741"/>
                  </a:lnTo>
                  <a:lnTo>
                    <a:pt x="918" y="741"/>
                  </a:lnTo>
                  <a:lnTo>
                    <a:pt x="953" y="671"/>
                  </a:lnTo>
                  <a:lnTo>
                    <a:pt x="953" y="671"/>
                  </a:lnTo>
                  <a:lnTo>
                    <a:pt x="988" y="812"/>
                  </a:lnTo>
                  <a:lnTo>
                    <a:pt x="988" y="949"/>
                  </a:lnTo>
                  <a:lnTo>
                    <a:pt x="1024" y="777"/>
                  </a:lnTo>
                  <a:lnTo>
                    <a:pt x="1024" y="741"/>
                  </a:lnTo>
                  <a:lnTo>
                    <a:pt x="1059" y="741"/>
                  </a:lnTo>
                  <a:lnTo>
                    <a:pt x="1059" y="913"/>
                  </a:lnTo>
                  <a:lnTo>
                    <a:pt x="1094" y="847"/>
                  </a:lnTo>
                  <a:lnTo>
                    <a:pt x="1094" y="741"/>
                  </a:lnTo>
                  <a:lnTo>
                    <a:pt x="1129" y="913"/>
                  </a:lnTo>
                  <a:lnTo>
                    <a:pt x="1129" y="984"/>
                  </a:lnTo>
                  <a:lnTo>
                    <a:pt x="1165" y="847"/>
                  </a:lnTo>
                  <a:lnTo>
                    <a:pt x="1165" y="882"/>
                  </a:lnTo>
                  <a:lnTo>
                    <a:pt x="1200" y="1019"/>
                  </a:lnTo>
                  <a:lnTo>
                    <a:pt x="1200" y="1160"/>
                  </a:lnTo>
                  <a:lnTo>
                    <a:pt x="1235" y="949"/>
                  </a:lnTo>
                  <a:lnTo>
                    <a:pt x="1235" y="984"/>
                  </a:lnTo>
                  <a:lnTo>
                    <a:pt x="1271" y="1090"/>
                  </a:lnTo>
                  <a:lnTo>
                    <a:pt x="1306" y="1054"/>
                  </a:lnTo>
                  <a:lnTo>
                    <a:pt x="1306" y="1090"/>
                  </a:lnTo>
                  <a:lnTo>
                    <a:pt x="1341" y="1231"/>
                  </a:lnTo>
                  <a:lnTo>
                    <a:pt x="1341" y="1160"/>
                  </a:lnTo>
                  <a:lnTo>
                    <a:pt x="1376" y="1266"/>
                  </a:lnTo>
                  <a:lnTo>
                    <a:pt x="1412" y="1442"/>
                  </a:lnTo>
                  <a:lnTo>
                    <a:pt x="1412" y="1407"/>
                  </a:lnTo>
                  <a:lnTo>
                    <a:pt x="1447" y="1372"/>
                  </a:lnTo>
                  <a:lnTo>
                    <a:pt x="1447" y="1479"/>
                  </a:lnTo>
                  <a:lnTo>
                    <a:pt x="1482" y="1549"/>
                  </a:lnTo>
                  <a:lnTo>
                    <a:pt x="1482" y="1514"/>
                  </a:lnTo>
                  <a:lnTo>
                    <a:pt x="1517" y="1442"/>
                  </a:lnTo>
                  <a:lnTo>
                    <a:pt x="1517" y="1585"/>
                  </a:lnTo>
                  <a:lnTo>
                    <a:pt x="1553" y="1761"/>
                  </a:lnTo>
                  <a:lnTo>
                    <a:pt x="1553" y="1620"/>
                  </a:lnTo>
                  <a:lnTo>
                    <a:pt x="1588" y="1655"/>
                  </a:lnTo>
                  <a:lnTo>
                    <a:pt x="1588" y="1726"/>
                  </a:lnTo>
                  <a:lnTo>
                    <a:pt x="1623" y="1832"/>
                  </a:lnTo>
                  <a:lnTo>
                    <a:pt x="1623" y="1726"/>
                  </a:lnTo>
                  <a:lnTo>
                    <a:pt x="1659" y="1690"/>
                  </a:lnTo>
                  <a:lnTo>
                    <a:pt x="1659" y="1867"/>
                  </a:lnTo>
                  <a:lnTo>
                    <a:pt x="1694" y="1937"/>
                  </a:lnTo>
                  <a:lnTo>
                    <a:pt x="1694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2160" y="4778280"/>
              <a:ext cx="609840" cy="709920"/>
            </a:xfrm>
            <a:custGeom>
              <a:avLst/>
              <a:gdLst/>
              <a:ahLst/>
              <a:rect l="0" t="0" r="r" b="b"/>
              <a:pathLst>
                <a:path fill="none" w="1694" h="1972">
                  <a:moveTo>
                    <a:pt x="0" y="0"/>
                  </a:moveTo>
                  <a:lnTo>
                    <a:pt x="0" y="141"/>
                  </a:lnTo>
                  <a:lnTo>
                    <a:pt x="35" y="317"/>
                  </a:lnTo>
                  <a:lnTo>
                    <a:pt x="35" y="105"/>
                  </a:lnTo>
                  <a:lnTo>
                    <a:pt x="70" y="70"/>
                  </a:lnTo>
                  <a:lnTo>
                    <a:pt x="70" y="246"/>
                  </a:lnTo>
                  <a:lnTo>
                    <a:pt x="105" y="317"/>
                  </a:lnTo>
                  <a:lnTo>
                    <a:pt x="105" y="70"/>
                  </a:lnTo>
                  <a:lnTo>
                    <a:pt x="141" y="35"/>
                  </a:lnTo>
                  <a:lnTo>
                    <a:pt x="141" y="282"/>
                  </a:lnTo>
                  <a:lnTo>
                    <a:pt x="176" y="423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88"/>
                  </a:lnTo>
                  <a:lnTo>
                    <a:pt x="246" y="246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46"/>
                  </a:lnTo>
                  <a:lnTo>
                    <a:pt x="352" y="211"/>
                  </a:lnTo>
                  <a:lnTo>
                    <a:pt x="352" y="388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317"/>
                  </a:lnTo>
                  <a:lnTo>
                    <a:pt x="423" y="423"/>
                  </a:lnTo>
                  <a:lnTo>
                    <a:pt x="458" y="423"/>
                  </a:lnTo>
                  <a:lnTo>
                    <a:pt x="458" y="317"/>
                  </a:lnTo>
                  <a:lnTo>
                    <a:pt x="493" y="352"/>
                  </a:lnTo>
                  <a:lnTo>
                    <a:pt x="493" y="388"/>
                  </a:lnTo>
                  <a:lnTo>
                    <a:pt x="529" y="493"/>
                  </a:lnTo>
                  <a:lnTo>
                    <a:pt x="529" y="317"/>
                  </a:lnTo>
                  <a:lnTo>
                    <a:pt x="564" y="388"/>
                  </a:lnTo>
                  <a:lnTo>
                    <a:pt x="564" y="529"/>
                  </a:lnTo>
                  <a:lnTo>
                    <a:pt x="599" y="564"/>
                  </a:lnTo>
                  <a:lnTo>
                    <a:pt x="599" y="458"/>
                  </a:lnTo>
                  <a:lnTo>
                    <a:pt x="599" y="352"/>
                  </a:lnTo>
                  <a:lnTo>
                    <a:pt x="635" y="564"/>
                  </a:lnTo>
                  <a:lnTo>
                    <a:pt x="670" y="458"/>
                  </a:lnTo>
                  <a:lnTo>
                    <a:pt x="705" y="493"/>
                  </a:lnTo>
                  <a:lnTo>
                    <a:pt x="705" y="705"/>
                  </a:lnTo>
                  <a:lnTo>
                    <a:pt x="740" y="529"/>
                  </a:lnTo>
                  <a:lnTo>
                    <a:pt x="740" y="458"/>
                  </a:lnTo>
                  <a:lnTo>
                    <a:pt x="776" y="670"/>
                  </a:lnTo>
                  <a:lnTo>
                    <a:pt x="776" y="740"/>
                  </a:lnTo>
                  <a:lnTo>
                    <a:pt x="811" y="635"/>
                  </a:lnTo>
                  <a:lnTo>
                    <a:pt x="811" y="529"/>
                  </a:lnTo>
                  <a:lnTo>
                    <a:pt x="846" y="776"/>
                  </a:lnTo>
                  <a:lnTo>
                    <a:pt x="846" y="740"/>
                  </a:lnTo>
                  <a:lnTo>
                    <a:pt x="882" y="564"/>
                  </a:lnTo>
                  <a:lnTo>
                    <a:pt x="882" y="740"/>
                  </a:lnTo>
                  <a:lnTo>
                    <a:pt x="918" y="776"/>
                  </a:lnTo>
                  <a:lnTo>
                    <a:pt x="918" y="740"/>
                  </a:lnTo>
                  <a:lnTo>
                    <a:pt x="953" y="705"/>
                  </a:lnTo>
                  <a:lnTo>
                    <a:pt x="953" y="670"/>
                  </a:lnTo>
                  <a:lnTo>
                    <a:pt x="988" y="811"/>
                  </a:lnTo>
                  <a:lnTo>
                    <a:pt x="988" y="983"/>
                  </a:lnTo>
                  <a:lnTo>
                    <a:pt x="1024" y="811"/>
                  </a:lnTo>
                  <a:lnTo>
                    <a:pt x="1024" y="776"/>
                  </a:lnTo>
                  <a:lnTo>
                    <a:pt x="1059" y="776"/>
                  </a:lnTo>
                  <a:lnTo>
                    <a:pt x="1059" y="912"/>
                  </a:lnTo>
                  <a:lnTo>
                    <a:pt x="1094" y="846"/>
                  </a:lnTo>
                  <a:lnTo>
                    <a:pt x="1094" y="740"/>
                  </a:lnTo>
                  <a:lnTo>
                    <a:pt x="1129" y="912"/>
                  </a:lnTo>
                  <a:lnTo>
                    <a:pt x="1129" y="983"/>
                  </a:lnTo>
                  <a:lnTo>
                    <a:pt x="1165" y="881"/>
                  </a:lnTo>
                  <a:lnTo>
                    <a:pt x="1165" y="912"/>
                  </a:lnTo>
                  <a:lnTo>
                    <a:pt x="1200" y="1054"/>
                  </a:lnTo>
                  <a:lnTo>
                    <a:pt x="1200" y="1196"/>
                  </a:lnTo>
                  <a:lnTo>
                    <a:pt x="1235" y="983"/>
                  </a:lnTo>
                  <a:lnTo>
                    <a:pt x="1235" y="1019"/>
                  </a:lnTo>
                  <a:lnTo>
                    <a:pt x="1271" y="1125"/>
                  </a:lnTo>
                  <a:lnTo>
                    <a:pt x="1306" y="1054"/>
                  </a:lnTo>
                  <a:lnTo>
                    <a:pt x="1306" y="1125"/>
                  </a:lnTo>
                  <a:lnTo>
                    <a:pt x="1341" y="1231"/>
                  </a:lnTo>
                  <a:lnTo>
                    <a:pt x="1341" y="1196"/>
                  </a:lnTo>
                  <a:lnTo>
                    <a:pt x="1376" y="1301"/>
                  </a:lnTo>
                  <a:lnTo>
                    <a:pt x="1412" y="1478"/>
                  </a:lnTo>
                  <a:lnTo>
                    <a:pt x="1412" y="1407"/>
                  </a:lnTo>
                  <a:lnTo>
                    <a:pt x="1447" y="1407"/>
                  </a:lnTo>
                  <a:lnTo>
                    <a:pt x="1447" y="1513"/>
                  </a:lnTo>
                  <a:lnTo>
                    <a:pt x="1482" y="1548"/>
                  </a:lnTo>
                  <a:lnTo>
                    <a:pt x="1517" y="1478"/>
                  </a:lnTo>
                  <a:lnTo>
                    <a:pt x="1517" y="1619"/>
                  </a:lnTo>
                  <a:lnTo>
                    <a:pt x="1553" y="1795"/>
                  </a:lnTo>
                  <a:lnTo>
                    <a:pt x="1553" y="1654"/>
                  </a:lnTo>
                  <a:lnTo>
                    <a:pt x="1588" y="1689"/>
                  </a:lnTo>
                  <a:lnTo>
                    <a:pt x="1588" y="1760"/>
                  </a:lnTo>
                  <a:lnTo>
                    <a:pt x="1623" y="1866"/>
                  </a:lnTo>
                  <a:lnTo>
                    <a:pt x="1623" y="1760"/>
                  </a:lnTo>
                  <a:lnTo>
                    <a:pt x="1659" y="1725"/>
                  </a:lnTo>
                  <a:lnTo>
                    <a:pt x="1659" y="1901"/>
                  </a:lnTo>
                  <a:lnTo>
                    <a:pt x="1694" y="1972"/>
                  </a:lnTo>
                  <a:lnTo>
                    <a:pt x="1694" y="1795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1200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106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106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200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70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70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451400" y="4132440"/>
            <a:ext cx="2537280" cy="1381320"/>
            <a:chOff x="4451400" y="4132440"/>
            <a:chExt cx="2537280" cy="1381320"/>
          </a:xfrm>
        </p:grpSpPr>
        <p:sp>
          <p:nvSpPr>
            <p:cNvPr id="455" name=""/>
            <p:cNvSpPr/>
            <p:nvPr/>
          </p:nvSpPr>
          <p:spPr>
            <a:xfrm>
              <a:off x="44514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867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20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20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25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36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388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41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41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514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902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55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55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60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71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423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76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76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08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11" y="1973"/>
                  </a:lnTo>
                  <a:lnTo>
                    <a:pt x="211" y="2114"/>
                  </a:lnTo>
                  <a:lnTo>
                    <a:pt x="246" y="1832"/>
                  </a:lnTo>
                  <a:lnTo>
                    <a:pt x="246" y="1796"/>
                  </a:lnTo>
                  <a:lnTo>
                    <a:pt x="282" y="1973"/>
                  </a:lnTo>
                  <a:lnTo>
                    <a:pt x="282" y="1973"/>
                  </a:lnTo>
                  <a:lnTo>
                    <a:pt x="317" y="1726"/>
                  </a:lnTo>
                  <a:lnTo>
                    <a:pt x="317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608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11" y="1973"/>
                  </a:lnTo>
                  <a:lnTo>
                    <a:pt x="211" y="2114"/>
                  </a:lnTo>
                  <a:lnTo>
                    <a:pt x="246" y="1832"/>
                  </a:lnTo>
                  <a:lnTo>
                    <a:pt x="246" y="1796"/>
                  </a:lnTo>
                  <a:lnTo>
                    <a:pt x="282" y="1973"/>
                  </a:lnTo>
                  <a:lnTo>
                    <a:pt x="317" y="1726"/>
                  </a:lnTo>
                  <a:lnTo>
                    <a:pt x="317" y="1867"/>
                  </a:lnTo>
                  <a:lnTo>
                    <a:pt x="348" y="2043"/>
                  </a:lnTo>
                  <a:lnTo>
                    <a:pt x="348" y="2008"/>
                  </a:lnTo>
                  <a:lnTo>
                    <a:pt x="348" y="1796"/>
                  </a:lnTo>
                  <a:lnTo>
                    <a:pt x="383" y="1796"/>
                  </a:lnTo>
                  <a:lnTo>
                    <a:pt x="383" y="1902"/>
                  </a:lnTo>
                  <a:lnTo>
                    <a:pt x="418" y="1902"/>
                  </a:lnTo>
                  <a:lnTo>
                    <a:pt x="418" y="1690"/>
                  </a:lnTo>
                  <a:lnTo>
                    <a:pt x="454" y="1726"/>
                  </a:lnTo>
                  <a:lnTo>
                    <a:pt x="454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815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52"/>
                  </a:lnTo>
                  <a:lnTo>
                    <a:pt x="35" y="105"/>
                  </a:lnTo>
                  <a:lnTo>
                    <a:pt x="35" y="70"/>
                  </a:lnTo>
                  <a:lnTo>
                    <a:pt x="70" y="282"/>
                  </a:lnTo>
                  <a:lnTo>
                    <a:pt x="70" y="352"/>
                  </a:lnTo>
                  <a:lnTo>
                    <a:pt x="105" y="141"/>
                  </a:lnTo>
                  <a:lnTo>
                    <a:pt x="105" y="70"/>
                  </a:lnTo>
                  <a:lnTo>
                    <a:pt x="105" y="282"/>
                  </a:lnTo>
                  <a:lnTo>
                    <a:pt x="141" y="388"/>
                  </a:lnTo>
                  <a:lnTo>
                    <a:pt x="141" y="141"/>
                  </a:lnTo>
                  <a:lnTo>
                    <a:pt x="176" y="105"/>
                  </a:lnTo>
                  <a:lnTo>
                    <a:pt x="176" y="246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41"/>
                  </a:lnTo>
                  <a:lnTo>
                    <a:pt x="246" y="282"/>
                  </a:lnTo>
                  <a:lnTo>
                    <a:pt x="282" y="246"/>
                  </a:lnTo>
                  <a:lnTo>
                    <a:pt x="282" y="105"/>
                  </a:lnTo>
                  <a:lnTo>
                    <a:pt x="317" y="70"/>
                  </a:lnTo>
                  <a:lnTo>
                    <a:pt x="317" y="352"/>
                  </a:lnTo>
                  <a:lnTo>
                    <a:pt x="352" y="317"/>
                  </a:lnTo>
                  <a:lnTo>
                    <a:pt x="352" y="70"/>
                  </a:lnTo>
                  <a:lnTo>
                    <a:pt x="388" y="141"/>
                  </a:lnTo>
                  <a:lnTo>
                    <a:pt x="388" y="246"/>
                  </a:lnTo>
                  <a:lnTo>
                    <a:pt x="424" y="423"/>
                  </a:lnTo>
                  <a:lnTo>
                    <a:pt x="424" y="141"/>
                  </a:lnTo>
                  <a:lnTo>
                    <a:pt x="459" y="70"/>
                  </a:lnTo>
                  <a:lnTo>
                    <a:pt x="459" y="317"/>
                  </a:lnTo>
                  <a:lnTo>
                    <a:pt x="494" y="317"/>
                  </a:lnTo>
                  <a:lnTo>
                    <a:pt x="494" y="105"/>
                  </a:lnTo>
                  <a:lnTo>
                    <a:pt x="530" y="141"/>
                  </a:lnTo>
                  <a:lnTo>
                    <a:pt x="530" y="246"/>
                  </a:lnTo>
                  <a:lnTo>
                    <a:pt x="565" y="352"/>
                  </a:lnTo>
                  <a:lnTo>
                    <a:pt x="565" y="176"/>
                  </a:lnTo>
                  <a:lnTo>
                    <a:pt x="600" y="141"/>
                  </a:lnTo>
                  <a:lnTo>
                    <a:pt x="600" y="246"/>
                  </a:lnTo>
                  <a:lnTo>
                    <a:pt x="636" y="388"/>
                  </a:lnTo>
                  <a:lnTo>
                    <a:pt x="636" y="70"/>
                  </a:lnTo>
                  <a:lnTo>
                    <a:pt x="671" y="35"/>
                  </a:lnTo>
                  <a:lnTo>
                    <a:pt x="671" y="317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41"/>
                  </a:lnTo>
                  <a:lnTo>
                    <a:pt x="741" y="423"/>
                  </a:lnTo>
                  <a:lnTo>
                    <a:pt x="777" y="282"/>
                  </a:lnTo>
                  <a:lnTo>
                    <a:pt x="777" y="70"/>
                  </a:lnTo>
                  <a:lnTo>
                    <a:pt x="812" y="141"/>
                  </a:lnTo>
                  <a:lnTo>
                    <a:pt x="812" y="352"/>
                  </a:lnTo>
                  <a:lnTo>
                    <a:pt x="847" y="105"/>
                  </a:lnTo>
                  <a:lnTo>
                    <a:pt x="847" y="141"/>
                  </a:lnTo>
                  <a:lnTo>
                    <a:pt x="882" y="282"/>
                  </a:lnTo>
                  <a:lnTo>
                    <a:pt x="882" y="246"/>
                  </a:lnTo>
                  <a:lnTo>
                    <a:pt x="918" y="176"/>
                  </a:lnTo>
                  <a:lnTo>
                    <a:pt x="918" y="105"/>
                  </a:lnTo>
                  <a:lnTo>
                    <a:pt x="953" y="352"/>
                  </a:lnTo>
                  <a:lnTo>
                    <a:pt x="953" y="317"/>
                  </a:lnTo>
                  <a:lnTo>
                    <a:pt x="988" y="176"/>
                  </a:lnTo>
                  <a:lnTo>
                    <a:pt x="988" y="70"/>
                  </a:lnTo>
                  <a:lnTo>
                    <a:pt x="1024" y="246"/>
                  </a:lnTo>
                  <a:lnTo>
                    <a:pt x="1024" y="282"/>
                  </a:lnTo>
                  <a:lnTo>
                    <a:pt x="1059" y="176"/>
                  </a:lnTo>
                  <a:lnTo>
                    <a:pt x="1059" y="141"/>
                  </a:lnTo>
                  <a:lnTo>
                    <a:pt x="1094" y="246"/>
                  </a:lnTo>
                  <a:lnTo>
                    <a:pt x="1094" y="317"/>
                  </a:lnTo>
                  <a:lnTo>
                    <a:pt x="1129" y="176"/>
                  </a:lnTo>
                  <a:lnTo>
                    <a:pt x="1165" y="317"/>
                  </a:lnTo>
                  <a:lnTo>
                    <a:pt x="1165" y="913"/>
                  </a:lnTo>
                  <a:lnTo>
                    <a:pt x="1196" y="1160"/>
                  </a:lnTo>
                  <a:lnTo>
                    <a:pt x="1196" y="1054"/>
                  </a:lnTo>
                  <a:lnTo>
                    <a:pt x="1231" y="1337"/>
                  </a:lnTo>
                  <a:lnTo>
                    <a:pt x="1231" y="1513"/>
                  </a:lnTo>
                  <a:lnTo>
                    <a:pt x="1266" y="1478"/>
                  </a:lnTo>
                  <a:lnTo>
                    <a:pt x="1266" y="1549"/>
                  </a:lnTo>
                  <a:lnTo>
                    <a:pt x="1302" y="1796"/>
                  </a:lnTo>
                  <a:lnTo>
                    <a:pt x="1302" y="1902"/>
                  </a:lnTo>
                  <a:lnTo>
                    <a:pt x="1338" y="1585"/>
                  </a:lnTo>
                  <a:lnTo>
                    <a:pt x="1338" y="1832"/>
                  </a:lnTo>
                  <a:lnTo>
                    <a:pt x="1373" y="1937"/>
                  </a:lnTo>
                  <a:lnTo>
                    <a:pt x="1373" y="1973"/>
                  </a:lnTo>
                  <a:lnTo>
                    <a:pt x="1408" y="1726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690"/>
                  </a:lnTo>
                  <a:lnTo>
                    <a:pt x="1514" y="1973"/>
                  </a:lnTo>
                  <a:lnTo>
                    <a:pt x="1549" y="1726"/>
                  </a:lnTo>
                  <a:lnTo>
                    <a:pt x="1549" y="1867"/>
                  </a:lnTo>
                  <a:lnTo>
                    <a:pt x="1549" y="2043"/>
                  </a:lnTo>
                  <a:lnTo>
                    <a:pt x="1585" y="1973"/>
                  </a:lnTo>
                  <a:lnTo>
                    <a:pt x="1585" y="1796"/>
                  </a:lnTo>
                  <a:lnTo>
                    <a:pt x="1620" y="1796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815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88"/>
                  </a:lnTo>
                  <a:lnTo>
                    <a:pt x="35" y="141"/>
                  </a:lnTo>
                  <a:lnTo>
                    <a:pt x="35" y="105"/>
                  </a:lnTo>
                  <a:lnTo>
                    <a:pt x="70" y="317"/>
                  </a:lnTo>
                  <a:lnTo>
                    <a:pt x="70" y="388"/>
                  </a:lnTo>
                  <a:lnTo>
                    <a:pt x="105" y="176"/>
                  </a:lnTo>
                  <a:lnTo>
                    <a:pt x="105" y="70"/>
                  </a:lnTo>
                  <a:lnTo>
                    <a:pt x="105" y="317"/>
                  </a:lnTo>
                  <a:lnTo>
                    <a:pt x="141" y="423"/>
                  </a:lnTo>
                  <a:lnTo>
                    <a:pt x="141" y="176"/>
                  </a:lnTo>
                  <a:lnTo>
                    <a:pt x="176" y="141"/>
                  </a:lnTo>
                  <a:lnTo>
                    <a:pt x="176" y="282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76"/>
                  </a:lnTo>
                  <a:lnTo>
                    <a:pt x="246" y="317"/>
                  </a:lnTo>
                  <a:lnTo>
                    <a:pt x="282" y="282"/>
                  </a:lnTo>
                  <a:lnTo>
                    <a:pt x="282" y="141"/>
                  </a:lnTo>
                  <a:lnTo>
                    <a:pt x="317" y="105"/>
                  </a:lnTo>
                  <a:lnTo>
                    <a:pt x="317" y="388"/>
                  </a:lnTo>
                  <a:lnTo>
                    <a:pt x="352" y="352"/>
                  </a:lnTo>
                  <a:lnTo>
                    <a:pt x="352" y="105"/>
                  </a:lnTo>
                  <a:lnTo>
                    <a:pt x="388" y="176"/>
                  </a:lnTo>
                  <a:lnTo>
                    <a:pt x="388" y="282"/>
                  </a:lnTo>
                  <a:lnTo>
                    <a:pt x="424" y="458"/>
                  </a:lnTo>
                  <a:lnTo>
                    <a:pt x="424" y="176"/>
                  </a:lnTo>
                  <a:lnTo>
                    <a:pt x="459" y="70"/>
                  </a:lnTo>
                  <a:lnTo>
                    <a:pt x="459" y="352"/>
                  </a:lnTo>
                  <a:lnTo>
                    <a:pt x="494" y="317"/>
                  </a:lnTo>
                  <a:lnTo>
                    <a:pt x="494" y="141"/>
                  </a:lnTo>
                  <a:lnTo>
                    <a:pt x="530" y="176"/>
                  </a:lnTo>
                  <a:lnTo>
                    <a:pt x="530" y="282"/>
                  </a:lnTo>
                  <a:lnTo>
                    <a:pt x="565" y="388"/>
                  </a:lnTo>
                  <a:lnTo>
                    <a:pt x="565" y="211"/>
                  </a:lnTo>
                  <a:lnTo>
                    <a:pt x="600" y="176"/>
                  </a:lnTo>
                  <a:lnTo>
                    <a:pt x="600" y="282"/>
                  </a:lnTo>
                  <a:lnTo>
                    <a:pt x="636" y="423"/>
                  </a:lnTo>
                  <a:lnTo>
                    <a:pt x="636" y="70"/>
                  </a:lnTo>
                  <a:lnTo>
                    <a:pt x="671" y="70"/>
                  </a:lnTo>
                  <a:lnTo>
                    <a:pt x="671" y="352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76"/>
                  </a:lnTo>
                  <a:lnTo>
                    <a:pt x="741" y="458"/>
                  </a:lnTo>
                  <a:lnTo>
                    <a:pt x="777" y="317"/>
                  </a:lnTo>
                  <a:lnTo>
                    <a:pt x="777" y="105"/>
                  </a:lnTo>
                  <a:lnTo>
                    <a:pt x="812" y="176"/>
                  </a:lnTo>
                  <a:lnTo>
                    <a:pt x="812" y="388"/>
                  </a:lnTo>
                  <a:lnTo>
                    <a:pt x="847" y="141"/>
                  </a:lnTo>
                  <a:lnTo>
                    <a:pt x="847" y="176"/>
                  </a:lnTo>
                  <a:lnTo>
                    <a:pt x="882" y="317"/>
                  </a:lnTo>
                  <a:lnTo>
                    <a:pt x="882" y="282"/>
                  </a:lnTo>
                  <a:lnTo>
                    <a:pt x="918" y="211"/>
                  </a:lnTo>
                  <a:lnTo>
                    <a:pt x="918" y="141"/>
                  </a:lnTo>
                  <a:lnTo>
                    <a:pt x="953" y="388"/>
                  </a:lnTo>
                  <a:lnTo>
                    <a:pt x="953" y="317"/>
                  </a:lnTo>
                  <a:lnTo>
                    <a:pt x="988" y="211"/>
                  </a:lnTo>
                  <a:lnTo>
                    <a:pt x="988" y="105"/>
                  </a:lnTo>
                  <a:lnTo>
                    <a:pt x="1024" y="282"/>
                  </a:lnTo>
                  <a:lnTo>
                    <a:pt x="1024" y="317"/>
                  </a:lnTo>
                  <a:lnTo>
                    <a:pt x="1059" y="211"/>
                  </a:lnTo>
                  <a:lnTo>
                    <a:pt x="1059" y="176"/>
                  </a:lnTo>
                  <a:lnTo>
                    <a:pt x="1094" y="246"/>
                  </a:lnTo>
                  <a:lnTo>
                    <a:pt x="1094" y="317"/>
                  </a:lnTo>
                  <a:lnTo>
                    <a:pt x="1129" y="176"/>
                  </a:lnTo>
                  <a:lnTo>
                    <a:pt x="1165" y="352"/>
                  </a:lnTo>
                  <a:lnTo>
                    <a:pt x="1165" y="913"/>
                  </a:lnTo>
                  <a:lnTo>
                    <a:pt x="1196" y="1160"/>
                  </a:lnTo>
                  <a:lnTo>
                    <a:pt x="1196" y="1090"/>
                  </a:lnTo>
                  <a:lnTo>
                    <a:pt x="1231" y="1372"/>
                  </a:lnTo>
                  <a:lnTo>
                    <a:pt x="1231" y="1549"/>
                  </a:lnTo>
                  <a:lnTo>
                    <a:pt x="1266" y="1513"/>
                  </a:lnTo>
                  <a:lnTo>
                    <a:pt x="1266" y="1585"/>
                  </a:lnTo>
                  <a:lnTo>
                    <a:pt x="1302" y="1796"/>
                  </a:lnTo>
                  <a:lnTo>
                    <a:pt x="1302" y="1937"/>
                  </a:lnTo>
                  <a:lnTo>
                    <a:pt x="1338" y="1620"/>
                  </a:lnTo>
                  <a:lnTo>
                    <a:pt x="1338" y="1867"/>
                  </a:lnTo>
                  <a:lnTo>
                    <a:pt x="1373" y="1973"/>
                  </a:lnTo>
                  <a:lnTo>
                    <a:pt x="1408" y="1761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726"/>
                  </a:lnTo>
                  <a:lnTo>
                    <a:pt x="1514" y="2008"/>
                  </a:lnTo>
                  <a:lnTo>
                    <a:pt x="1549" y="1761"/>
                  </a:lnTo>
                  <a:lnTo>
                    <a:pt x="1549" y="1902"/>
                  </a:lnTo>
                  <a:lnTo>
                    <a:pt x="1549" y="2043"/>
                  </a:lnTo>
                  <a:lnTo>
                    <a:pt x="1585" y="2008"/>
                  </a:lnTo>
                  <a:lnTo>
                    <a:pt x="1585" y="1832"/>
                  </a:lnTo>
                  <a:lnTo>
                    <a:pt x="1620" y="1832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89560" y="477828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0"/>
                  </a:moveTo>
                  <a:lnTo>
                    <a:pt x="0" y="105"/>
                  </a:lnTo>
                  <a:lnTo>
                    <a:pt x="35" y="282"/>
                  </a:lnTo>
                  <a:lnTo>
                    <a:pt x="35" y="105"/>
                  </a:lnTo>
                  <a:lnTo>
                    <a:pt x="70" y="35"/>
                  </a:lnTo>
                  <a:lnTo>
                    <a:pt x="70" y="246"/>
                  </a:lnTo>
                  <a:lnTo>
                    <a:pt x="105" y="282"/>
                  </a:lnTo>
                  <a:lnTo>
                    <a:pt x="105" y="35"/>
                  </a:lnTo>
                  <a:lnTo>
                    <a:pt x="141" y="0"/>
                  </a:lnTo>
                  <a:lnTo>
                    <a:pt x="141" y="246"/>
                  </a:lnTo>
                  <a:lnTo>
                    <a:pt x="176" y="388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52"/>
                  </a:lnTo>
                  <a:lnTo>
                    <a:pt x="246" y="211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11"/>
                  </a:lnTo>
                  <a:lnTo>
                    <a:pt x="352" y="176"/>
                  </a:lnTo>
                  <a:lnTo>
                    <a:pt x="352" y="352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282"/>
                  </a:lnTo>
                  <a:lnTo>
                    <a:pt x="423" y="423"/>
                  </a:lnTo>
                  <a:lnTo>
                    <a:pt x="458" y="388"/>
                  </a:lnTo>
                  <a:lnTo>
                    <a:pt x="458" y="282"/>
                  </a:lnTo>
                  <a:lnTo>
                    <a:pt x="493" y="352"/>
                  </a:lnTo>
                  <a:lnTo>
                    <a:pt x="493" y="352"/>
                  </a:lnTo>
                  <a:lnTo>
                    <a:pt x="529" y="458"/>
                  </a:lnTo>
                  <a:lnTo>
                    <a:pt x="529" y="317"/>
                  </a:lnTo>
                  <a:lnTo>
                    <a:pt x="564" y="352"/>
                  </a:lnTo>
                  <a:lnTo>
                    <a:pt x="564" y="494"/>
                  </a:lnTo>
                  <a:lnTo>
                    <a:pt x="599" y="565"/>
                  </a:lnTo>
                  <a:lnTo>
                    <a:pt x="599" y="423"/>
                  </a:lnTo>
                  <a:lnTo>
                    <a:pt x="599" y="352"/>
                  </a:lnTo>
                  <a:lnTo>
                    <a:pt x="635" y="565"/>
                  </a:lnTo>
                  <a:lnTo>
                    <a:pt x="635" y="530"/>
                  </a:lnTo>
                  <a:lnTo>
                    <a:pt x="670" y="423"/>
                  </a:lnTo>
                  <a:lnTo>
                    <a:pt x="705" y="494"/>
                  </a:lnTo>
                  <a:lnTo>
                    <a:pt x="705" y="671"/>
                  </a:lnTo>
                  <a:lnTo>
                    <a:pt x="740" y="494"/>
                  </a:lnTo>
                  <a:lnTo>
                    <a:pt x="740" y="423"/>
                  </a:lnTo>
                  <a:lnTo>
                    <a:pt x="776" y="671"/>
                  </a:lnTo>
                  <a:lnTo>
                    <a:pt x="776" y="741"/>
                  </a:lnTo>
                  <a:lnTo>
                    <a:pt x="811" y="600"/>
                  </a:lnTo>
                  <a:lnTo>
                    <a:pt x="811" y="494"/>
                  </a:lnTo>
                  <a:lnTo>
                    <a:pt x="846" y="741"/>
                  </a:lnTo>
                  <a:lnTo>
                    <a:pt x="846" y="741"/>
                  </a:lnTo>
                  <a:lnTo>
                    <a:pt x="882" y="530"/>
                  </a:lnTo>
                  <a:lnTo>
                    <a:pt x="882" y="706"/>
                  </a:lnTo>
                  <a:lnTo>
                    <a:pt x="918" y="741"/>
                  </a:lnTo>
                  <a:lnTo>
                    <a:pt x="918" y="741"/>
                  </a:lnTo>
                  <a:lnTo>
                    <a:pt x="953" y="671"/>
                  </a:lnTo>
                  <a:lnTo>
                    <a:pt x="953" y="671"/>
                  </a:lnTo>
                  <a:lnTo>
                    <a:pt x="988" y="812"/>
                  </a:lnTo>
                  <a:lnTo>
                    <a:pt x="988" y="949"/>
                  </a:lnTo>
                  <a:lnTo>
                    <a:pt x="1024" y="777"/>
                  </a:lnTo>
                  <a:lnTo>
                    <a:pt x="1024" y="741"/>
                  </a:lnTo>
                  <a:lnTo>
                    <a:pt x="1059" y="741"/>
                  </a:lnTo>
                  <a:lnTo>
                    <a:pt x="1059" y="913"/>
                  </a:lnTo>
                  <a:lnTo>
                    <a:pt x="1094" y="847"/>
                  </a:lnTo>
                  <a:lnTo>
                    <a:pt x="1094" y="741"/>
                  </a:lnTo>
                  <a:lnTo>
                    <a:pt x="1129" y="913"/>
                  </a:lnTo>
                  <a:lnTo>
                    <a:pt x="1129" y="984"/>
                  </a:lnTo>
                  <a:lnTo>
                    <a:pt x="1165" y="847"/>
                  </a:lnTo>
                  <a:lnTo>
                    <a:pt x="1165" y="882"/>
                  </a:lnTo>
                  <a:lnTo>
                    <a:pt x="1200" y="1019"/>
                  </a:lnTo>
                  <a:lnTo>
                    <a:pt x="1200" y="1160"/>
                  </a:lnTo>
                  <a:lnTo>
                    <a:pt x="1235" y="949"/>
                  </a:lnTo>
                  <a:lnTo>
                    <a:pt x="1235" y="984"/>
                  </a:lnTo>
                  <a:lnTo>
                    <a:pt x="1271" y="1090"/>
                  </a:lnTo>
                  <a:lnTo>
                    <a:pt x="1306" y="1054"/>
                  </a:lnTo>
                  <a:lnTo>
                    <a:pt x="1306" y="1090"/>
                  </a:lnTo>
                  <a:lnTo>
                    <a:pt x="1341" y="1231"/>
                  </a:lnTo>
                  <a:lnTo>
                    <a:pt x="1341" y="1160"/>
                  </a:lnTo>
                  <a:lnTo>
                    <a:pt x="1376" y="1266"/>
                  </a:lnTo>
                  <a:lnTo>
                    <a:pt x="1412" y="1442"/>
                  </a:lnTo>
                  <a:lnTo>
                    <a:pt x="1412" y="1407"/>
                  </a:lnTo>
                  <a:lnTo>
                    <a:pt x="1447" y="1372"/>
                  </a:lnTo>
                  <a:lnTo>
                    <a:pt x="1447" y="1479"/>
                  </a:lnTo>
                  <a:lnTo>
                    <a:pt x="1482" y="1549"/>
                  </a:lnTo>
                  <a:lnTo>
                    <a:pt x="1482" y="1514"/>
                  </a:lnTo>
                  <a:lnTo>
                    <a:pt x="1517" y="1442"/>
                  </a:lnTo>
                  <a:lnTo>
                    <a:pt x="1517" y="1585"/>
                  </a:lnTo>
                  <a:lnTo>
                    <a:pt x="1553" y="1761"/>
                  </a:lnTo>
                  <a:lnTo>
                    <a:pt x="1553" y="1620"/>
                  </a:lnTo>
                  <a:lnTo>
                    <a:pt x="1588" y="1655"/>
                  </a:lnTo>
                  <a:lnTo>
                    <a:pt x="1588" y="1726"/>
                  </a:lnTo>
                  <a:lnTo>
                    <a:pt x="1623" y="1832"/>
                  </a:lnTo>
                  <a:lnTo>
                    <a:pt x="1623" y="1726"/>
                  </a:lnTo>
                  <a:lnTo>
                    <a:pt x="1659" y="1690"/>
                  </a:lnTo>
                  <a:lnTo>
                    <a:pt x="1659" y="1867"/>
                  </a:lnTo>
                  <a:lnTo>
                    <a:pt x="1694" y="1937"/>
                  </a:lnTo>
                  <a:lnTo>
                    <a:pt x="1694" y="17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89560" y="4778280"/>
              <a:ext cx="609840" cy="709920"/>
            </a:xfrm>
            <a:custGeom>
              <a:avLst/>
              <a:gdLst/>
              <a:ahLst/>
              <a:rect l="0" t="0" r="r" b="b"/>
              <a:pathLst>
                <a:path fill="none" w="1694" h="1972">
                  <a:moveTo>
                    <a:pt x="0" y="0"/>
                  </a:moveTo>
                  <a:lnTo>
                    <a:pt x="0" y="141"/>
                  </a:lnTo>
                  <a:lnTo>
                    <a:pt x="35" y="317"/>
                  </a:lnTo>
                  <a:lnTo>
                    <a:pt x="35" y="105"/>
                  </a:lnTo>
                  <a:lnTo>
                    <a:pt x="70" y="70"/>
                  </a:lnTo>
                  <a:lnTo>
                    <a:pt x="70" y="246"/>
                  </a:lnTo>
                  <a:lnTo>
                    <a:pt x="105" y="317"/>
                  </a:lnTo>
                  <a:lnTo>
                    <a:pt x="105" y="70"/>
                  </a:lnTo>
                  <a:lnTo>
                    <a:pt x="141" y="35"/>
                  </a:lnTo>
                  <a:lnTo>
                    <a:pt x="141" y="282"/>
                  </a:lnTo>
                  <a:lnTo>
                    <a:pt x="176" y="423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88"/>
                  </a:lnTo>
                  <a:lnTo>
                    <a:pt x="246" y="246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46"/>
                  </a:lnTo>
                  <a:lnTo>
                    <a:pt x="352" y="211"/>
                  </a:lnTo>
                  <a:lnTo>
                    <a:pt x="352" y="388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317"/>
                  </a:lnTo>
                  <a:lnTo>
                    <a:pt x="423" y="423"/>
                  </a:lnTo>
                  <a:lnTo>
                    <a:pt x="458" y="423"/>
                  </a:lnTo>
                  <a:lnTo>
                    <a:pt x="458" y="317"/>
                  </a:lnTo>
                  <a:lnTo>
                    <a:pt x="493" y="352"/>
                  </a:lnTo>
                  <a:lnTo>
                    <a:pt x="493" y="388"/>
                  </a:lnTo>
                  <a:lnTo>
                    <a:pt x="529" y="493"/>
                  </a:lnTo>
                  <a:lnTo>
                    <a:pt x="529" y="317"/>
                  </a:lnTo>
                  <a:lnTo>
                    <a:pt x="564" y="388"/>
                  </a:lnTo>
                  <a:lnTo>
                    <a:pt x="564" y="529"/>
                  </a:lnTo>
                  <a:lnTo>
                    <a:pt x="599" y="564"/>
                  </a:lnTo>
                  <a:lnTo>
                    <a:pt x="599" y="458"/>
                  </a:lnTo>
                  <a:lnTo>
                    <a:pt x="599" y="352"/>
                  </a:lnTo>
                  <a:lnTo>
                    <a:pt x="635" y="564"/>
                  </a:lnTo>
                  <a:lnTo>
                    <a:pt x="670" y="458"/>
                  </a:lnTo>
                  <a:lnTo>
                    <a:pt x="705" y="493"/>
                  </a:lnTo>
                  <a:lnTo>
                    <a:pt x="705" y="705"/>
                  </a:lnTo>
                  <a:lnTo>
                    <a:pt x="740" y="529"/>
                  </a:lnTo>
                  <a:lnTo>
                    <a:pt x="740" y="458"/>
                  </a:lnTo>
                  <a:lnTo>
                    <a:pt x="776" y="670"/>
                  </a:lnTo>
                  <a:lnTo>
                    <a:pt x="776" y="740"/>
                  </a:lnTo>
                  <a:lnTo>
                    <a:pt x="811" y="635"/>
                  </a:lnTo>
                  <a:lnTo>
                    <a:pt x="811" y="529"/>
                  </a:lnTo>
                  <a:lnTo>
                    <a:pt x="846" y="776"/>
                  </a:lnTo>
                  <a:lnTo>
                    <a:pt x="846" y="740"/>
                  </a:lnTo>
                  <a:lnTo>
                    <a:pt x="882" y="564"/>
                  </a:lnTo>
                  <a:lnTo>
                    <a:pt x="882" y="740"/>
                  </a:lnTo>
                  <a:lnTo>
                    <a:pt x="918" y="776"/>
                  </a:lnTo>
                  <a:lnTo>
                    <a:pt x="918" y="740"/>
                  </a:lnTo>
                  <a:lnTo>
                    <a:pt x="953" y="705"/>
                  </a:lnTo>
                  <a:lnTo>
                    <a:pt x="953" y="670"/>
                  </a:lnTo>
                  <a:lnTo>
                    <a:pt x="988" y="811"/>
                  </a:lnTo>
                  <a:lnTo>
                    <a:pt x="988" y="983"/>
                  </a:lnTo>
                  <a:lnTo>
                    <a:pt x="1024" y="811"/>
                  </a:lnTo>
                  <a:lnTo>
                    <a:pt x="1024" y="776"/>
                  </a:lnTo>
                  <a:lnTo>
                    <a:pt x="1059" y="776"/>
                  </a:lnTo>
                  <a:lnTo>
                    <a:pt x="1059" y="912"/>
                  </a:lnTo>
                  <a:lnTo>
                    <a:pt x="1094" y="846"/>
                  </a:lnTo>
                  <a:lnTo>
                    <a:pt x="1094" y="740"/>
                  </a:lnTo>
                  <a:lnTo>
                    <a:pt x="1129" y="912"/>
                  </a:lnTo>
                  <a:lnTo>
                    <a:pt x="1129" y="983"/>
                  </a:lnTo>
                  <a:lnTo>
                    <a:pt x="1165" y="881"/>
                  </a:lnTo>
                  <a:lnTo>
                    <a:pt x="1165" y="912"/>
                  </a:lnTo>
                  <a:lnTo>
                    <a:pt x="1200" y="1054"/>
                  </a:lnTo>
                  <a:lnTo>
                    <a:pt x="1200" y="1196"/>
                  </a:lnTo>
                  <a:lnTo>
                    <a:pt x="1235" y="983"/>
                  </a:lnTo>
                  <a:lnTo>
                    <a:pt x="1235" y="1019"/>
                  </a:lnTo>
                  <a:lnTo>
                    <a:pt x="1271" y="1125"/>
                  </a:lnTo>
                  <a:lnTo>
                    <a:pt x="1306" y="1054"/>
                  </a:lnTo>
                  <a:lnTo>
                    <a:pt x="1306" y="1125"/>
                  </a:lnTo>
                  <a:lnTo>
                    <a:pt x="1341" y="1231"/>
                  </a:lnTo>
                  <a:lnTo>
                    <a:pt x="1341" y="1196"/>
                  </a:lnTo>
                  <a:lnTo>
                    <a:pt x="1376" y="1301"/>
                  </a:lnTo>
                  <a:lnTo>
                    <a:pt x="1412" y="1478"/>
                  </a:lnTo>
                  <a:lnTo>
                    <a:pt x="1412" y="1407"/>
                  </a:lnTo>
                  <a:lnTo>
                    <a:pt x="1447" y="1407"/>
                  </a:lnTo>
                  <a:lnTo>
                    <a:pt x="1447" y="1513"/>
                  </a:lnTo>
                  <a:lnTo>
                    <a:pt x="1482" y="1548"/>
                  </a:lnTo>
                  <a:lnTo>
                    <a:pt x="1517" y="1478"/>
                  </a:lnTo>
                  <a:lnTo>
                    <a:pt x="1517" y="1619"/>
                  </a:lnTo>
                  <a:lnTo>
                    <a:pt x="1553" y="1795"/>
                  </a:lnTo>
                  <a:lnTo>
                    <a:pt x="1553" y="1654"/>
                  </a:lnTo>
                  <a:lnTo>
                    <a:pt x="1588" y="1689"/>
                  </a:lnTo>
                  <a:lnTo>
                    <a:pt x="1588" y="1760"/>
                  </a:lnTo>
                  <a:lnTo>
                    <a:pt x="1623" y="1866"/>
                  </a:lnTo>
                  <a:lnTo>
                    <a:pt x="1623" y="1760"/>
                  </a:lnTo>
                  <a:lnTo>
                    <a:pt x="1659" y="1725"/>
                  </a:lnTo>
                  <a:lnTo>
                    <a:pt x="1659" y="1901"/>
                  </a:lnTo>
                  <a:lnTo>
                    <a:pt x="1694" y="1972"/>
                  </a:lnTo>
                  <a:lnTo>
                    <a:pt x="1694" y="17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9940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106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106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9940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70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70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326200" y="4132440"/>
            <a:ext cx="2536920" cy="1381320"/>
            <a:chOff x="5326200" y="4132440"/>
            <a:chExt cx="2536920" cy="1381320"/>
          </a:xfrm>
        </p:grpSpPr>
        <p:sp>
          <p:nvSpPr>
            <p:cNvPr id="466" name=""/>
            <p:cNvSpPr/>
            <p:nvPr/>
          </p:nvSpPr>
          <p:spPr>
            <a:xfrm>
              <a:off x="53262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867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20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20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25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36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388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41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41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26200" y="481644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1796"/>
                  </a:moveTo>
                  <a:lnTo>
                    <a:pt x="0" y="1761"/>
                  </a:lnTo>
                  <a:lnTo>
                    <a:pt x="35" y="1902"/>
                  </a:lnTo>
                  <a:lnTo>
                    <a:pt x="35" y="1937"/>
                  </a:lnTo>
                  <a:lnTo>
                    <a:pt x="70" y="1761"/>
                  </a:lnTo>
                  <a:lnTo>
                    <a:pt x="70" y="1726"/>
                  </a:lnTo>
                  <a:lnTo>
                    <a:pt x="105" y="1867"/>
                  </a:lnTo>
                  <a:lnTo>
                    <a:pt x="141" y="1655"/>
                  </a:lnTo>
                  <a:lnTo>
                    <a:pt x="141" y="1761"/>
                  </a:lnTo>
                  <a:lnTo>
                    <a:pt x="176" y="1796"/>
                  </a:lnTo>
                  <a:lnTo>
                    <a:pt x="176" y="1832"/>
                  </a:lnTo>
                  <a:lnTo>
                    <a:pt x="211" y="1655"/>
                  </a:lnTo>
                  <a:lnTo>
                    <a:pt x="246" y="1726"/>
                  </a:lnTo>
                  <a:lnTo>
                    <a:pt x="246" y="1796"/>
                  </a:lnTo>
                  <a:lnTo>
                    <a:pt x="282" y="1549"/>
                  </a:lnTo>
                  <a:lnTo>
                    <a:pt x="317" y="1585"/>
                  </a:lnTo>
                  <a:lnTo>
                    <a:pt x="317" y="1655"/>
                  </a:lnTo>
                  <a:lnTo>
                    <a:pt x="352" y="1407"/>
                  </a:lnTo>
                  <a:lnTo>
                    <a:pt x="352" y="1442"/>
                  </a:lnTo>
                  <a:lnTo>
                    <a:pt x="388" y="1514"/>
                  </a:lnTo>
                  <a:lnTo>
                    <a:pt x="388" y="1372"/>
                  </a:lnTo>
                  <a:lnTo>
                    <a:pt x="423" y="1301"/>
                  </a:lnTo>
                  <a:lnTo>
                    <a:pt x="458" y="1337"/>
                  </a:lnTo>
                  <a:lnTo>
                    <a:pt x="458" y="1231"/>
                  </a:lnTo>
                  <a:lnTo>
                    <a:pt x="493" y="1160"/>
                  </a:lnTo>
                  <a:lnTo>
                    <a:pt x="493" y="1090"/>
                  </a:lnTo>
                  <a:lnTo>
                    <a:pt x="529" y="1231"/>
                  </a:lnTo>
                  <a:lnTo>
                    <a:pt x="529" y="1196"/>
                  </a:lnTo>
                  <a:lnTo>
                    <a:pt x="564" y="1019"/>
                  </a:lnTo>
                  <a:lnTo>
                    <a:pt x="564" y="984"/>
                  </a:lnTo>
                  <a:lnTo>
                    <a:pt x="564" y="1125"/>
                  </a:lnTo>
                  <a:lnTo>
                    <a:pt x="599" y="949"/>
                  </a:lnTo>
                  <a:lnTo>
                    <a:pt x="599" y="843"/>
                  </a:lnTo>
                  <a:lnTo>
                    <a:pt x="635" y="984"/>
                  </a:lnTo>
                  <a:lnTo>
                    <a:pt x="635" y="913"/>
                  </a:lnTo>
                  <a:lnTo>
                    <a:pt x="670" y="984"/>
                  </a:lnTo>
                  <a:lnTo>
                    <a:pt x="670" y="843"/>
                  </a:lnTo>
                  <a:lnTo>
                    <a:pt x="705" y="777"/>
                  </a:lnTo>
                  <a:lnTo>
                    <a:pt x="705" y="913"/>
                  </a:lnTo>
                  <a:lnTo>
                    <a:pt x="740" y="741"/>
                  </a:lnTo>
                  <a:lnTo>
                    <a:pt x="740" y="777"/>
                  </a:lnTo>
                  <a:lnTo>
                    <a:pt x="776" y="671"/>
                  </a:lnTo>
                  <a:lnTo>
                    <a:pt x="776" y="807"/>
                  </a:lnTo>
                  <a:lnTo>
                    <a:pt x="811" y="807"/>
                  </a:lnTo>
                  <a:lnTo>
                    <a:pt x="811" y="600"/>
                  </a:lnTo>
                  <a:lnTo>
                    <a:pt x="846" y="671"/>
                  </a:lnTo>
                  <a:lnTo>
                    <a:pt x="846" y="807"/>
                  </a:lnTo>
                  <a:lnTo>
                    <a:pt x="882" y="807"/>
                  </a:lnTo>
                  <a:lnTo>
                    <a:pt x="882" y="530"/>
                  </a:lnTo>
                  <a:lnTo>
                    <a:pt x="918" y="565"/>
                  </a:lnTo>
                  <a:lnTo>
                    <a:pt x="918" y="741"/>
                  </a:lnTo>
                  <a:lnTo>
                    <a:pt x="953" y="706"/>
                  </a:lnTo>
                  <a:lnTo>
                    <a:pt x="953" y="530"/>
                  </a:lnTo>
                  <a:lnTo>
                    <a:pt x="988" y="600"/>
                  </a:lnTo>
                  <a:lnTo>
                    <a:pt x="988" y="636"/>
                  </a:lnTo>
                  <a:lnTo>
                    <a:pt x="1024" y="671"/>
                  </a:lnTo>
                  <a:lnTo>
                    <a:pt x="1024" y="423"/>
                  </a:lnTo>
                  <a:lnTo>
                    <a:pt x="1059" y="494"/>
                  </a:lnTo>
                  <a:lnTo>
                    <a:pt x="1059" y="565"/>
                  </a:lnTo>
                  <a:lnTo>
                    <a:pt x="1094" y="600"/>
                  </a:lnTo>
                  <a:lnTo>
                    <a:pt x="1094" y="352"/>
                  </a:lnTo>
                  <a:lnTo>
                    <a:pt x="1129" y="388"/>
                  </a:lnTo>
                  <a:lnTo>
                    <a:pt x="1129" y="565"/>
                  </a:lnTo>
                  <a:lnTo>
                    <a:pt x="1165" y="494"/>
                  </a:lnTo>
                  <a:lnTo>
                    <a:pt x="1165" y="317"/>
                  </a:lnTo>
                  <a:lnTo>
                    <a:pt x="1200" y="388"/>
                  </a:lnTo>
                  <a:lnTo>
                    <a:pt x="1200" y="530"/>
                  </a:lnTo>
                  <a:lnTo>
                    <a:pt x="1235" y="317"/>
                  </a:lnTo>
                  <a:lnTo>
                    <a:pt x="1271" y="246"/>
                  </a:lnTo>
                  <a:lnTo>
                    <a:pt x="1271" y="352"/>
                  </a:lnTo>
                  <a:lnTo>
                    <a:pt x="1306" y="423"/>
                  </a:lnTo>
                  <a:lnTo>
                    <a:pt x="1306" y="246"/>
                  </a:lnTo>
                  <a:lnTo>
                    <a:pt x="1306" y="176"/>
                  </a:lnTo>
                  <a:lnTo>
                    <a:pt x="1341" y="317"/>
                  </a:lnTo>
                  <a:lnTo>
                    <a:pt x="1376" y="246"/>
                  </a:lnTo>
                  <a:lnTo>
                    <a:pt x="1376" y="176"/>
                  </a:lnTo>
                  <a:lnTo>
                    <a:pt x="1412" y="388"/>
                  </a:lnTo>
                  <a:lnTo>
                    <a:pt x="1412" y="317"/>
                  </a:lnTo>
                  <a:lnTo>
                    <a:pt x="1447" y="105"/>
                  </a:lnTo>
                  <a:lnTo>
                    <a:pt x="1447" y="246"/>
                  </a:lnTo>
                  <a:lnTo>
                    <a:pt x="1482" y="352"/>
                  </a:lnTo>
                  <a:lnTo>
                    <a:pt x="1482" y="282"/>
                  </a:lnTo>
                  <a:lnTo>
                    <a:pt x="1517" y="176"/>
                  </a:lnTo>
                  <a:lnTo>
                    <a:pt x="1517" y="105"/>
                  </a:lnTo>
                  <a:lnTo>
                    <a:pt x="1553" y="282"/>
                  </a:lnTo>
                  <a:lnTo>
                    <a:pt x="1553" y="246"/>
                  </a:lnTo>
                  <a:lnTo>
                    <a:pt x="1588" y="176"/>
                  </a:lnTo>
                  <a:lnTo>
                    <a:pt x="1588" y="70"/>
                  </a:lnTo>
                  <a:lnTo>
                    <a:pt x="1623" y="211"/>
                  </a:lnTo>
                  <a:lnTo>
                    <a:pt x="1623" y="246"/>
                  </a:lnTo>
                  <a:lnTo>
                    <a:pt x="1659" y="0"/>
                  </a:lnTo>
                  <a:lnTo>
                    <a:pt x="1659" y="70"/>
                  </a:lnTo>
                  <a:lnTo>
                    <a:pt x="1694" y="211"/>
                  </a:lnTo>
                  <a:lnTo>
                    <a:pt x="1694" y="24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356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11" y="1973"/>
                  </a:lnTo>
                  <a:lnTo>
                    <a:pt x="211" y="2114"/>
                  </a:lnTo>
                  <a:lnTo>
                    <a:pt x="246" y="1832"/>
                  </a:lnTo>
                  <a:lnTo>
                    <a:pt x="246" y="1796"/>
                  </a:lnTo>
                  <a:lnTo>
                    <a:pt x="282" y="1973"/>
                  </a:lnTo>
                  <a:lnTo>
                    <a:pt x="282" y="1973"/>
                  </a:lnTo>
                  <a:lnTo>
                    <a:pt x="317" y="1726"/>
                  </a:lnTo>
                  <a:lnTo>
                    <a:pt x="317" y="1867"/>
                  </a:lnTo>
                  <a:lnTo>
                    <a:pt x="352" y="2043"/>
                  </a:lnTo>
                  <a:lnTo>
                    <a:pt x="352" y="2008"/>
                  </a:lnTo>
                  <a:lnTo>
                    <a:pt x="352" y="1796"/>
                  </a:lnTo>
                  <a:lnTo>
                    <a:pt x="388" y="1796"/>
                  </a:lnTo>
                  <a:lnTo>
                    <a:pt x="388" y="1902"/>
                  </a:lnTo>
                  <a:lnTo>
                    <a:pt x="423" y="1902"/>
                  </a:lnTo>
                  <a:lnTo>
                    <a:pt x="423" y="1690"/>
                  </a:lnTo>
                  <a:lnTo>
                    <a:pt x="458" y="1726"/>
                  </a:lnTo>
                  <a:lnTo>
                    <a:pt x="458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35680" y="4132440"/>
              <a:ext cx="621000" cy="773640"/>
            </a:xfrm>
            <a:custGeom>
              <a:avLst/>
              <a:gdLst/>
              <a:ahLst/>
              <a:rect l="0" t="0" r="r" b="b"/>
              <a:pathLst>
                <a:path fill="none" w="1725" h="2149">
                  <a:moveTo>
                    <a:pt x="0" y="2149"/>
                  </a:moveTo>
                  <a:lnTo>
                    <a:pt x="35" y="1902"/>
                  </a:lnTo>
                  <a:lnTo>
                    <a:pt x="70" y="2078"/>
                  </a:lnTo>
                  <a:lnTo>
                    <a:pt x="70" y="2043"/>
                  </a:lnTo>
                  <a:lnTo>
                    <a:pt x="105" y="1796"/>
                  </a:lnTo>
                  <a:lnTo>
                    <a:pt x="105" y="1867"/>
                  </a:lnTo>
                  <a:lnTo>
                    <a:pt x="141" y="2008"/>
                  </a:lnTo>
                  <a:lnTo>
                    <a:pt x="141" y="2078"/>
                  </a:lnTo>
                  <a:lnTo>
                    <a:pt x="176" y="1867"/>
                  </a:lnTo>
                  <a:lnTo>
                    <a:pt x="176" y="1973"/>
                  </a:lnTo>
                  <a:lnTo>
                    <a:pt x="211" y="1973"/>
                  </a:lnTo>
                  <a:lnTo>
                    <a:pt x="211" y="2114"/>
                  </a:lnTo>
                  <a:lnTo>
                    <a:pt x="246" y="1832"/>
                  </a:lnTo>
                  <a:lnTo>
                    <a:pt x="246" y="1796"/>
                  </a:lnTo>
                  <a:lnTo>
                    <a:pt x="282" y="1973"/>
                  </a:lnTo>
                  <a:lnTo>
                    <a:pt x="317" y="1726"/>
                  </a:lnTo>
                  <a:lnTo>
                    <a:pt x="317" y="1867"/>
                  </a:lnTo>
                  <a:lnTo>
                    <a:pt x="352" y="2043"/>
                  </a:lnTo>
                  <a:lnTo>
                    <a:pt x="352" y="2008"/>
                  </a:lnTo>
                  <a:lnTo>
                    <a:pt x="352" y="1796"/>
                  </a:lnTo>
                  <a:lnTo>
                    <a:pt x="388" y="1796"/>
                  </a:lnTo>
                  <a:lnTo>
                    <a:pt x="388" y="1902"/>
                  </a:lnTo>
                  <a:lnTo>
                    <a:pt x="423" y="1902"/>
                  </a:lnTo>
                  <a:lnTo>
                    <a:pt x="423" y="1690"/>
                  </a:lnTo>
                  <a:lnTo>
                    <a:pt x="458" y="1726"/>
                  </a:lnTo>
                  <a:lnTo>
                    <a:pt x="458" y="1902"/>
                  </a:lnTo>
                  <a:lnTo>
                    <a:pt x="489" y="1937"/>
                  </a:lnTo>
                  <a:lnTo>
                    <a:pt x="489" y="1726"/>
                  </a:lnTo>
                  <a:lnTo>
                    <a:pt x="524" y="1655"/>
                  </a:lnTo>
                  <a:lnTo>
                    <a:pt x="524" y="1902"/>
                  </a:lnTo>
                  <a:lnTo>
                    <a:pt x="560" y="1796"/>
                  </a:lnTo>
                  <a:lnTo>
                    <a:pt x="560" y="1655"/>
                  </a:lnTo>
                  <a:lnTo>
                    <a:pt x="595" y="1620"/>
                  </a:lnTo>
                  <a:lnTo>
                    <a:pt x="595" y="1796"/>
                  </a:lnTo>
                  <a:lnTo>
                    <a:pt x="630" y="1796"/>
                  </a:lnTo>
                  <a:lnTo>
                    <a:pt x="630" y="1548"/>
                  </a:lnTo>
                  <a:lnTo>
                    <a:pt x="665" y="1442"/>
                  </a:lnTo>
                  <a:lnTo>
                    <a:pt x="665" y="1019"/>
                  </a:lnTo>
                  <a:lnTo>
                    <a:pt x="701" y="423"/>
                  </a:lnTo>
                  <a:lnTo>
                    <a:pt x="701" y="176"/>
                  </a:lnTo>
                  <a:lnTo>
                    <a:pt x="736" y="246"/>
                  </a:lnTo>
                  <a:lnTo>
                    <a:pt x="771" y="282"/>
                  </a:lnTo>
                  <a:lnTo>
                    <a:pt x="771" y="105"/>
                  </a:lnTo>
                  <a:lnTo>
                    <a:pt x="806" y="105"/>
                  </a:lnTo>
                  <a:lnTo>
                    <a:pt x="806" y="317"/>
                  </a:lnTo>
                  <a:lnTo>
                    <a:pt x="842" y="282"/>
                  </a:lnTo>
                  <a:lnTo>
                    <a:pt x="842" y="105"/>
                  </a:lnTo>
                  <a:lnTo>
                    <a:pt x="878" y="176"/>
                  </a:lnTo>
                  <a:lnTo>
                    <a:pt x="878" y="317"/>
                  </a:lnTo>
                  <a:lnTo>
                    <a:pt x="913" y="282"/>
                  </a:lnTo>
                  <a:lnTo>
                    <a:pt x="913" y="105"/>
                  </a:lnTo>
                  <a:lnTo>
                    <a:pt x="949" y="70"/>
                  </a:lnTo>
                  <a:lnTo>
                    <a:pt x="949" y="282"/>
                  </a:lnTo>
                  <a:lnTo>
                    <a:pt x="984" y="352"/>
                  </a:lnTo>
                  <a:lnTo>
                    <a:pt x="984" y="211"/>
                  </a:lnTo>
                  <a:lnTo>
                    <a:pt x="1019" y="35"/>
                  </a:lnTo>
                  <a:lnTo>
                    <a:pt x="1019" y="282"/>
                  </a:lnTo>
                  <a:lnTo>
                    <a:pt x="1054" y="246"/>
                  </a:lnTo>
                  <a:lnTo>
                    <a:pt x="1054" y="70"/>
                  </a:lnTo>
                  <a:lnTo>
                    <a:pt x="1090" y="176"/>
                  </a:lnTo>
                  <a:lnTo>
                    <a:pt x="1090" y="388"/>
                  </a:lnTo>
                  <a:lnTo>
                    <a:pt x="1090" y="317"/>
                  </a:lnTo>
                  <a:lnTo>
                    <a:pt x="1125" y="70"/>
                  </a:lnTo>
                  <a:lnTo>
                    <a:pt x="1125" y="105"/>
                  </a:lnTo>
                  <a:lnTo>
                    <a:pt x="1160" y="246"/>
                  </a:lnTo>
                  <a:lnTo>
                    <a:pt x="1196" y="105"/>
                  </a:lnTo>
                  <a:lnTo>
                    <a:pt x="1196" y="176"/>
                  </a:lnTo>
                  <a:lnTo>
                    <a:pt x="1231" y="282"/>
                  </a:lnTo>
                  <a:lnTo>
                    <a:pt x="1231" y="317"/>
                  </a:lnTo>
                  <a:lnTo>
                    <a:pt x="1266" y="70"/>
                  </a:lnTo>
                  <a:lnTo>
                    <a:pt x="1301" y="246"/>
                  </a:lnTo>
                  <a:lnTo>
                    <a:pt x="1301" y="388"/>
                  </a:lnTo>
                  <a:lnTo>
                    <a:pt x="1337" y="70"/>
                  </a:lnTo>
                  <a:lnTo>
                    <a:pt x="1337" y="105"/>
                  </a:lnTo>
                  <a:lnTo>
                    <a:pt x="1372" y="317"/>
                  </a:lnTo>
                  <a:lnTo>
                    <a:pt x="1407" y="0"/>
                  </a:lnTo>
                  <a:lnTo>
                    <a:pt x="1407" y="141"/>
                  </a:lnTo>
                  <a:lnTo>
                    <a:pt x="1442" y="317"/>
                  </a:lnTo>
                  <a:lnTo>
                    <a:pt x="1442" y="388"/>
                  </a:lnTo>
                  <a:lnTo>
                    <a:pt x="1478" y="105"/>
                  </a:lnTo>
                  <a:lnTo>
                    <a:pt x="1513" y="317"/>
                  </a:lnTo>
                  <a:lnTo>
                    <a:pt x="1513" y="246"/>
                  </a:lnTo>
                  <a:lnTo>
                    <a:pt x="1548" y="105"/>
                  </a:lnTo>
                  <a:lnTo>
                    <a:pt x="1548" y="141"/>
                  </a:lnTo>
                  <a:lnTo>
                    <a:pt x="1584" y="317"/>
                  </a:lnTo>
                  <a:lnTo>
                    <a:pt x="1619" y="70"/>
                  </a:lnTo>
                  <a:lnTo>
                    <a:pt x="1619" y="105"/>
                  </a:lnTo>
                  <a:lnTo>
                    <a:pt x="1654" y="317"/>
                  </a:lnTo>
                  <a:lnTo>
                    <a:pt x="1654" y="282"/>
                  </a:lnTo>
                  <a:lnTo>
                    <a:pt x="1689" y="176"/>
                  </a:lnTo>
                  <a:lnTo>
                    <a:pt x="1689" y="70"/>
                  </a:lnTo>
                  <a:lnTo>
                    <a:pt x="1725" y="317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52"/>
                  </a:lnTo>
                  <a:lnTo>
                    <a:pt x="35" y="105"/>
                  </a:lnTo>
                  <a:lnTo>
                    <a:pt x="35" y="70"/>
                  </a:lnTo>
                  <a:lnTo>
                    <a:pt x="70" y="282"/>
                  </a:lnTo>
                  <a:lnTo>
                    <a:pt x="70" y="352"/>
                  </a:lnTo>
                  <a:lnTo>
                    <a:pt x="105" y="141"/>
                  </a:lnTo>
                  <a:lnTo>
                    <a:pt x="105" y="70"/>
                  </a:lnTo>
                  <a:lnTo>
                    <a:pt x="105" y="282"/>
                  </a:lnTo>
                  <a:lnTo>
                    <a:pt x="141" y="388"/>
                  </a:lnTo>
                  <a:lnTo>
                    <a:pt x="141" y="141"/>
                  </a:lnTo>
                  <a:lnTo>
                    <a:pt x="176" y="105"/>
                  </a:lnTo>
                  <a:lnTo>
                    <a:pt x="176" y="246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41"/>
                  </a:lnTo>
                  <a:lnTo>
                    <a:pt x="246" y="282"/>
                  </a:lnTo>
                  <a:lnTo>
                    <a:pt x="282" y="246"/>
                  </a:lnTo>
                  <a:lnTo>
                    <a:pt x="282" y="105"/>
                  </a:lnTo>
                  <a:lnTo>
                    <a:pt x="317" y="70"/>
                  </a:lnTo>
                  <a:lnTo>
                    <a:pt x="317" y="352"/>
                  </a:lnTo>
                  <a:lnTo>
                    <a:pt x="352" y="317"/>
                  </a:lnTo>
                  <a:lnTo>
                    <a:pt x="352" y="70"/>
                  </a:lnTo>
                  <a:lnTo>
                    <a:pt x="388" y="141"/>
                  </a:lnTo>
                  <a:lnTo>
                    <a:pt x="388" y="246"/>
                  </a:lnTo>
                  <a:lnTo>
                    <a:pt x="424" y="423"/>
                  </a:lnTo>
                  <a:lnTo>
                    <a:pt x="424" y="141"/>
                  </a:lnTo>
                  <a:lnTo>
                    <a:pt x="459" y="70"/>
                  </a:lnTo>
                  <a:lnTo>
                    <a:pt x="459" y="317"/>
                  </a:lnTo>
                  <a:lnTo>
                    <a:pt x="494" y="317"/>
                  </a:lnTo>
                  <a:lnTo>
                    <a:pt x="494" y="105"/>
                  </a:lnTo>
                  <a:lnTo>
                    <a:pt x="530" y="141"/>
                  </a:lnTo>
                  <a:lnTo>
                    <a:pt x="530" y="246"/>
                  </a:lnTo>
                  <a:lnTo>
                    <a:pt x="565" y="352"/>
                  </a:lnTo>
                  <a:lnTo>
                    <a:pt x="565" y="176"/>
                  </a:lnTo>
                  <a:lnTo>
                    <a:pt x="600" y="141"/>
                  </a:lnTo>
                  <a:lnTo>
                    <a:pt x="600" y="246"/>
                  </a:lnTo>
                  <a:lnTo>
                    <a:pt x="636" y="388"/>
                  </a:lnTo>
                  <a:lnTo>
                    <a:pt x="636" y="70"/>
                  </a:lnTo>
                  <a:lnTo>
                    <a:pt x="671" y="35"/>
                  </a:lnTo>
                  <a:lnTo>
                    <a:pt x="671" y="317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41"/>
                  </a:lnTo>
                  <a:lnTo>
                    <a:pt x="741" y="423"/>
                  </a:lnTo>
                  <a:lnTo>
                    <a:pt x="777" y="282"/>
                  </a:lnTo>
                  <a:lnTo>
                    <a:pt x="777" y="70"/>
                  </a:lnTo>
                  <a:lnTo>
                    <a:pt x="812" y="141"/>
                  </a:lnTo>
                  <a:lnTo>
                    <a:pt x="812" y="352"/>
                  </a:lnTo>
                  <a:lnTo>
                    <a:pt x="847" y="105"/>
                  </a:lnTo>
                  <a:lnTo>
                    <a:pt x="847" y="141"/>
                  </a:lnTo>
                  <a:lnTo>
                    <a:pt x="882" y="282"/>
                  </a:lnTo>
                  <a:lnTo>
                    <a:pt x="882" y="246"/>
                  </a:lnTo>
                  <a:lnTo>
                    <a:pt x="918" y="176"/>
                  </a:lnTo>
                  <a:lnTo>
                    <a:pt x="918" y="105"/>
                  </a:lnTo>
                  <a:lnTo>
                    <a:pt x="953" y="352"/>
                  </a:lnTo>
                  <a:lnTo>
                    <a:pt x="953" y="317"/>
                  </a:lnTo>
                  <a:lnTo>
                    <a:pt x="988" y="176"/>
                  </a:lnTo>
                  <a:lnTo>
                    <a:pt x="988" y="70"/>
                  </a:lnTo>
                  <a:lnTo>
                    <a:pt x="1024" y="246"/>
                  </a:lnTo>
                  <a:lnTo>
                    <a:pt x="1024" y="282"/>
                  </a:lnTo>
                  <a:lnTo>
                    <a:pt x="1059" y="176"/>
                  </a:lnTo>
                  <a:lnTo>
                    <a:pt x="1059" y="141"/>
                  </a:lnTo>
                  <a:lnTo>
                    <a:pt x="1094" y="246"/>
                  </a:lnTo>
                  <a:lnTo>
                    <a:pt x="1094" y="317"/>
                  </a:lnTo>
                  <a:lnTo>
                    <a:pt x="1129" y="176"/>
                  </a:lnTo>
                  <a:lnTo>
                    <a:pt x="1165" y="317"/>
                  </a:lnTo>
                  <a:lnTo>
                    <a:pt x="1165" y="913"/>
                  </a:lnTo>
                  <a:lnTo>
                    <a:pt x="1200" y="1160"/>
                  </a:lnTo>
                  <a:lnTo>
                    <a:pt x="1200" y="1054"/>
                  </a:lnTo>
                  <a:lnTo>
                    <a:pt x="1235" y="1337"/>
                  </a:lnTo>
                  <a:lnTo>
                    <a:pt x="1235" y="1513"/>
                  </a:lnTo>
                  <a:lnTo>
                    <a:pt x="1272" y="1478"/>
                  </a:lnTo>
                  <a:lnTo>
                    <a:pt x="1272" y="1549"/>
                  </a:lnTo>
                  <a:lnTo>
                    <a:pt x="1307" y="1796"/>
                  </a:lnTo>
                  <a:lnTo>
                    <a:pt x="1307" y="1902"/>
                  </a:lnTo>
                  <a:lnTo>
                    <a:pt x="1338" y="1585"/>
                  </a:lnTo>
                  <a:lnTo>
                    <a:pt x="1338" y="1832"/>
                  </a:lnTo>
                  <a:lnTo>
                    <a:pt x="1373" y="1937"/>
                  </a:lnTo>
                  <a:lnTo>
                    <a:pt x="1373" y="1973"/>
                  </a:lnTo>
                  <a:lnTo>
                    <a:pt x="1408" y="1726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690"/>
                  </a:lnTo>
                  <a:lnTo>
                    <a:pt x="1514" y="1973"/>
                  </a:lnTo>
                  <a:lnTo>
                    <a:pt x="1549" y="1726"/>
                  </a:lnTo>
                  <a:lnTo>
                    <a:pt x="1549" y="1867"/>
                  </a:lnTo>
                  <a:lnTo>
                    <a:pt x="1549" y="2043"/>
                  </a:lnTo>
                  <a:lnTo>
                    <a:pt x="1585" y="1973"/>
                  </a:lnTo>
                  <a:lnTo>
                    <a:pt x="1585" y="1796"/>
                  </a:lnTo>
                  <a:lnTo>
                    <a:pt x="1620" y="1796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56320" y="4132440"/>
              <a:ext cx="608400" cy="735480"/>
            </a:xfrm>
            <a:custGeom>
              <a:avLst/>
              <a:gdLst/>
              <a:ahLst/>
              <a:rect l="0" t="0" r="r" b="b"/>
              <a:pathLst>
                <a:path fill="none" w="1690" h="2043">
                  <a:moveTo>
                    <a:pt x="0" y="317"/>
                  </a:moveTo>
                  <a:lnTo>
                    <a:pt x="0" y="388"/>
                  </a:lnTo>
                  <a:lnTo>
                    <a:pt x="35" y="141"/>
                  </a:lnTo>
                  <a:lnTo>
                    <a:pt x="35" y="105"/>
                  </a:lnTo>
                  <a:lnTo>
                    <a:pt x="70" y="317"/>
                  </a:lnTo>
                  <a:lnTo>
                    <a:pt x="70" y="388"/>
                  </a:lnTo>
                  <a:lnTo>
                    <a:pt x="105" y="176"/>
                  </a:lnTo>
                  <a:lnTo>
                    <a:pt x="105" y="70"/>
                  </a:lnTo>
                  <a:lnTo>
                    <a:pt x="105" y="317"/>
                  </a:lnTo>
                  <a:lnTo>
                    <a:pt x="141" y="423"/>
                  </a:lnTo>
                  <a:lnTo>
                    <a:pt x="141" y="176"/>
                  </a:lnTo>
                  <a:lnTo>
                    <a:pt x="176" y="141"/>
                  </a:lnTo>
                  <a:lnTo>
                    <a:pt x="176" y="282"/>
                  </a:lnTo>
                  <a:lnTo>
                    <a:pt x="211" y="317"/>
                  </a:lnTo>
                  <a:lnTo>
                    <a:pt x="211" y="70"/>
                  </a:lnTo>
                  <a:lnTo>
                    <a:pt x="246" y="176"/>
                  </a:lnTo>
                  <a:lnTo>
                    <a:pt x="246" y="317"/>
                  </a:lnTo>
                  <a:lnTo>
                    <a:pt x="282" y="282"/>
                  </a:lnTo>
                  <a:lnTo>
                    <a:pt x="282" y="141"/>
                  </a:lnTo>
                  <a:lnTo>
                    <a:pt x="317" y="105"/>
                  </a:lnTo>
                  <a:lnTo>
                    <a:pt x="317" y="388"/>
                  </a:lnTo>
                  <a:lnTo>
                    <a:pt x="352" y="352"/>
                  </a:lnTo>
                  <a:lnTo>
                    <a:pt x="352" y="105"/>
                  </a:lnTo>
                  <a:lnTo>
                    <a:pt x="388" y="176"/>
                  </a:lnTo>
                  <a:lnTo>
                    <a:pt x="388" y="282"/>
                  </a:lnTo>
                  <a:lnTo>
                    <a:pt x="424" y="458"/>
                  </a:lnTo>
                  <a:lnTo>
                    <a:pt x="424" y="176"/>
                  </a:lnTo>
                  <a:lnTo>
                    <a:pt x="459" y="70"/>
                  </a:lnTo>
                  <a:lnTo>
                    <a:pt x="459" y="352"/>
                  </a:lnTo>
                  <a:lnTo>
                    <a:pt x="494" y="317"/>
                  </a:lnTo>
                  <a:lnTo>
                    <a:pt x="494" y="141"/>
                  </a:lnTo>
                  <a:lnTo>
                    <a:pt x="530" y="176"/>
                  </a:lnTo>
                  <a:lnTo>
                    <a:pt x="530" y="282"/>
                  </a:lnTo>
                  <a:lnTo>
                    <a:pt x="565" y="388"/>
                  </a:lnTo>
                  <a:lnTo>
                    <a:pt x="565" y="211"/>
                  </a:lnTo>
                  <a:lnTo>
                    <a:pt x="600" y="176"/>
                  </a:lnTo>
                  <a:lnTo>
                    <a:pt x="600" y="282"/>
                  </a:lnTo>
                  <a:lnTo>
                    <a:pt x="636" y="423"/>
                  </a:lnTo>
                  <a:lnTo>
                    <a:pt x="636" y="70"/>
                  </a:lnTo>
                  <a:lnTo>
                    <a:pt x="671" y="70"/>
                  </a:lnTo>
                  <a:lnTo>
                    <a:pt x="671" y="352"/>
                  </a:lnTo>
                  <a:lnTo>
                    <a:pt x="706" y="423"/>
                  </a:lnTo>
                  <a:lnTo>
                    <a:pt x="706" y="0"/>
                  </a:lnTo>
                  <a:lnTo>
                    <a:pt x="741" y="176"/>
                  </a:lnTo>
                  <a:lnTo>
                    <a:pt x="741" y="458"/>
                  </a:lnTo>
                  <a:lnTo>
                    <a:pt x="777" y="317"/>
                  </a:lnTo>
                  <a:lnTo>
                    <a:pt x="777" y="105"/>
                  </a:lnTo>
                  <a:lnTo>
                    <a:pt x="812" y="176"/>
                  </a:lnTo>
                  <a:lnTo>
                    <a:pt x="812" y="388"/>
                  </a:lnTo>
                  <a:lnTo>
                    <a:pt x="847" y="141"/>
                  </a:lnTo>
                  <a:lnTo>
                    <a:pt x="847" y="176"/>
                  </a:lnTo>
                  <a:lnTo>
                    <a:pt x="882" y="317"/>
                  </a:lnTo>
                  <a:lnTo>
                    <a:pt x="882" y="282"/>
                  </a:lnTo>
                  <a:lnTo>
                    <a:pt x="918" y="211"/>
                  </a:lnTo>
                  <a:lnTo>
                    <a:pt x="918" y="141"/>
                  </a:lnTo>
                  <a:lnTo>
                    <a:pt x="953" y="388"/>
                  </a:lnTo>
                  <a:lnTo>
                    <a:pt x="953" y="317"/>
                  </a:lnTo>
                  <a:lnTo>
                    <a:pt x="988" y="211"/>
                  </a:lnTo>
                  <a:lnTo>
                    <a:pt x="988" y="105"/>
                  </a:lnTo>
                  <a:lnTo>
                    <a:pt x="1024" y="282"/>
                  </a:lnTo>
                  <a:lnTo>
                    <a:pt x="1024" y="317"/>
                  </a:lnTo>
                  <a:lnTo>
                    <a:pt x="1059" y="211"/>
                  </a:lnTo>
                  <a:lnTo>
                    <a:pt x="1059" y="176"/>
                  </a:lnTo>
                  <a:lnTo>
                    <a:pt x="1094" y="246"/>
                  </a:lnTo>
                  <a:lnTo>
                    <a:pt x="1094" y="317"/>
                  </a:lnTo>
                  <a:lnTo>
                    <a:pt x="1129" y="176"/>
                  </a:lnTo>
                  <a:lnTo>
                    <a:pt x="1165" y="352"/>
                  </a:lnTo>
                  <a:lnTo>
                    <a:pt x="1165" y="913"/>
                  </a:lnTo>
                  <a:lnTo>
                    <a:pt x="1200" y="1160"/>
                  </a:lnTo>
                  <a:lnTo>
                    <a:pt x="1200" y="1090"/>
                  </a:lnTo>
                  <a:lnTo>
                    <a:pt x="1235" y="1372"/>
                  </a:lnTo>
                  <a:lnTo>
                    <a:pt x="1235" y="1549"/>
                  </a:lnTo>
                  <a:lnTo>
                    <a:pt x="1272" y="1513"/>
                  </a:lnTo>
                  <a:lnTo>
                    <a:pt x="1272" y="1585"/>
                  </a:lnTo>
                  <a:lnTo>
                    <a:pt x="1307" y="1796"/>
                  </a:lnTo>
                  <a:lnTo>
                    <a:pt x="1307" y="1937"/>
                  </a:lnTo>
                  <a:lnTo>
                    <a:pt x="1338" y="1620"/>
                  </a:lnTo>
                  <a:lnTo>
                    <a:pt x="1338" y="1867"/>
                  </a:lnTo>
                  <a:lnTo>
                    <a:pt x="1373" y="1973"/>
                  </a:lnTo>
                  <a:lnTo>
                    <a:pt x="1408" y="1761"/>
                  </a:lnTo>
                  <a:lnTo>
                    <a:pt x="1408" y="1726"/>
                  </a:lnTo>
                  <a:lnTo>
                    <a:pt x="1443" y="1973"/>
                  </a:lnTo>
                  <a:lnTo>
                    <a:pt x="1479" y="1796"/>
                  </a:lnTo>
                  <a:lnTo>
                    <a:pt x="1479" y="1726"/>
                  </a:lnTo>
                  <a:lnTo>
                    <a:pt x="1514" y="2008"/>
                  </a:lnTo>
                  <a:lnTo>
                    <a:pt x="1549" y="1761"/>
                  </a:lnTo>
                  <a:lnTo>
                    <a:pt x="1549" y="1902"/>
                  </a:lnTo>
                  <a:lnTo>
                    <a:pt x="1549" y="2043"/>
                  </a:lnTo>
                  <a:lnTo>
                    <a:pt x="1585" y="2008"/>
                  </a:lnTo>
                  <a:lnTo>
                    <a:pt x="1585" y="1832"/>
                  </a:lnTo>
                  <a:lnTo>
                    <a:pt x="1620" y="1832"/>
                  </a:lnTo>
                  <a:lnTo>
                    <a:pt x="1620" y="1973"/>
                  </a:lnTo>
                  <a:lnTo>
                    <a:pt x="1655" y="1973"/>
                  </a:lnTo>
                  <a:lnTo>
                    <a:pt x="1655" y="1902"/>
                  </a:lnTo>
                  <a:lnTo>
                    <a:pt x="1690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64360" y="4778280"/>
              <a:ext cx="609840" cy="697320"/>
            </a:xfrm>
            <a:custGeom>
              <a:avLst/>
              <a:gdLst/>
              <a:ahLst/>
              <a:rect l="0" t="0" r="r" b="b"/>
              <a:pathLst>
                <a:path fill="none" w="1694" h="1937">
                  <a:moveTo>
                    <a:pt x="0" y="0"/>
                  </a:moveTo>
                  <a:lnTo>
                    <a:pt x="0" y="105"/>
                  </a:lnTo>
                  <a:lnTo>
                    <a:pt x="35" y="282"/>
                  </a:lnTo>
                  <a:lnTo>
                    <a:pt x="35" y="105"/>
                  </a:lnTo>
                  <a:lnTo>
                    <a:pt x="70" y="35"/>
                  </a:lnTo>
                  <a:lnTo>
                    <a:pt x="70" y="246"/>
                  </a:lnTo>
                  <a:lnTo>
                    <a:pt x="105" y="282"/>
                  </a:lnTo>
                  <a:lnTo>
                    <a:pt x="105" y="35"/>
                  </a:lnTo>
                  <a:lnTo>
                    <a:pt x="141" y="0"/>
                  </a:lnTo>
                  <a:lnTo>
                    <a:pt x="141" y="246"/>
                  </a:lnTo>
                  <a:lnTo>
                    <a:pt x="176" y="388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52"/>
                  </a:lnTo>
                  <a:lnTo>
                    <a:pt x="246" y="211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11"/>
                  </a:lnTo>
                  <a:lnTo>
                    <a:pt x="352" y="176"/>
                  </a:lnTo>
                  <a:lnTo>
                    <a:pt x="352" y="352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282"/>
                  </a:lnTo>
                  <a:lnTo>
                    <a:pt x="423" y="423"/>
                  </a:lnTo>
                  <a:lnTo>
                    <a:pt x="458" y="388"/>
                  </a:lnTo>
                  <a:lnTo>
                    <a:pt x="458" y="282"/>
                  </a:lnTo>
                  <a:lnTo>
                    <a:pt x="493" y="352"/>
                  </a:lnTo>
                  <a:lnTo>
                    <a:pt x="493" y="352"/>
                  </a:lnTo>
                  <a:lnTo>
                    <a:pt x="529" y="458"/>
                  </a:lnTo>
                  <a:lnTo>
                    <a:pt x="529" y="317"/>
                  </a:lnTo>
                  <a:lnTo>
                    <a:pt x="564" y="352"/>
                  </a:lnTo>
                  <a:lnTo>
                    <a:pt x="564" y="494"/>
                  </a:lnTo>
                  <a:lnTo>
                    <a:pt x="599" y="565"/>
                  </a:lnTo>
                  <a:lnTo>
                    <a:pt x="599" y="423"/>
                  </a:lnTo>
                  <a:lnTo>
                    <a:pt x="599" y="352"/>
                  </a:lnTo>
                  <a:lnTo>
                    <a:pt x="635" y="565"/>
                  </a:lnTo>
                  <a:lnTo>
                    <a:pt x="635" y="530"/>
                  </a:lnTo>
                  <a:lnTo>
                    <a:pt x="670" y="423"/>
                  </a:lnTo>
                  <a:lnTo>
                    <a:pt x="705" y="494"/>
                  </a:lnTo>
                  <a:lnTo>
                    <a:pt x="705" y="671"/>
                  </a:lnTo>
                  <a:lnTo>
                    <a:pt x="740" y="494"/>
                  </a:lnTo>
                  <a:lnTo>
                    <a:pt x="740" y="423"/>
                  </a:lnTo>
                  <a:lnTo>
                    <a:pt x="776" y="671"/>
                  </a:lnTo>
                  <a:lnTo>
                    <a:pt x="776" y="741"/>
                  </a:lnTo>
                  <a:lnTo>
                    <a:pt x="811" y="600"/>
                  </a:lnTo>
                  <a:lnTo>
                    <a:pt x="811" y="494"/>
                  </a:lnTo>
                  <a:lnTo>
                    <a:pt x="846" y="741"/>
                  </a:lnTo>
                  <a:lnTo>
                    <a:pt x="846" y="741"/>
                  </a:lnTo>
                  <a:lnTo>
                    <a:pt x="882" y="530"/>
                  </a:lnTo>
                  <a:lnTo>
                    <a:pt x="882" y="706"/>
                  </a:lnTo>
                  <a:lnTo>
                    <a:pt x="918" y="741"/>
                  </a:lnTo>
                  <a:lnTo>
                    <a:pt x="918" y="741"/>
                  </a:lnTo>
                  <a:lnTo>
                    <a:pt x="953" y="671"/>
                  </a:lnTo>
                  <a:lnTo>
                    <a:pt x="953" y="671"/>
                  </a:lnTo>
                  <a:lnTo>
                    <a:pt x="988" y="812"/>
                  </a:lnTo>
                  <a:lnTo>
                    <a:pt x="988" y="949"/>
                  </a:lnTo>
                  <a:lnTo>
                    <a:pt x="1024" y="777"/>
                  </a:lnTo>
                  <a:lnTo>
                    <a:pt x="1024" y="741"/>
                  </a:lnTo>
                  <a:lnTo>
                    <a:pt x="1059" y="741"/>
                  </a:lnTo>
                  <a:lnTo>
                    <a:pt x="1059" y="913"/>
                  </a:lnTo>
                  <a:lnTo>
                    <a:pt x="1094" y="847"/>
                  </a:lnTo>
                  <a:lnTo>
                    <a:pt x="1094" y="741"/>
                  </a:lnTo>
                  <a:lnTo>
                    <a:pt x="1129" y="913"/>
                  </a:lnTo>
                  <a:lnTo>
                    <a:pt x="1129" y="984"/>
                  </a:lnTo>
                  <a:lnTo>
                    <a:pt x="1165" y="847"/>
                  </a:lnTo>
                  <a:lnTo>
                    <a:pt x="1165" y="882"/>
                  </a:lnTo>
                  <a:lnTo>
                    <a:pt x="1200" y="1019"/>
                  </a:lnTo>
                  <a:lnTo>
                    <a:pt x="1200" y="1160"/>
                  </a:lnTo>
                  <a:lnTo>
                    <a:pt x="1235" y="949"/>
                  </a:lnTo>
                  <a:lnTo>
                    <a:pt x="1235" y="984"/>
                  </a:lnTo>
                  <a:lnTo>
                    <a:pt x="1271" y="1090"/>
                  </a:lnTo>
                  <a:lnTo>
                    <a:pt x="1306" y="1054"/>
                  </a:lnTo>
                  <a:lnTo>
                    <a:pt x="1306" y="1090"/>
                  </a:lnTo>
                  <a:lnTo>
                    <a:pt x="1341" y="1231"/>
                  </a:lnTo>
                  <a:lnTo>
                    <a:pt x="1341" y="1160"/>
                  </a:lnTo>
                  <a:lnTo>
                    <a:pt x="1376" y="1266"/>
                  </a:lnTo>
                  <a:lnTo>
                    <a:pt x="1412" y="1442"/>
                  </a:lnTo>
                  <a:lnTo>
                    <a:pt x="1412" y="1407"/>
                  </a:lnTo>
                  <a:lnTo>
                    <a:pt x="1447" y="1372"/>
                  </a:lnTo>
                  <a:lnTo>
                    <a:pt x="1447" y="1479"/>
                  </a:lnTo>
                  <a:lnTo>
                    <a:pt x="1482" y="1549"/>
                  </a:lnTo>
                  <a:lnTo>
                    <a:pt x="1482" y="1514"/>
                  </a:lnTo>
                  <a:lnTo>
                    <a:pt x="1517" y="1442"/>
                  </a:lnTo>
                  <a:lnTo>
                    <a:pt x="1517" y="1585"/>
                  </a:lnTo>
                  <a:lnTo>
                    <a:pt x="1553" y="1761"/>
                  </a:lnTo>
                  <a:lnTo>
                    <a:pt x="1553" y="1620"/>
                  </a:lnTo>
                  <a:lnTo>
                    <a:pt x="1588" y="1655"/>
                  </a:lnTo>
                  <a:lnTo>
                    <a:pt x="1588" y="1726"/>
                  </a:lnTo>
                  <a:lnTo>
                    <a:pt x="1623" y="1832"/>
                  </a:lnTo>
                  <a:lnTo>
                    <a:pt x="1623" y="1726"/>
                  </a:lnTo>
                  <a:lnTo>
                    <a:pt x="1659" y="1690"/>
                  </a:lnTo>
                  <a:lnTo>
                    <a:pt x="1659" y="1867"/>
                  </a:lnTo>
                  <a:lnTo>
                    <a:pt x="1694" y="1937"/>
                  </a:lnTo>
                  <a:lnTo>
                    <a:pt x="1694" y="1796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64360" y="4778280"/>
              <a:ext cx="609840" cy="709920"/>
            </a:xfrm>
            <a:custGeom>
              <a:avLst/>
              <a:gdLst/>
              <a:ahLst/>
              <a:rect l="0" t="0" r="r" b="b"/>
              <a:pathLst>
                <a:path fill="none" w="1694" h="1972">
                  <a:moveTo>
                    <a:pt x="0" y="0"/>
                  </a:moveTo>
                  <a:lnTo>
                    <a:pt x="0" y="141"/>
                  </a:lnTo>
                  <a:lnTo>
                    <a:pt x="35" y="317"/>
                  </a:lnTo>
                  <a:lnTo>
                    <a:pt x="35" y="105"/>
                  </a:lnTo>
                  <a:lnTo>
                    <a:pt x="70" y="70"/>
                  </a:lnTo>
                  <a:lnTo>
                    <a:pt x="70" y="246"/>
                  </a:lnTo>
                  <a:lnTo>
                    <a:pt x="105" y="317"/>
                  </a:lnTo>
                  <a:lnTo>
                    <a:pt x="105" y="70"/>
                  </a:lnTo>
                  <a:lnTo>
                    <a:pt x="141" y="35"/>
                  </a:lnTo>
                  <a:lnTo>
                    <a:pt x="141" y="282"/>
                  </a:lnTo>
                  <a:lnTo>
                    <a:pt x="176" y="423"/>
                  </a:lnTo>
                  <a:lnTo>
                    <a:pt x="176" y="246"/>
                  </a:lnTo>
                  <a:lnTo>
                    <a:pt x="211" y="105"/>
                  </a:lnTo>
                  <a:lnTo>
                    <a:pt x="211" y="317"/>
                  </a:lnTo>
                  <a:lnTo>
                    <a:pt x="246" y="388"/>
                  </a:lnTo>
                  <a:lnTo>
                    <a:pt x="246" y="246"/>
                  </a:lnTo>
                  <a:lnTo>
                    <a:pt x="282" y="105"/>
                  </a:lnTo>
                  <a:lnTo>
                    <a:pt x="282" y="317"/>
                  </a:lnTo>
                  <a:lnTo>
                    <a:pt x="317" y="423"/>
                  </a:lnTo>
                  <a:lnTo>
                    <a:pt x="317" y="246"/>
                  </a:lnTo>
                  <a:lnTo>
                    <a:pt x="352" y="211"/>
                  </a:lnTo>
                  <a:lnTo>
                    <a:pt x="352" y="388"/>
                  </a:lnTo>
                  <a:lnTo>
                    <a:pt x="388" y="423"/>
                  </a:lnTo>
                  <a:lnTo>
                    <a:pt x="388" y="317"/>
                  </a:lnTo>
                  <a:lnTo>
                    <a:pt x="423" y="317"/>
                  </a:lnTo>
                  <a:lnTo>
                    <a:pt x="423" y="423"/>
                  </a:lnTo>
                  <a:lnTo>
                    <a:pt x="458" y="423"/>
                  </a:lnTo>
                  <a:lnTo>
                    <a:pt x="458" y="317"/>
                  </a:lnTo>
                  <a:lnTo>
                    <a:pt x="493" y="352"/>
                  </a:lnTo>
                  <a:lnTo>
                    <a:pt x="493" y="388"/>
                  </a:lnTo>
                  <a:lnTo>
                    <a:pt x="529" y="493"/>
                  </a:lnTo>
                  <a:lnTo>
                    <a:pt x="529" y="317"/>
                  </a:lnTo>
                  <a:lnTo>
                    <a:pt x="564" y="388"/>
                  </a:lnTo>
                  <a:lnTo>
                    <a:pt x="564" y="529"/>
                  </a:lnTo>
                  <a:lnTo>
                    <a:pt x="599" y="564"/>
                  </a:lnTo>
                  <a:lnTo>
                    <a:pt x="599" y="458"/>
                  </a:lnTo>
                  <a:lnTo>
                    <a:pt x="599" y="352"/>
                  </a:lnTo>
                  <a:lnTo>
                    <a:pt x="635" y="564"/>
                  </a:lnTo>
                  <a:lnTo>
                    <a:pt x="670" y="458"/>
                  </a:lnTo>
                  <a:lnTo>
                    <a:pt x="705" y="493"/>
                  </a:lnTo>
                  <a:lnTo>
                    <a:pt x="705" y="705"/>
                  </a:lnTo>
                  <a:lnTo>
                    <a:pt x="740" y="529"/>
                  </a:lnTo>
                  <a:lnTo>
                    <a:pt x="740" y="458"/>
                  </a:lnTo>
                  <a:lnTo>
                    <a:pt x="776" y="670"/>
                  </a:lnTo>
                  <a:lnTo>
                    <a:pt x="776" y="740"/>
                  </a:lnTo>
                  <a:lnTo>
                    <a:pt x="811" y="635"/>
                  </a:lnTo>
                  <a:lnTo>
                    <a:pt x="811" y="529"/>
                  </a:lnTo>
                  <a:lnTo>
                    <a:pt x="846" y="776"/>
                  </a:lnTo>
                  <a:lnTo>
                    <a:pt x="846" y="740"/>
                  </a:lnTo>
                  <a:lnTo>
                    <a:pt x="882" y="564"/>
                  </a:lnTo>
                  <a:lnTo>
                    <a:pt x="882" y="740"/>
                  </a:lnTo>
                  <a:lnTo>
                    <a:pt x="918" y="776"/>
                  </a:lnTo>
                  <a:lnTo>
                    <a:pt x="918" y="740"/>
                  </a:lnTo>
                  <a:lnTo>
                    <a:pt x="953" y="705"/>
                  </a:lnTo>
                  <a:lnTo>
                    <a:pt x="953" y="670"/>
                  </a:lnTo>
                  <a:lnTo>
                    <a:pt x="988" y="811"/>
                  </a:lnTo>
                  <a:lnTo>
                    <a:pt x="988" y="983"/>
                  </a:lnTo>
                  <a:lnTo>
                    <a:pt x="1024" y="811"/>
                  </a:lnTo>
                  <a:lnTo>
                    <a:pt x="1024" y="776"/>
                  </a:lnTo>
                  <a:lnTo>
                    <a:pt x="1059" y="776"/>
                  </a:lnTo>
                  <a:lnTo>
                    <a:pt x="1059" y="912"/>
                  </a:lnTo>
                  <a:lnTo>
                    <a:pt x="1094" y="846"/>
                  </a:lnTo>
                  <a:lnTo>
                    <a:pt x="1094" y="740"/>
                  </a:lnTo>
                  <a:lnTo>
                    <a:pt x="1129" y="912"/>
                  </a:lnTo>
                  <a:lnTo>
                    <a:pt x="1129" y="983"/>
                  </a:lnTo>
                  <a:lnTo>
                    <a:pt x="1165" y="881"/>
                  </a:lnTo>
                  <a:lnTo>
                    <a:pt x="1165" y="912"/>
                  </a:lnTo>
                  <a:lnTo>
                    <a:pt x="1200" y="1054"/>
                  </a:lnTo>
                  <a:lnTo>
                    <a:pt x="1200" y="1196"/>
                  </a:lnTo>
                  <a:lnTo>
                    <a:pt x="1235" y="983"/>
                  </a:lnTo>
                  <a:lnTo>
                    <a:pt x="1235" y="1019"/>
                  </a:lnTo>
                  <a:lnTo>
                    <a:pt x="1271" y="1125"/>
                  </a:lnTo>
                  <a:lnTo>
                    <a:pt x="1306" y="1054"/>
                  </a:lnTo>
                  <a:lnTo>
                    <a:pt x="1306" y="1125"/>
                  </a:lnTo>
                  <a:lnTo>
                    <a:pt x="1341" y="1231"/>
                  </a:lnTo>
                  <a:lnTo>
                    <a:pt x="1341" y="1196"/>
                  </a:lnTo>
                  <a:lnTo>
                    <a:pt x="1376" y="1301"/>
                  </a:lnTo>
                  <a:lnTo>
                    <a:pt x="1412" y="1478"/>
                  </a:lnTo>
                  <a:lnTo>
                    <a:pt x="1412" y="1407"/>
                  </a:lnTo>
                  <a:lnTo>
                    <a:pt x="1447" y="1407"/>
                  </a:lnTo>
                  <a:lnTo>
                    <a:pt x="1447" y="1513"/>
                  </a:lnTo>
                  <a:lnTo>
                    <a:pt x="1482" y="1548"/>
                  </a:lnTo>
                  <a:lnTo>
                    <a:pt x="1517" y="1478"/>
                  </a:lnTo>
                  <a:lnTo>
                    <a:pt x="1517" y="1619"/>
                  </a:lnTo>
                  <a:lnTo>
                    <a:pt x="1553" y="1795"/>
                  </a:lnTo>
                  <a:lnTo>
                    <a:pt x="1553" y="1654"/>
                  </a:lnTo>
                  <a:lnTo>
                    <a:pt x="1588" y="1689"/>
                  </a:lnTo>
                  <a:lnTo>
                    <a:pt x="1588" y="1760"/>
                  </a:lnTo>
                  <a:lnTo>
                    <a:pt x="1623" y="1866"/>
                  </a:lnTo>
                  <a:lnTo>
                    <a:pt x="1623" y="1760"/>
                  </a:lnTo>
                  <a:lnTo>
                    <a:pt x="1659" y="1725"/>
                  </a:lnTo>
                  <a:lnTo>
                    <a:pt x="1659" y="1901"/>
                  </a:lnTo>
                  <a:lnTo>
                    <a:pt x="1694" y="1972"/>
                  </a:lnTo>
                  <a:lnTo>
                    <a:pt x="1694" y="1795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7384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106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106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73840" y="5398920"/>
              <a:ext cx="89280" cy="114840"/>
            </a:xfrm>
            <a:custGeom>
              <a:avLst/>
              <a:gdLst/>
              <a:ahLst/>
              <a:rect l="0" t="0" r="r" b="b"/>
              <a:pathLst>
                <a:path fill="none" w="248" h="319">
                  <a:moveTo>
                    <a:pt x="0" y="70"/>
                  </a:moveTo>
                  <a:lnTo>
                    <a:pt x="35" y="0"/>
                  </a:lnTo>
                  <a:lnTo>
                    <a:pt x="35" y="177"/>
                  </a:lnTo>
                  <a:lnTo>
                    <a:pt x="71" y="248"/>
                  </a:lnTo>
                  <a:lnTo>
                    <a:pt x="71" y="106"/>
                  </a:lnTo>
                  <a:lnTo>
                    <a:pt x="106" y="70"/>
                  </a:lnTo>
                  <a:lnTo>
                    <a:pt x="106" y="248"/>
                  </a:lnTo>
                  <a:lnTo>
                    <a:pt x="142" y="319"/>
                  </a:lnTo>
                  <a:lnTo>
                    <a:pt x="142" y="177"/>
                  </a:lnTo>
                  <a:lnTo>
                    <a:pt x="177" y="106"/>
                  </a:lnTo>
                  <a:lnTo>
                    <a:pt x="177" y="248"/>
                  </a:lnTo>
                  <a:lnTo>
                    <a:pt x="213" y="248"/>
                  </a:lnTo>
                  <a:lnTo>
                    <a:pt x="213" y="177"/>
                  </a:lnTo>
                  <a:lnTo>
                    <a:pt x="248" y="70"/>
                  </a:lnTo>
                  <a:lnTo>
                    <a:pt x="248" y="248"/>
                  </a:lnTo>
                </a:path>
              </a:pathLst>
            </a:custGeom>
            <a:ln w="12600">
              <a:solidFill>
                <a:srgbClr val="7f7f7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360520" y="5272200"/>
            <a:ext cx="5806080" cy="127440"/>
            <a:chOff x="2360520" y="5272200"/>
            <a:chExt cx="5806080" cy="127440"/>
          </a:xfrm>
        </p:grpSpPr>
        <p:sp>
          <p:nvSpPr>
            <p:cNvPr id="477" name=""/>
            <p:cNvSpPr/>
            <p:nvPr/>
          </p:nvSpPr>
          <p:spPr>
            <a:xfrm>
              <a:off x="8026560" y="527220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389" y="177"/>
                  </a:moveTo>
                  <a:lnTo>
                    <a:pt x="0" y="354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0520" y="5335560"/>
              <a:ext cx="571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7427880" y="542124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542360" y="5421240"/>
            <a:ext cx="2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93120" y="54212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7694640" y="54212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796160" y="542124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513240" y="3486240"/>
            <a:ext cx="0" cy="205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988320" y="3473280"/>
            <a:ext cx="0" cy="205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513240" y="3840120"/>
            <a:ext cx="342720" cy="127440"/>
            <a:chOff x="3513240" y="3840120"/>
            <a:chExt cx="342720" cy="127440"/>
          </a:xfrm>
        </p:grpSpPr>
        <p:sp>
          <p:nvSpPr>
            <p:cNvPr id="487" name=""/>
            <p:cNvSpPr/>
            <p:nvPr/>
          </p:nvSpPr>
          <p:spPr>
            <a:xfrm>
              <a:off x="3513240" y="384012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0" y="177"/>
                  </a:moveTo>
                  <a:lnTo>
                    <a:pt x="389" y="0"/>
                  </a:lnTo>
                  <a:lnTo>
                    <a:pt x="247" y="177"/>
                  </a:lnTo>
                  <a:lnTo>
                    <a:pt x="389" y="354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02160" y="390384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645240" y="3840120"/>
            <a:ext cx="343440" cy="127440"/>
            <a:chOff x="6645240" y="3840120"/>
            <a:chExt cx="343440" cy="127440"/>
          </a:xfrm>
        </p:grpSpPr>
        <p:sp>
          <p:nvSpPr>
            <p:cNvPr id="490" name=""/>
            <p:cNvSpPr/>
            <p:nvPr/>
          </p:nvSpPr>
          <p:spPr>
            <a:xfrm>
              <a:off x="6848640" y="384012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389" y="177"/>
                  </a:moveTo>
                  <a:lnTo>
                    <a:pt x="0" y="354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45240" y="3903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291440" y="3840120"/>
            <a:ext cx="342720" cy="127440"/>
            <a:chOff x="7291440" y="3840120"/>
            <a:chExt cx="342720" cy="127440"/>
          </a:xfrm>
        </p:grpSpPr>
        <p:sp>
          <p:nvSpPr>
            <p:cNvPr id="493" name=""/>
            <p:cNvSpPr/>
            <p:nvPr/>
          </p:nvSpPr>
          <p:spPr>
            <a:xfrm>
              <a:off x="7291440" y="384012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0" y="177"/>
                  </a:moveTo>
                  <a:lnTo>
                    <a:pt x="389" y="0"/>
                  </a:lnTo>
                  <a:lnTo>
                    <a:pt x="247" y="177"/>
                  </a:lnTo>
                  <a:lnTo>
                    <a:pt x="389" y="354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0360" y="390384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057480" y="3562200"/>
            <a:ext cx="811440" cy="201960"/>
          </a:xfrm>
          <a:custGeom>
            <a:avLst/>
            <a:gdLst/>
            <a:ahLst/>
            <a:rect l="0" t="0" r="r" b="b"/>
            <a:pathLst>
              <a:path w="2254" h="561">
                <a:moveTo>
                  <a:pt x="0" y="0"/>
                </a:moveTo>
                <a:lnTo>
                  <a:pt x="2254" y="0"/>
                </a:lnTo>
                <a:lnTo>
                  <a:pt x="2254" y="561"/>
                </a:lnTo>
                <a:lnTo>
                  <a:pt x="0" y="5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965320" y="3532320"/>
            <a:ext cx="303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7980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6872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255840" y="3532320"/>
            <a:ext cx="235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30660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382920" y="3532320"/>
            <a:ext cx="2271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43368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51000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59892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687840" y="35323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696000" y="3575160"/>
            <a:ext cx="811440" cy="201960"/>
          </a:xfrm>
          <a:custGeom>
            <a:avLst/>
            <a:gdLst/>
            <a:ahLst/>
            <a:rect l="0" t="0" r="r" b="b"/>
            <a:pathLst>
              <a:path w="2254" h="561">
                <a:moveTo>
                  <a:pt x="0" y="0"/>
                </a:moveTo>
                <a:lnTo>
                  <a:pt x="2254" y="0"/>
                </a:lnTo>
                <a:lnTo>
                  <a:pt x="2254" y="561"/>
                </a:lnTo>
                <a:lnTo>
                  <a:pt x="0" y="5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603840" y="3544920"/>
            <a:ext cx="303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71832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0724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96160" y="3544920"/>
            <a:ext cx="235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94548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021440" y="3544920"/>
            <a:ext cx="2271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07220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14852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23744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326360" y="35449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054160"/>
            <a:ext cx="419040" cy="4046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4879800"/>
            <a:ext cx="406440" cy="4046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867040" y="3840120"/>
            <a:ext cx="343080" cy="127440"/>
            <a:chOff x="2867040" y="3840120"/>
            <a:chExt cx="343080" cy="127440"/>
          </a:xfrm>
        </p:grpSpPr>
        <p:sp>
          <p:nvSpPr>
            <p:cNvPr id="520" name=""/>
            <p:cNvSpPr/>
            <p:nvPr/>
          </p:nvSpPr>
          <p:spPr>
            <a:xfrm>
              <a:off x="3070080" y="3840120"/>
              <a:ext cx="140040" cy="127440"/>
            </a:xfrm>
            <a:custGeom>
              <a:avLst/>
              <a:gdLst/>
              <a:ahLst/>
              <a:rect l="0" t="0" r="r" b="b"/>
              <a:pathLst>
                <a:path w="389" h="354">
                  <a:moveTo>
                    <a:pt x="389" y="177"/>
                  </a:moveTo>
                  <a:lnTo>
                    <a:pt x="0" y="354"/>
                  </a:lnTo>
                  <a:lnTo>
                    <a:pt x="141" y="177"/>
                  </a:lnTo>
                  <a:lnTo>
                    <a:pt x="0" y="0"/>
                  </a:lnTo>
                  <a:lnTo>
                    <a:pt x="389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67040" y="3903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 txBox="1"/>
          <p:nvPr/>
        </p:nvSpPr>
        <p:spPr>
          <a:xfrm>
            <a:off x="1824120" y="4545000"/>
            <a:ext cx="303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93824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027160" y="4545000"/>
            <a:ext cx="227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065320" y="45450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141640" y="454500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17980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25576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343240" y="4545000"/>
            <a:ext cx="2271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8140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47032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5888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647800" y="454500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724120" y="4545000"/>
            <a:ext cx="2271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976400" y="474804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065320" y="4748040"/>
            <a:ext cx="311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179800" y="474804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217600" y="4748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293920" y="4748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368440" y="474804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406600" y="474804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482920" y="474804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466040" y="2671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580160" y="2671920"/>
            <a:ext cx="2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7631280" y="267192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7732800" y="267192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834320" y="267192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244520" y="254160"/>
            <a:ext cx="72518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68280" y="495360"/>
            <a:ext cx="9156600" cy="5702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17560" y="4335480"/>
            <a:ext cx="9540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68280" y="558720"/>
            <a:ext cx="9156600" cy="5715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876320" y="4224240"/>
            <a:ext cx="9540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sato Mizoguchi</dc:creator>
  <dc:description/>
  <dc:language>en-US</dc:language>
  <cp:lastModifiedBy>Masato Mizoguchi</cp:lastModifiedBy>
  <cp:revision>0</cp:revision>
  <dc:subject>for IEEE 802.11 ('97.7)</dc:subject>
  <dc:title>Evaluation Items for PHY</dc:title>
</cp:coreProperties>
</file>