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ponsor Ballot Comment Resolution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3-15, 1997, Palm Bay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e in doc.: 96/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th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all comments on the Sponsor Ballot on D5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pare documents for Sponsor Recirculation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solved no commets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,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382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-01-13/8:3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382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Review and Approval of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382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Comments left from Novemb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382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Comments from doc.: 96/135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3825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Comments on Form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,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utput from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draft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 unresolved comments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Any other business on sponso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Clos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-01-15/12:01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entative Agenda</dc:title>
</cp:coreProperties>
</file>