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BD165B-F752-4C62-8051-1AB064C10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3400" y="82872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3400" y="9810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360" y="1479600"/>
            <a:ext cx="83818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Look at a Higher Speed 802.11 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120760" y="5794200"/>
            <a:ext cx="5265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ed to the IEEE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at Vancouver, BC, Nov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508040" y="142920"/>
            <a:ext cx="7399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NII/Supernet at 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350Mhz-wide band (5150-5350MHz and 5.725-5875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 hops at 25Mbps (5MHz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greater chance of interference at 70 vs 79 hops @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NII/Sup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higher clock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57040" y="123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ults of the Future Work Meeting 11/11/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8000" y="1450800"/>
            <a:ext cx="89582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of 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of other standard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new PAR meets the 5 criteria for PA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requirements for the highe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165480" y="184320"/>
            <a:ext cx="5830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verview  of User 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09560" y="1452600"/>
            <a:ext cx="314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e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1120" y="4708440"/>
            <a:ext cx="358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T GLOMO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50840" y="2290680"/>
            <a:ext cx="790884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ts of questions about Boeing requirements for wireless high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s about the vendor position for customers such as Boeing-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customers are there like Boeing.  Shouldn’t they be targ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mer or small company customers rather than the Boe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ts of questions about the Boeing intent on three dimensional CA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nswer was that three dimensional CAD will be everywhe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ing in the warehouses and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22400" y="5462640"/>
            <a:ext cx="7477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T attended the session with interest in delivery of informatio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people using high bandwidth wireless LAN 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793960" y="212760"/>
            <a:ext cx="605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560" y="1662120"/>
            <a:ext cx="90075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c Hayes gave a report on ETSI and Hiper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,2,3,&amp;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2 is 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3 is 60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e.wpi.edu for Hiperla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 mentioned that ETSI did not go to the ITU and s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U is upset with ETSI and is refusing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with them since they have not work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e 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708200" y="155520"/>
            <a:ext cx="7327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Higher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43080" y="1365120"/>
            <a:ext cx="85201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/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- preferred but not required (with 802.11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cy band  -  should we consider higher speeds in the 2.4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with about 150MHZ band near the NII and Hiperlan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 - 25Mbps, consider f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(Range) - study will be conducted on spectral efficiency 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vs range vs immun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power - regul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apping networks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ath immunity - methods more immune to multipath, ie work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ed on channel models and immunity to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immunity - (modulation,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s (complex/efficient vs low cost) - complex/efficient vs 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- mechanisms for power conservation (sleep m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336840" y="155520"/>
            <a:ext cx="5181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requency Al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65000" y="2281320"/>
            <a:ext cx="8332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important to specify the band but a ra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as 150MHZ near NII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65440" y="184320"/>
            <a:ext cx="453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66800" y="1770120"/>
            <a:ext cx="71722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re are five criteria for a P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road market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inct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cal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conomic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10Mbps based on the NII/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24 or 25Mbps based on the NII/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66680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eing Wireles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olution of Mobile Computing 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ations of 802.11 at Higher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MAC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86120" y="162000"/>
            <a:ext cx="61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700440" y="2951280"/>
            <a:ext cx="1835280" cy="2217600"/>
            <a:chOff x="3700440" y="2951280"/>
            <a:chExt cx="1835280" cy="2217600"/>
          </a:xfrm>
        </p:grpSpPr>
        <p:sp>
          <p:nvSpPr>
            <p:cNvPr id="60" name=""/>
            <p:cNvSpPr/>
            <p:nvPr/>
          </p:nvSpPr>
          <p:spPr>
            <a:xfrm>
              <a:off x="3895560" y="304164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700440" y="485604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87880" y="375768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5097600" y="376884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30840" y="311616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7960" y="38466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06760" y="36669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384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038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926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38680" y="41162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926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38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3868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98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386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384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98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386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98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386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98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0384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386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610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33920" y="3174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2720" y="31748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79960" y="3489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79960" y="380196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79960" y="40705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79960" y="43848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9960" y="46972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33920" y="398160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03840" y="38019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00120" y="134316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0" y="185256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71880" y="3657600"/>
            <a:ext cx="1628640" cy="11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1880" y="4829040"/>
            <a:ext cx="371160" cy="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400040" y="485784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5120" y="593712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98960" y="173844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89640" y="347832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30160" y="343044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70200" y="5427720"/>
            <a:ext cx="1992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81160" y="2522520"/>
            <a:ext cx="2016360" cy="2179800"/>
            <a:chOff x="1181160" y="2522520"/>
            <a:chExt cx="2016360" cy="2179800"/>
          </a:xfrm>
        </p:grpSpPr>
        <p:sp>
          <p:nvSpPr>
            <p:cNvPr id="107" name=""/>
            <p:cNvSpPr/>
            <p:nvPr/>
          </p:nvSpPr>
          <p:spPr>
            <a:xfrm>
              <a:off x="1238400" y="261288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1362240" y="438948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0360" y="332892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441520" y="33415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0440" y="2657520"/>
              <a:ext cx="39852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174760" y="2689200"/>
              <a:ext cx="603360" cy="41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60440" y="341784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9600" y="32385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203560" y="2925720"/>
              <a:ext cx="17136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632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63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351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81160" y="36878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51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463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8116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11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4632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923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811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23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811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923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632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811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35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6400" y="27464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65200" y="27464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2440" y="30607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2440" y="337356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440" y="36417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2440" y="39560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2440" y="42688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6400" y="3552840"/>
              <a:ext cx="0" cy="716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6320" y="33735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716120" y="3263760"/>
              <a:ext cx="612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943520" y="1324080"/>
            <a:ext cx="1995480" cy="136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305840" y="252396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276960" y="4665600"/>
            <a:ext cx="1663560" cy="142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3143160" y="3371760"/>
            <a:ext cx="34308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28840" y="3886200"/>
            <a:ext cx="385776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71960" y="4114800"/>
            <a:ext cx="2857320" cy="10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801880" y="5106960"/>
            <a:ext cx="211284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43160" y="4229280"/>
            <a:ext cx="657360" cy="77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37040" y="2824200"/>
            <a:ext cx="226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y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65880" y="4108320"/>
            <a:ext cx="267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ies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22960" y="62229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38520" y="5937120"/>
            <a:ext cx="316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Fiel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440" y="162000"/>
            <a:ext cx="89820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On-Campu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540560" y="4870440"/>
            <a:ext cx="236520" cy="254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25440" y="4911840"/>
            <a:ext cx="1760400" cy="146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538200" y="6365880"/>
            <a:ext cx="44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ehouse &amp; 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42840" y="4629240"/>
            <a:ext cx="22860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817720" y="1219320"/>
            <a:ext cx="1697040" cy="1434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3257640" y="3343320"/>
            <a:ext cx="151452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81440" y="2595600"/>
            <a:ext cx="1760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1492200" y="1289160"/>
            <a:ext cx="998640" cy="105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09440" y="1366920"/>
            <a:ext cx="1708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1480" y="2228760"/>
            <a:ext cx="257400" cy="65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6680" y="145260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916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42800" y="18144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3344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13848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03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84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65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1755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24220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13160" y="187164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8480" y="20113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048120" y="3890880"/>
            <a:ext cx="211428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5320" y="225900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92360" y="246708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1360" y="26272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322360" y="312912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4016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686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9564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9576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36240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97964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1800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61800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37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1636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60720" y="28368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97964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473200" y="9540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0383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LAN Interoperability Forum (W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6114960"/>
            <a:ext cx="657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862956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057400" y="1739880"/>
            <a:ext cx="50547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15040" y="15145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72080" y="1486080"/>
            <a:ext cx="9720" cy="46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3433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4629240"/>
            <a:ext cx="351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72120" y="26002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10280" y="3981600"/>
            <a:ext cx="742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62400" y="53053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7920" y="162864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53160" y="32385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7920" y="321948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7920" y="45147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86520" y="408132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96240" y="191916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24360" y="188136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24360" y="2795760"/>
            <a:ext cx="159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38520" y="236700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776680" y="3660840"/>
            <a:ext cx="2368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81240" y="410832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719440" y="5118120"/>
            <a:ext cx="223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00840" y="1749600"/>
            <a:ext cx="81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603760" y="353520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71640" y="334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5400" y="1252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20600" y="3565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60360" y="177156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260360" y="409428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213680" y="45561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308720" y="2309760"/>
            <a:ext cx="184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050240" y="315432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79480" y="171360"/>
            <a:ext cx="7604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802.11 at Higher Sp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65240" y="1138320"/>
            <a:ext cx="8827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 in the 96microsec preamble plus 32microsec header plus packet transmit state timing for the 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25Mbps, 102791  bytes could conceivably be passed through the PHY_SAP.  The largest size packet allowed through the present SAP is 409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8320" y="3718080"/>
            <a:ext cx="5516640" cy="3019320"/>
            <a:chOff x="598320" y="3718080"/>
            <a:chExt cx="5516640" cy="3019320"/>
          </a:xfrm>
        </p:grpSpPr>
        <p:sp>
          <p:nvSpPr>
            <p:cNvPr id="295" name=""/>
            <p:cNvSpPr/>
            <p:nvPr/>
          </p:nvSpPr>
          <p:spPr>
            <a:xfrm>
              <a:off x="138744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87440" y="6651720"/>
              <a:ext cx="472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11496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5960" y="3894120"/>
              <a:ext cx="0" cy="274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16440" y="3878280"/>
              <a:ext cx="6120" cy="277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87440" y="499104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87440" y="576108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27360" y="45450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6160" y="53737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21240" y="61675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46400" y="4927680"/>
              <a:ext cx="88272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43160" y="491652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43160" y="5692680"/>
              <a:ext cx="88416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360" y="5433840"/>
              <a:ext cx="1652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40280" y="4137120"/>
              <a:ext cx="1634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598320" y="37180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615960" y="510552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768240" y="402912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768240" y="542304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0040" y="40291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43160" y="396396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657520" y="448632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657520" y="3629160"/>
            <a:ext cx="94284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543480" y="3629160"/>
            <a:ext cx="568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543480" y="3371760"/>
            <a:ext cx="51408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4440" y="322272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6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44920" y="3390840"/>
            <a:ext cx="44640" cy="193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137280" y="301140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X106bps = 82232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537240" y="426888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2791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394320" y="251460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404040" y="452268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175440" y="500544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X106bps = 3288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603840" y="6291360"/>
            <a:ext cx="1638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1110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09840" y="456552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65360" y="285840"/>
            <a:ext cx="6256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2.4GHz at 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80Mhz-wid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9 hops at 2Mbps (1MHz/channel), 16 hops at 10Mb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5MHz/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reasing number of channels increases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’t cross the FCC power flux dens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ve 2Mbps there could be clock jitt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Boeing Look at a Higher Speed 802.11 PHY</dc:title>
</cp:coreProperties>
</file>