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B27E9412-4BDC-4C26-9984-0864562D99A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43104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ver KM Potent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view Guidelin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Is your department involved in cross-functional projects or projects with external partie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9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20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20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o all members of the teams/ projects mentioned above have sufficient access to upto date information and document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D. Collaboration &amp; Teamwork (6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are your suggestions to improve collaboration and teamwork in the projects of your department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4242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57320" indent="-52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your preferred search strategies (Keyword search, advanced search with AND/ OR connections, browsing through topic catalogues, asking collegues, placing questions in discussion boards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52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w much time do you spend on average every day on searching for informat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7040" y="3102120"/>
            <a:ext cx="7713360" cy="990360"/>
            <a:chOff x="527040" y="3102120"/>
            <a:chExt cx="7713360" cy="990360"/>
          </a:xfrm>
        </p:grpSpPr>
        <p:sp>
          <p:nvSpPr>
            <p:cNvPr id="218" name=""/>
            <p:cNvSpPr/>
            <p:nvPr/>
          </p:nvSpPr>
          <p:spPr>
            <a:xfrm>
              <a:off x="527040" y="3102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7040" y="3433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7040" y="3764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7040" y="409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2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27040" y="1241280"/>
            <a:ext cx="7713360" cy="990720"/>
            <a:chOff x="527040" y="1241280"/>
            <a:chExt cx="7713360" cy="990720"/>
          </a:xfrm>
        </p:grpSpPr>
        <p:sp>
          <p:nvSpPr>
            <p:cNvPr id="228" name=""/>
            <p:cNvSpPr/>
            <p:nvPr/>
          </p:nvSpPr>
          <p:spPr>
            <a:xfrm>
              <a:off x="527040" y="12412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157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7040" y="19040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7040" y="2232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E. Searching and Find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7037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types of information are you typically searching for to fullfill your job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4242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In which internal systems are you searching for information ?  List the systems in order of impor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List information types that are especially hard to find. What makes searching and finding so difficult in these cas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7040" y="3102120"/>
            <a:ext cx="7713360" cy="990360"/>
            <a:chOff x="527040" y="3102120"/>
            <a:chExt cx="7713360" cy="990360"/>
          </a:xfrm>
        </p:grpSpPr>
        <p:sp>
          <p:nvSpPr>
            <p:cNvPr id="238" name=""/>
            <p:cNvSpPr/>
            <p:nvPr/>
          </p:nvSpPr>
          <p:spPr>
            <a:xfrm>
              <a:off x="527040" y="3102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7040" y="3433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7040" y="3764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040" y="409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4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7040" y="1241280"/>
            <a:ext cx="7713360" cy="990720"/>
            <a:chOff x="527040" y="1241280"/>
            <a:chExt cx="7713360" cy="990720"/>
          </a:xfrm>
        </p:grpSpPr>
        <p:sp>
          <p:nvSpPr>
            <p:cNvPr id="248" name=""/>
            <p:cNvSpPr/>
            <p:nvPr/>
          </p:nvSpPr>
          <p:spPr>
            <a:xfrm>
              <a:off x="527040" y="12412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7040" y="157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040" y="19040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7040" y="2232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E. Searching and Find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47037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460692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at are your suggestions to improve the process of searching and finding the information that you need in your department/divis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To which systems should your team members have acces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6528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Name the systems that mostly support the flow of information within and outside your division/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Which IT Systems, Tools are used in your division/department (short description of system)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259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64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269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D. IT-System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6280" y="101520"/>
            <a:ext cx="883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Überblick Interviewleitfa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1846440"/>
            <a:ext cx="2234880" cy="5648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A. Strategy/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32280" y="2629080"/>
            <a:ext cx="2247840" cy="5666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B.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4880" y="3344760"/>
            <a:ext cx="2235240" cy="57960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C. Informat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2800" y="410364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D. Collaboration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2800" y="556272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F. IT-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2800" y="484668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E. Searching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F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400" y="906480"/>
            <a:ext cx="7913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idelines for interviews with department managers and team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6080" y="45180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ich Roles and how many employees are working in your division/uni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600" y="270828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internal organisational structure of your division/uni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56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61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66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A. Strategy / Organisation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440" y="961920"/>
            <a:ext cx="8845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Describe the strategic importance of a portal for your division/organisational uni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terviewleitfaden: B.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Name the core processes were searching, processing and distributing information plays a major ro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528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process interfaces with other departments/unit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77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82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87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9880" y="92880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145440" indent="-482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What are the core processes of your unit/ divison ?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B. Proc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terviewleitfaden: B.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7120" y="27860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Select one process and describe which documents and information is created during which process step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752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are the typical problems/ friction losses in your core-processe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98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10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108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99880" y="92880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145440" indent="-482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Can all parties involved in these core processess access the latest information and documents without problems ?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B. Proc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Describe the flow of informatio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within your unit/divisio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nd the flow of informatio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ccross divisions/departments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lease distinguish between formal and informal flow of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1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2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2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flow of information within and across divisions based on a core 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ich suggestions for improving the flow of information and the access to information do you have for your division/department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402120" indent="-3013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List the knowledge areas that are most important for your division/departmen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.g knowledge on procedures, regulations, laws, methodology, programming languages, competitive information, market trends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3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4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4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Which company internal sources of information are you using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ich external sources of information are you using frequently 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bsite, journals, ...)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ich types of information/ documents originate in your department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5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6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6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Which of this information/ documents are of  relevance for other units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3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 How is this information/ documents distributed within your organisation ? Destinguish between formal and informal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How do you structure your information/documents ? Are there guidelines for storage structures and naming conventions for document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7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8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8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Are you using properties or metadata to tag your documents for improved search and reti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What are your suggestions for improving the management of documents and information within your division/departmen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31429</cp:lastModifiedBy>
  <cp:lastPrinted>2000-05-10T17:23:18Z</cp:lastPrinted>
  <dcterms:modified xsi:type="dcterms:W3CDTF">2003-12-14T10:55:06Z</dcterms:modified>
  <cp:revision>558</cp:revision>
  <dc:subject/>
  <dc:title>EP Sample High Level Content Specification </dc:title>
</cp:coreProperties>
</file>