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5021E-7902-4FAB-8EC2-C6C65E50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5960" y="42552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440" y="3884400"/>
            <a:ext cx="5877000" cy="43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nt Management Prozesse, speziell die Content Lifecycle Prozesse sind entweder Bestandteile der täglich ablaufenden Geschäftsdprozesse oder werden durch diese ausgelöst. D.h. Content Management ist erfolgskritisch für das tägliche Geschä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Content Manager unterstützt diese Prozesse durch Administrationsproz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B1F46-8A3A-4567-AF2C-4465B87F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32080" y="922320"/>
            <a:ext cx="3992400" cy="2994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1160" y="4370400"/>
            <a:ext cx="502776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16120" y="506520"/>
            <a:ext cx="3557520" cy="26683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99" name=""/>
          <p:cNvGraphicFramePr/>
          <p:nvPr/>
        </p:nvGraphicFramePr>
        <p:xfrm>
          <a:off x="785880" y="5154480"/>
          <a:ext cx="5322960" cy="15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154480"/>
                    <a:ext cx="53229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8D4FBC8-53B9-4969-AA05-15E55665E7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8880" y="3007800"/>
            <a:ext cx="49190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Structur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660240"/>
            <a:ext cx="7523280" cy="673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lation of Content Type Classes with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porate Taxonom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44520" y="1447920"/>
            <a:ext cx="7701120" cy="5029200"/>
            <a:chOff x="1244520" y="1447920"/>
            <a:chExt cx="7701120" cy="5029200"/>
          </a:xfrm>
        </p:grpSpPr>
        <p:sp>
          <p:nvSpPr>
            <p:cNvPr id="142" name=""/>
            <p:cNvSpPr/>
            <p:nvPr/>
          </p:nvSpPr>
          <p:spPr>
            <a:xfrm>
              <a:off x="1244520" y="1447920"/>
              <a:ext cx="7701120" cy="5029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9760" y="2452680"/>
              <a:ext cx="6324840" cy="360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44520" y="2730600"/>
            <a:ext cx="7899480" cy="3187440"/>
            <a:chOff x="1244520" y="2730600"/>
            <a:chExt cx="7899480" cy="3187440"/>
          </a:xfrm>
        </p:grpSpPr>
        <p:sp>
          <p:nvSpPr>
            <p:cNvPr id="145" name=""/>
            <p:cNvSpPr/>
            <p:nvPr/>
          </p:nvSpPr>
          <p:spPr>
            <a:xfrm>
              <a:off x="1244520" y="4273560"/>
              <a:ext cx="7899480" cy="851040"/>
            </a:xfrm>
            <a:custGeom>
              <a:avLst/>
              <a:gdLst>
                <a:gd name="textAreaLeft" fmla="*/ 0 w 7899480"/>
                <a:gd name="textAreaRight" fmla="*/ 7899840 w 7899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6" y="0"/>
                  </a:lnTo>
                  <a:lnTo>
                    <a:pt x="21600" y="10800"/>
                  </a:lnTo>
                  <a:lnTo>
                    <a:pt x="20536" y="21600"/>
                  </a:lnTo>
                  <a:lnTo>
                    <a:pt x="0" y="21600"/>
                  </a:lnTo>
                  <a:lnTo>
                    <a:pt x="1064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es &amp; Roles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6440" y="5194440"/>
              <a:ext cx="225108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ools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peri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4080" y="5194440"/>
              <a:ext cx="211284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9240" y="2730600"/>
              <a:ext cx="2565720" cy="7239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mployee Topic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36840" y="2095560"/>
            <a:ext cx="7340400" cy="2025720"/>
            <a:chOff x="1536840" y="2095560"/>
            <a:chExt cx="7340400" cy="2025720"/>
          </a:xfrm>
        </p:grpSpPr>
        <p:sp>
          <p:nvSpPr>
            <p:cNvPr id="150" name=""/>
            <p:cNvSpPr/>
            <p:nvPr/>
          </p:nvSpPr>
          <p:spPr>
            <a:xfrm>
              <a:off x="2514600" y="2108160"/>
              <a:ext cx="1590840" cy="533520"/>
            </a:xfrm>
            <a:prstGeom prst="parallelogram">
              <a:avLst>
                <a:gd name="adj" fmla="val 1511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bout 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3360" y="3174840"/>
              <a:ext cx="1523880" cy="825840"/>
            </a:xfrm>
            <a:prstGeom prst="parallelogram">
              <a:avLst>
                <a:gd name="adj" fmla="val 935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882880"/>
              <a:ext cx="1333440" cy="1238400"/>
            </a:xfrm>
            <a:prstGeom prst="parallelogram">
              <a:avLst>
                <a:gd name="adj" fmla="val 545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2095560"/>
              <a:ext cx="2320920" cy="533520"/>
            </a:xfrm>
            <a:prstGeom prst="parallelogram">
              <a:avLst>
                <a:gd name="adj" fmla="val 1963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ws &amp; Ev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99280" y="1511280"/>
            <a:ext cx="2502000" cy="43020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44520" y="1608120"/>
            <a:ext cx="7662960" cy="4836960"/>
            <a:chOff x="1244520" y="1608120"/>
            <a:chExt cx="7662960" cy="4836960"/>
          </a:xfrm>
        </p:grpSpPr>
        <p:sp>
          <p:nvSpPr>
            <p:cNvPr id="156" name=""/>
            <p:cNvSpPr/>
            <p:nvPr/>
          </p:nvSpPr>
          <p:spPr>
            <a:xfrm>
              <a:off x="3409920" y="58737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Learning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ai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431172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6920" y="5854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ethods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81360" y="281304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nta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44520" y="2425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pany/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iz Partn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78600" y="260352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usiness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Offe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8120" y="576576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48720" y="387360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ducts,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Solutions, 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342900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mun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6920" y="18813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arke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e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2200" y="160812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Ne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61928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Ev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163044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8400" y="264168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j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63760" y="3784680"/>
            <a:ext cx="3467160" cy="1942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b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7200" y="2921040"/>
            <a:ext cx="2349720" cy="1231920"/>
          </a:xfrm>
          <a:custGeom>
            <a:avLst/>
            <a:gdLst>
              <a:gd name="textAreaLeft" fmla="*/ 411120 w 2349720"/>
              <a:gd name="textAreaRight" fmla="*/ 1703520 w 234972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21040"/>
            <a:ext cx="2349360" cy="1231920"/>
          </a:xfrm>
          <a:custGeom>
            <a:avLst/>
            <a:gdLst>
              <a:gd name="textAreaLeft" fmla="*/ 411120 w 2349360"/>
              <a:gd name="textAreaRight" fmla="*/ 1703520 w 234936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1679400"/>
            <a:ext cx="27151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Inpu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Content Type Cla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5880" y="1628640"/>
            <a:ext cx="1400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840" y="5462640"/>
            <a:ext cx="1368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84804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516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5476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06560" y="4876560"/>
            <a:ext cx="99072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59200" y="5232240"/>
            <a:ext cx="2705040" cy="495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relation of Content Type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Tax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120" y="710640"/>
            <a:ext cx="2602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How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2280" y="1762200"/>
            <a:ext cx="6486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vestigation of Information-Object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Content Type Classe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 Metadata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Tax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236600" y="1930320"/>
            <a:ext cx="790740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ood and useable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uld 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from organ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guide to a task /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gt; 90% (8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r a period of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t be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 / relevance for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6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must be at least 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catego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und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7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should have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600" y="270036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0640" y="27003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6600" y="588492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iteria for top level 0(level 1)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9880" y="1550160"/>
            <a:ext cx="3678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5360" y="710640"/>
            <a:ext cx="3975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r>
              <a:rPr b="0" lang="de-DE" sz="24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400" y="1726920"/>
            <a:ext cx="7630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a broad sense, the science of classif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ore strictly the class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ving and extinc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—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i.e.,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bi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The term is derived from the Gr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taxi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arrangement”) and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nomo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law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We use it for the classification of 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2800" y="2549880"/>
            <a:ext cx="38156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uster of topics in tax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4000" y="2184120"/>
            <a:ext cx="568440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a synopsis of Metadata for similar types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9600" y="710640"/>
            <a:ext cx="3989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5760" y="2494080"/>
            <a:ext cx="57740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Meta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e data which describe an inform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320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tent struct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29440" y="1506600"/>
            <a:ext cx="3586680" cy="1121400"/>
            <a:chOff x="5329440" y="1506600"/>
            <a:chExt cx="3586680" cy="1121400"/>
          </a:xfrm>
        </p:grpSpPr>
        <p:sp>
          <p:nvSpPr>
            <p:cNvPr id="65" name=""/>
            <p:cNvSpPr/>
            <p:nvPr/>
          </p:nvSpPr>
          <p:spPr>
            <a:xfrm rot="10762200">
              <a:off x="5331960" y="2113200"/>
              <a:ext cx="973080" cy="455400"/>
            </a:xfrm>
            <a:custGeom>
              <a:avLst/>
              <a:gdLst>
                <a:gd name="textAreaLeft" fmla="*/ 151920 w 973080"/>
                <a:gd name="textAreaRight" fmla="*/ 851760 w 97308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30880" y="1506600"/>
              <a:ext cx="268524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erent view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ic,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organization, process,..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rporate Taxonomy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 2 layers) = topic vie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91280" y="2865600"/>
            <a:ext cx="4992120" cy="1746720"/>
            <a:chOff x="4391280" y="2865600"/>
            <a:chExt cx="4992120" cy="1746720"/>
          </a:xfrm>
        </p:grpSpPr>
        <p:sp>
          <p:nvSpPr>
            <p:cNvPr id="68" name=""/>
            <p:cNvSpPr/>
            <p:nvPr/>
          </p:nvSpPr>
          <p:spPr>
            <a:xfrm rot="9315600">
              <a:off x="4400640" y="3785400"/>
              <a:ext cx="1873440" cy="455400"/>
            </a:xfrm>
            <a:custGeom>
              <a:avLst/>
              <a:gdLst>
                <a:gd name="textAreaLeft" fmla="*/ 292680 w 1873440"/>
                <a:gd name="textAreaRight" fmla="*/ 1639440 w 187344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1800" y="2865600"/>
              <a:ext cx="31716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and general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ules and template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building taxonomies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mmunities, groups, regions,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12760" y="3583080"/>
            <a:ext cx="8068680" cy="2540520"/>
            <a:chOff x="1112760" y="3583080"/>
            <a:chExt cx="8068680" cy="2540520"/>
          </a:xfrm>
        </p:grpSpPr>
        <p:sp>
          <p:nvSpPr>
            <p:cNvPr id="71" name=""/>
            <p:cNvSpPr/>
            <p:nvPr/>
          </p:nvSpPr>
          <p:spPr>
            <a:xfrm flipH="1">
              <a:off x="1112760" y="3583080"/>
              <a:ext cx="561600" cy="8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8440" y="4743000"/>
              <a:ext cx="26730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ilding and maintaining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z specific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o Corporate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axonomy and Metadat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398600" y="1486080"/>
            <a:ext cx="4900680" cy="2319120"/>
            <a:chOff x="1398600" y="1486080"/>
            <a:chExt cx="4900680" cy="2319120"/>
          </a:xfrm>
        </p:grpSpPr>
        <p:grpSp>
          <p:nvGrpSpPr>
            <p:cNvPr id="74" name=""/>
            <p:cNvGrpSpPr/>
            <p:nvPr/>
          </p:nvGrpSpPr>
          <p:grpSpPr>
            <a:xfrm>
              <a:off x="1571760" y="1803240"/>
              <a:ext cx="4501800" cy="1693800"/>
              <a:chOff x="1571760" y="1803240"/>
              <a:chExt cx="4501800" cy="1693800"/>
            </a:xfrm>
          </p:grpSpPr>
          <p:sp>
            <p:nvSpPr>
              <p:cNvPr id="75" name=""/>
              <p:cNvSpPr/>
              <p:nvPr/>
            </p:nvSpPr>
            <p:spPr>
              <a:xfrm>
                <a:off x="15717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About u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38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" name=""/>
              <p:cNvCxnSpPr>
                <a:stCxn id="75" idx="2"/>
                <a:endCxn id="76" idx="1"/>
              </p:cNvCxnSpPr>
              <p:nvPr/>
            </p:nvCxnSpPr>
            <p:spPr>
              <a:xfrm flipH="1" rot="16200000">
                <a:off x="19328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8" name=""/>
              <p:cNvSpPr/>
              <p:nvPr/>
            </p:nvSpPr>
            <p:spPr>
              <a:xfrm>
                <a:off x="21938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9" name=""/>
              <p:cNvCxnSpPr>
                <a:stCxn id="75" idx="2"/>
                <a:endCxn id="78" idx="1"/>
              </p:cNvCxnSpPr>
              <p:nvPr/>
            </p:nvCxnSpPr>
            <p:spPr>
              <a:xfrm flipH="1" rot="16200000">
                <a:off x="17470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0" name=""/>
              <p:cNvSpPr/>
              <p:nvPr/>
            </p:nvSpPr>
            <p:spPr>
              <a:xfrm>
                <a:off x="27975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br>
                  <a:rPr sz="1500"/>
                </a:b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Typ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108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80" idx="2"/>
                <a:endCxn id="81" idx="1"/>
              </p:cNvCxnSpPr>
              <p:nvPr/>
            </p:nvCxnSpPr>
            <p:spPr>
              <a:xfrm flipH="1" rot="16200000">
                <a:off x="316008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34196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1"/>
              </p:cNvCxnSpPr>
              <p:nvPr/>
            </p:nvCxnSpPr>
            <p:spPr>
              <a:xfrm flipH="1" rot="16200000">
                <a:off x="2975400" y="2528280"/>
                <a:ext cx="66960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461988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430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5" idx="2"/>
                <a:endCxn id="86" idx="1"/>
              </p:cNvCxnSpPr>
              <p:nvPr/>
            </p:nvCxnSpPr>
            <p:spPr>
              <a:xfrm flipH="1" rot="16200000">
                <a:off x="49820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8" name=""/>
              <p:cNvSpPr/>
              <p:nvPr/>
            </p:nvSpPr>
            <p:spPr>
              <a:xfrm>
                <a:off x="524160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5" idx="2"/>
                <a:endCxn id="88" idx="1"/>
              </p:cNvCxnSpPr>
              <p:nvPr/>
            </p:nvCxnSpPr>
            <p:spPr>
              <a:xfrm flipH="1" rot="16200000">
                <a:off x="47962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21938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75" idx="2"/>
                <a:endCxn id="90" idx="1"/>
              </p:cNvCxnSpPr>
              <p:nvPr/>
            </p:nvCxnSpPr>
            <p:spPr>
              <a:xfrm flipH="1" rot="16200000">
                <a:off x="15548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342108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" name=""/>
              <p:cNvCxnSpPr>
                <a:stCxn id="80" idx="2"/>
                <a:endCxn id="92" idx="1"/>
              </p:cNvCxnSpPr>
              <p:nvPr/>
            </p:nvCxnSpPr>
            <p:spPr>
              <a:xfrm flipH="1" rot="16200000">
                <a:off x="278208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4" name=""/>
              <p:cNvSpPr/>
              <p:nvPr/>
            </p:nvSpPr>
            <p:spPr>
              <a:xfrm>
                <a:off x="52430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85" idx="2"/>
                <a:endCxn id="94" idx="1"/>
              </p:cNvCxnSpPr>
              <p:nvPr/>
            </p:nvCxnSpPr>
            <p:spPr>
              <a:xfrm flipH="1" rot="16200000">
                <a:off x="46040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6" name=""/>
              <p:cNvSpPr/>
              <p:nvPr/>
            </p:nvSpPr>
            <p:spPr>
              <a:xfrm>
                <a:off x="4489920" y="28324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5384880" y="158112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Top </a:t>
              </a:r>
              <a:br>
                <a:rPr sz="1700"/>
              </a:b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486080"/>
              <a:ext cx="4392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41280" y="4040280"/>
            <a:ext cx="5058000" cy="2224080"/>
            <a:chOff x="1241280" y="4040280"/>
            <a:chExt cx="5058000" cy="2224080"/>
          </a:xfrm>
        </p:grpSpPr>
        <p:grpSp>
          <p:nvGrpSpPr>
            <p:cNvPr id="100" name=""/>
            <p:cNvGrpSpPr/>
            <p:nvPr/>
          </p:nvGrpSpPr>
          <p:grpSpPr>
            <a:xfrm>
              <a:off x="1241280" y="4627440"/>
              <a:ext cx="4813200" cy="1517400"/>
              <a:chOff x="1241280" y="4627440"/>
              <a:chExt cx="4813200" cy="1517400"/>
            </a:xfrm>
          </p:grpSpPr>
          <p:sp>
            <p:nvSpPr>
              <p:cNvPr id="101" name=""/>
              <p:cNvSpPr/>
              <p:nvPr/>
            </p:nvSpPr>
            <p:spPr>
              <a:xfrm>
                <a:off x="1241280" y="4627440"/>
                <a:ext cx="1103760" cy="316080"/>
              </a:xfrm>
              <a:prstGeom prst="rect">
                <a:avLst/>
              </a:prstGeom>
              <a:solidFill>
                <a:srgbClr val="66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CoP Meta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7680" y="508392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"/>
              <p:cNvCxnSpPr>
                <a:stCxn id="101" idx="2"/>
                <a:endCxn id="102" idx="1"/>
              </p:cNvCxnSpPr>
              <p:nvPr/>
            </p:nvCxnSpPr>
            <p:spPr>
              <a:xfrm flipH="1" rot="16200000">
                <a:off x="1819800" y="4933080"/>
                <a:ext cx="27540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2136240" y="545508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101" idx="2"/>
                <a:endCxn id="104" idx="1"/>
              </p:cNvCxnSpPr>
              <p:nvPr/>
            </p:nvCxnSpPr>
            <p:spPr>
              <a:xfrm flipH="1" rot="16200000">
                <a:off x="1634040" y="5118840"/>
                <a:ext cx="645840" cy="3301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"/>
              <p:cNvSpPr/>
              <p:nvPr/>
            </p:nvSpPr>
            <p:spPr>
              <a:xfrm>
                <a:off x="2137680" y="584064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1" idx="2"/>
                <a:endCxn id="106" idx="1"/>
              </p:cNvCxnSpPr>
              <p:nvPr/>
            </p:nvCxnSpPr>
            <p:spPr>
              <a:xfrm flipH="1" rot="16200000">
                <a:off x="1441440" y="5311440"/>
                <a:ext cx="103212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2883240" y="4627440"/>
                <a:ext cx="830160" cy="29232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Group I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6400" y="508392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08" idx="2"/>
                <a:endCxn id="109" idx="1"/>
              </p:cNvCxnSpPr>
              <p:nvPr/>
            </p:nvCxnSpPr>
            <p:spPr>
              <a:xfrm flipH="1" rot="16200000">
                <a:off x="324540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" name=""/>
              <p:cNvSpPr/>
              <p:nvPr/>
            </p:nvSpPr>
            <p:spPr>
              <a:xfrm>
                <a:off x="3504960" y="5455080"/>
                <a:ext cx="83052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8" idx="2"/>
                <a:endCxn id="111" idx="1"/>
              </p:cNvCxnSpPr>
              <p:nvPr/>
            </p:nvCxnSpPr>
            <p:spPr>
              <a:xfrm flipH="1" rot="16200000">
                <a:off x="3059280" y="5176080"/>
                <a:ext cx="66996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3506400" y="584064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8" idx="2"/>
                <a:endCxn id="113" idx="1"/>
              </p:cNvCxnSpPr>
              <p:nvPr/>
            </p:nvCxnSpPr>
            <p:spPr>
              <a:xfrm flipH="1" rot="16200000">
                <a:off x="286704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4602240" y="4627440"/>
                <a:ext cx="830160" cy="292320"/>
              </a:xfrm>
              <a:prstGeom prst="rect">
                <a:avLst/>
              </a:prstGeom>
              <a:solidFill>
                <a:srgbClr val="67676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gion X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23960" y="508392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5" idx="2"/>
                <a:endCxn id="116" idx="1"/>
              </p:cNvCxnSpPr>
              <p:nvPr/>
            </p:nvCxnSpPr>
            <p:spPr>
              <a:xfrm flipH="1" rot="16200000">
                <a:off x="496296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8" name=""/>
              <p:cNvSpPr/>
              <p:nvPr/>
            </p:nvSpPr>
            <p:spPr>
              <a:xfrm>
                <a:off x="5222880" y="545508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5" idx="2"/>
                <a:endCxn id="118" idx="1"/>
              </p:cNvCxnSpPr>
              <p:nvPr/>
            </p:nvCxnSpPr>
            <p:spPr>
              <a:xfrm flipH="1" rot="16200000">
                <a:off x="4777920" y="5175720"/>
                <a:ext cx="66996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>
                <a:off x="5223960" y="584064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15" idx="2"/>
                <a:endCxn id="120" idx="1"/>
              </p:cNvCxnSpPr>
              <p:nvPr/>
            </p:nvCxnSpPr>
            <p:spPr>
              <a:xfrm flipH="1" rot="16200000">
                <a:off x="458460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4489920" y="53398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84880" y="404028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5920" y="4314960"/>
              <a:ext cx="4394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specific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2043000"/>
            <a:ext cx="704988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000066"/>
                </a:solidFill>
                <a:latin typeface="Arial"/>
              </a:rPr>
              <a:t>TOP CATEGORIES of Corporate Taxonom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porat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486160"/>
            <a:ext cx="3414600" cy="262980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About u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is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Business Types</a:t>
            </a:r>
            <a:r>
              <a:rPr b="1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1e64"/>
                </a:solidFill>
                <a:latin typeface="Arial"/>
              </a:rPr>
              <a:t>(Prod., Solutions, Proj., Serv.)</a:t>
            </a:r>
            <a:br>
              <a:rPr sz="10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o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Contacts &amp; Support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o can I contact 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Employee Topic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human resources services are available for 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Markets &amp; Trend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know about our mar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7280" y="2486160"/>
            <a:ext cx="3414600" cy="223416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News &amp; Event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´s going on around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Processes &amp; Rol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are our business proc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echnologi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technologies do we us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ools &amp; Experienc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can help me work more effectiv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6680" y="5780160"/>
            <a:ext cx="1343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500" spc="-1" strike="noStrike">
                <a:solidFill>
                  <a:srgbClr val="ff0000"/>
                </a:solidFill>
                <a:latin typeface="Arial"/>
              </a:rPr>
              <a:t>Main Ques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5329080"/>
            <a:ext cx="30258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TOP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29480" y="3909240"/>
            <a:ext cx="3916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EVEL 0, first ent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7440" y="4814640"/>
            <a:ext cx="984240" cy="88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96920" y="5156280"/>
            <a:ext cx="655560" cy="73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68800" y="1638360"/>
            <a:ext cx="57481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s, Studies, Trend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market studies, portfolio analyse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ny Profiles 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customers, partners, …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Aspect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religion, culture, custom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itutions &amp; Government agencie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DIN, FDA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 Government Organization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Greenpeace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xample level 1 Markets &amp;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66680" y="1508040"/>
            <a:ext cx="1650960" cy="114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2959200"/>
            <a:ext cx="1770120" cy="3520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Structure Concept</dc:description>
  <dc:language>en-US</dc:language>
  <cp:lastModifiedBy>d003179</cp:lastModifiedBy>
  <cp:lastPrinted>2000-05-10T17:23:18Z</cp:lastPrinted>
  <dcterms:modified xsi:type="dcterms:W3CDTF">2003-07-01T12:49:28Z</dcterms:modified>
  <cp:revision>456</cp:revision>
  <dc:subject/>
  <dc:title>EP Sample Content Structure Concept</dc:title>
</cp:coreProperties>
</file>