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527680" y="6554160"/>
            <a:ext cx="640800" cy="1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fld id="{63CFD96C-217D-4B35-A458-5CF84CC55FF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750960"/>
            <a:ext cx="892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16200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9960" indent="-110880"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080" y="1523880"/>
            <a:ext cx="8983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96080" y="6594120"/>
            <a:ext cx="91440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RA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8515440" y="56880"/>
            <a:ext cx="685800" cy="571320"/>
          </a:xfrm>
          <a:custGeom>
            <a:avLst/>
            <a:gdLst>
              <a:gd name="textAreaLeft" fmla="*/ 0 w 685800"/>
              <a:gd name="textAreaRight" fmla="*/ 686160 w 68580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00" y="0"/>
                </a:lnTo>
                <a:lnTo>
                  <a:pt x="21600" y="10800"/>
                </a:lnTo>
                <a:lnTo>
                  <a:pt x="15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048440" y="2286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roject AIM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0" y="2286000"/>
            <a:ext cx="838080" cy="2764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BE" sz="1200" spc="-1" strike="noStrike">
                <a:solidFill>
                  <a:srgbClr val="ffffff"/>
                </a:solidFill>
                <a:latin typeface="Arial"/>
              </a:rPr>
              <a:t>B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228600"/>
            <a:ext cx="3429000" cy="23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9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533520"/>
            <a:ext cx="1067040" cy="2005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700" spc="-1" strike="noStrike">
                <a:solidFill>
                  <a:srgbClr val="000000"/>
                </a:solidFill>
                <a:latin typeface="Arial"/>
              </a:rPr>
              <a:t>Welcom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1676520"/>
            <a:ext cx="1067040" cy="2005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700" spc="-1" strike="noStrike">
                <a:solidFill>
                  <a:srgbClr val="000000"/>
                </a:solidFill>
                <a:latin typeface="Arial"/>
              </a:rPr>
              <a:t>Mail System 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2743200"/>
            <a:ext cx="6324840" cy="23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9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3092400"/>
            <a:ext cx="838080" cy="2005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700" spc="-1" strike="noStrike">
                <a:solidFill>
                  <a:srgbClr val="000000"/>
                </a:solidFill>
                <a:latin typeface="Arial"/>
              </a:rPr>
              <a:t>My care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43400" y="3092400"/>
            <a:ext cx="838080" cy="2005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700" spc="-1" strike="noStrike">
                <a:solidFill>
                  <a:srgbClr val="000000"/>
                </a:solidFill>
                <a:latin typeface="Arial"/>
              </a:rPr>
              <a:t>My train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257800" y="3065400"/>
            <a:ext cx="1219320" cy="2005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700" spc="-1" strike="noStrike">
                <a:solidFill>
                  <a:srgbClr val="000000"/>
                </a:solidFill>
                <a:latin typeface="Arial"/>
              </a:rPr>
              <a:t>My life ev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1981080"/>
            <a:ext cx="1067040" cy="2005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700" spc="-1" strike="noStrike">
                <a:solidFill>
                  <a:srgbClr val="000000"/>
                </a:solidFill>
                <a:latin typeface="Arial"/>
              </a:rPr>
              <a:t>My favorit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320" y="4006800"/>
            <a:ext cx="990360" cy="2005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700" spc="-1" strike="noStrike">
                <a:solidFill>
                  <a:srgbClr val="000000"/>
                </a:solidFill>
                <a:latin typeface="Arial"/>
              </a:rPr>
              <a:t>My Dat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152280"/>
            <a:ext cx="2514600" cy="23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900" spc="-1" strike="noStrike">
                <a:solidFill>
                  <a:srgbClr val="000000"/>
                </a:solidFill>
                <a:latin typeface="Arial"/>
              </a:rPr>
              <a:t>My service corn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15200" y="717480"/>
            <a:ext cx="762120" cy="1854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Procop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477120" y="1295280"/>
            <a:ext cx="761760" cy="1854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Downloa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457200"/>
            <a:ext cx="761760" cy="1854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Travel spa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15200" y="1066680"/>
            <a:ext cx="762120" cy="3682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Internal resources reserva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153280" y="1049400"/>
            <a:ext cx="914400" cy="1854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Non work servic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71600" y="533520"/>
            <a:ext cx="2286000" cy="2005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700" spc="-1" strike="noStrike">
                <a:solidFill>
                  <a:srgbClr val="000000"/>
                </a:solidFill>
                <a:latin typeface="Arial"/>
              </a:rPr>
              <a:t>News Roo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43000" y="3092400"/>
            <a:ext cx="1371600" cy="2005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700" spc="-1" strike="noStrike">
                <a:solidFill>
                  <a:srgbClr val="000000"/>
                </a:solidFill>
                <a:latin typeface="Arial"/>
              </a:rPr>
              <a:t>My administr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692600"/>
            <a:ext cx="990360" cy="2005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700" spc="-1" strike="noStrike">
                <a:solidFill>
                  <a:srgbClr val="000000"/>
                </a:solidFill>
                <a:latin typeface="Arial"/>
              </a:rPr>
              <a:t>My work ev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153280" y="457200"/>
            <a:ext cx="914400" cy="1854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Company shop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320" y="3092400"/>
            <a:ext cx="990360" cy="2005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700" spc="-1" strike="noStrike">
                <a:solidFill>
                  <a:srgbClr val="000000"/>
                </a:solidFill>
                <a:latin typeface="Arial"/>
              </a:rPr>
              <a:t>Welcom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90920" y="3092400"/>
            <a:ext cx="761760" cy="2005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700" spc="-1" strike="noStrike">
                <a:solidFill>
                  <a:srgbClr val="000000"/>
                </a:solidFill>
                <a:latin typeface="Arial"/>
              </a:rPr>
              <a:t>My packa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315200" y="457200"/>
            <a:ext cx="762120" cy="1854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Webex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467480" y="2666880"/>
            <a:ext cx="762120" cy="2005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700" spc="-1" strike="noStrike">
                <a:solidFill>
                  <a:srgbClr val="000000"/>
                </a:solidFill>
                <a:latin typeface="Arial"/>
              </a:rPr>
              <a:t>Who’s wh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467480" y="3397320"/>
            <a:ext cx="762120" cy="3070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700" spc="-1" strike="noStrike">
                <a:solidFill>
                  <a:srgbClr val="000000"/>
                </a:solidFill>
                <a:latin typeface="Arial"/>
              </a:rPr>
              <a:t>Codes &amp; valu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05920" y="2590920"/>
            <a:ext cx="761760" cy="3070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700" spc="-1" strike="noStrike">
                <a:solidFill>
                  <a:srgbClr val="000000"/>
                </a:solidFill>
                <a:latin typeface="Arial"/>
              </a:rPr>
              <a:t>Profile &amp; strateg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67480" y="3762360"/>
            <a:ext cx="762120" cy="3070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700" spc="-1" strike="noStrike">
                <a:solidFill>
                  <a:srgbClr val="000000"/>
                </a:solidFill>
                <a:latin typeface="Arial"/>
              </a:rPr>
              <a:t>Presentation tool bo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467480" y="2959200"/>
            <a:ext cx="762120" cy="3070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700" spc="-1" strike="noStrike">
                <a:solidFill>
                  <a:srgbClr val="000000"/>
                </a:solidFill>
                <a:latin typeface="Arial"/>
              </a:rPr>
              <a:t>Organization char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381880" y="2986200"/>
            <a:ext cx="60984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Profil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467480" y="4067280"/>
            <a:ext cx="762120" cy="64260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Standard company presenta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Templat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Logos, pictur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Visual char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81880" y="4282920"/>
            <a:ext cx="60984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Key figur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81880" y="5165640"/>
            <a:ext cx="60984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Publica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381880" y="4556160"/>
            <a:ext cx="60984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Key peopl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1880" y="3214800"/>
            <a:ext cx="609840" cy="55116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Mission stat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In brief..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Structure organiza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81880" y="5394240"/>
            <a:ext cx="609840" cy="45972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Annual repor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Company leaflet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381880" y="4816440"/>
            <a:ext cx="60984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Key report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381880" y="3946680"/>
            <a:ext cx="609840" cy="27684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Products &amp; servic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467480" y="2349360"/>
            <a:ext cx="1600200" cy="21024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900" spc="-1" strike="noStrike">
                <a:solidFill>
                  <a:srgbClr val="000000"/>
                </a:solidFill>
                <a:latin typeface="Arial"/>
              </a:rPr>
              <a:t>My organiz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477120" y="685800"/>
            <a:ext cx="761760" cy="55116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Time tabl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Book an hote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Book train / plane ticket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Rent a ca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315200" y="1508040"/>
            <a:ext cx="762120" cy="45972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Meeting roo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Cater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IT equip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(...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153280" y="1295280"/>
            <a:ext cx="914400" cy="64260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Map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Small add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My investment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Weather inf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Send e-mail to GS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(...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120" y="1523880"/>
            <a:ext cx="761760" cy="45972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Templat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Form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Newslett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(...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280" y="762120"/>
            <a:ext cx="1067040" cy="82548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Major new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New on this si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To Do’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To Approv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Pending reques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Aler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Push of specific events (survey....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71600" y="782640"/>
            <a:ext cx="121932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1011240"/>
            <a:ext cx="121932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Focu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71600" y="1247760"/>
            <a:ext cx="1219320" cy="64260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Innova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Health &amp; environ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“</a:t>
            </a: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Deregulation”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Energy saving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Marketing &amp; sponsor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Sustainable developpement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43200" y="795240"/>
            <a:ext cx="91440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New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43200" y="1600200"/>
            <a:ext cx="91440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43200" y="1069920"/>
            <a:ext cx="914400" cy="45972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New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Newslett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Department Not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Employee noti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91120" y="380880"/>
            <a:ext cx="1523880" cy="2005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700" spc="-1" strike="noStrike">
                <a:solidFill>
                  <a:srgbClr val="000000"/>
                </a:solidFill>
                <a:latin typeface="Arial"/>
              </a:rPr>
              <a:t>My business knwoled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901800"/>
            <a:ext cx="1523880" cy="2005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700" spc="-1" strike="noStrike">
                <a:solidFill>
                  <a:srgbClr val="000000"/>
                </a:solidFill>
                <a:latin typeface="Arial"/>
              </a:rPr>
              <a:t>My Workspace 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121932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(..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44" idx="3"/>
            <a:endCxn id="54" idx="1"/>
          </p:cNvCxnSpPr>
          <p:nvPr/>
        </p:nvCxnSpPr>
        <p:spPr>
          <a:xfrm flipV="1">
            <a:off x="5410080" y="267840"/>
            <a:ext cx="1067400" cy="215676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97" name=""/>
          <p:cNvSpPr/>
          <p:nvPr/>
        </p:nvSpPr>
        <p:spPr>
          <a:xfrm>
            <a:off x="76320" y="3321000"/>
            <a:ext cx="990360" cy="55116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Message from HR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Contact H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FAQ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Annouc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320" y="4235400"/>
            <a:ext cx="990360" cy="36828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Organizational inf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Professional inf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Personal inf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3352680"/>
            <a:ext cx="76176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My salar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90920" y="4114800"/>
            <a:ext cx="76176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My stock option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90920" y="5046840"/>
            <a:ext cx="76176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My Pens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90920" y="5791320"/>
            <a:ext cx="76176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My insuran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3581280"/>
            <a:ext cx="761760" cy="45972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Policy &amp; procedur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My pay slip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Tax simul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4419720"/>
            <a:ext cx="761760" cy="45972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Policy &amp; procedur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Personal statu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Simul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90920" y="5257800"/>
            <a:ext cx="761760" cy="45972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Policy &amp; procedur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Personal statu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Simul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29000" y="3352680"/>
            <a:ext cx="83808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My evalua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4572000"/>
            <a:ext cx="83808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My CV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29000" y="4876920"/>
            <a:ext cx="83808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Mobilit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29000" y="3581280"/>
            <a:ext cx="838080" cy="119124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Performance appraisal (method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Performance appraisal (application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Self assessment too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Competenc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Top 50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Leader for the fu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5102280"/>
            <a:ext cx="838080" cy="36828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General inf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Jobs (consult &amp; appl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43400" y="3397320"/>
            <a:ext cx="83808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Training schedul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43400" y="4222800"/>
            <a:ext cx="83808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Training follow-up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43400" y="5105520"/>
            <a:ext cx="838080" cy="27684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Training profiling too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701880"/>
            <a:ext cx="838080" cy="27684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Training polic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Training catalo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43400" y="4540320"/>
            <a:ext cx="838080" cy="45972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Training evalua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My previous train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320" y="4970520"/>
            <a:ext cx="99036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Joining  the compan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320" y="6280200"/>
            <a:ext cx="990360" cy="27684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International assign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320" y="5226120"/>
            <a:ext cx="99036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Leaving the compan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320" y="5472000"/>
            <a:ext cx="99036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Retir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320" y="5759280"/>
            <a:ext cx="99036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Career break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320" y="6005520"/>
            <a:ext cx="99036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Work / travel accid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3338640"/>
            <a:ext cx="137160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Time &amp; Expens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43000" y="3567240"/>
            <a:ext cx="137160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My shar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3795840"/>
            <a:ext cx="1371600" cy="27684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Spring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Spring simul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132440"/>
            <a:ext cx="137160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My ca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4343400"/>
            <a:ext cx="1371600" cy="55116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Policy &amp; procedur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My private ca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My company ca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Fuel car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Simul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4952880"/>
            <a:ext cx="137160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My GS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43000" y="5138640"/>
            <a:ext cx="1371600" cy="36828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Policy &amp; procedur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My invoi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Ord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43000" y="5504040"/>
            <a:ext cx="137160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My Corporate Credit car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43000" y="6326280"/>
            <a:ext cx="1371600" cy="27684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Network , Mobile equipment, SW, Acces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229600" y="6039000"/>
            <a:ext cx="762120" cy="1854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86600" y="6039000"/>
            <a:ext cx="1143000" cy="642600"/>
          </a:xfrm>
          <a:prstGeom prst="rect">
            <a:avLst/>
          </a:prstGeom>
          <a:solidFill>
            <a:srgbClr val="ff99cc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Searc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Personaliz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Foru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Help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Suggestion box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"/>
          <p:cNvCxnSpPr>
            <a:stCxn id="44" idx="1"/>
            <a:endCxn id="48" idx="0"/>
          </p:cNvCxnSpPr>
          <p:nvPr/>
        </p:nvCxnSpPr>
        <p:spPr>
          <a:xfrm flipV="1" rot="10800000">
            <a:off x="3314160" y="2424240"/>
            <a:ext cx="1257840" cy="31932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34" name=""/>
          <p:cNvCxnSpPr>
            <a:stCxn id="44" idx="1"/>
            <a:endCxn id="45" idx="3"/>
          </p:cNvCxnSpPr>
          <p:nvPr/>
        </p:nvCxnSpPr>
        <p:spPr>
          <a:xfrm rot="10800000">
            <a:off x="3657600" y="344160"/>
            <a:ext cx="914760" cy="208044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35" name=""/>
          <p:cNvCxnSpPr>
            <a:stCxn id="44" idx="1"/>
            <a:endCxn id="93" idx="1"/>
          </p:cNvCxnSpPr>
          <p:nvPr/>
        </p:nvCxnSpPr>
        <p:spPr>
          <a:xfrm rot="10800000">
            <a:off x="4191120" y="480960"/>
            <a:ext cx="381240" cy="1943640"/>
          </a:xfrm>
          <a:prstGeom prst="bentConnector3">
            <a:avLst>
              <a:gd name="adj1" fmla="val 161342"/>
            </a:avLst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36" name=""/>
          <p:cNvCxnSpPr>
            <a:stCxn id="44" idx="1"/>
            <a:endCxn id="94" idx="1"/>
          </p:cNvCxnSpPr>
          <p:nvPr/>
        </p:nvCxnSpPr>
        <p:spPr>
          <a:xfrm rot="10800000">
            <a:off x="4191120" y="1001520"/>
            <a:ext cx="381240" cy="1422720"/>
          </a:xfrm>
          <a:prstGeom prst="bentConnector3">
            <a:avLst>
              <a:gd name="adj1" fmla="val 161342"/>
            </a:avLst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37" name=""/>
          <p:cNvSpPr/>
          <p:nvPr/>
        </p:nvSpPr>
        <p:spPr>
          <a:xfrm>
            <a:off x="8153280" y="762120"/>
            <a:ext cx="914400" cy="1854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Dictionar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5715000"/>
            <a:ext cx="1371600" cy="36828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Policy &amp; procedur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My invoi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Ord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43000" y="6095880"/>
            <a:ext cx="137160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My IT equipment &amp; servic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57800" y="3352680"/>
            <a:ext cx="121932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Family event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57800" y="4495680"/>
            <a:ext cx="91440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Mov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257800" y="4756320"/>
            <a:ext cx="121932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Absen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257800" y="3581280"/>
            <a:ext cx="1219320" cy="109980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Pregnanc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New child (birth, adoption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Change in dependancy status of chil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Marriage or cohabita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Change in dependancy status of spous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Divorce or separa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Death of a relativ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Other (holy communions, jury duty...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57800" y="5029200"/>
            <a:ext cx="1219320" cy="91692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Illnes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Leav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Paid leave for specific event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Unpaid leave for family reason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Unpaid leav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Youth leav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Paid educational leav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Recuperation overti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257800" y="6051600"/>
            <a:ext cx="121932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Bank chang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91120" y="76320"/>
            <a:ext cx="1523880" cy="23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900" spc="-1" strike="noStrike">
                <a:solidFill>
                  <a:srgbClr val="000000"/>
                </a:solidFill>
                <a:latin typeface="Arial"/>
              </a:rPr>
              <a:t>My communiti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91120" y="627120"/>
            <a:ext cx="1523880" cy="19692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91120" y="1135080"/>
            <a:ext cx="1523880" cy="19692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1T21:39:05Z</dcterms:created>
  <dc:creator>SAP</dc:creator>
  <dc:description/>
  <dc:language>en-US</dc:language>
  <cp:lastModifiedBy>d003179</cp:lastModifiedBy>
  <cp:lastPrinted>2000-05-10T17:23:18Z</cp:lastPrinted>
  <dcterms:modified xsi:type="dcterms:W3CDTF">2003-06-26T15:05:15Z</dcterms:modified>
  <cp:revision>455</cp:revision>
  <dc:subject/>
  <dc:title>Sample Kick-Off Meeting Presentation</dc:title>
</cp:coreProperties>
</file>