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4D3747AC-CAA6-4D96-A597-2719453C29A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57120"/>
            <a:ext cx="868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120" rIns="691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 Implementation Phases: AIM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2480" y="1547640"/>
            <a:ext cx="5516640" cy="11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752480" y="1547640"/>
            <a:ext cx="5516640" cy="11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5800" y="762120"/>
            <a:ext cx="7738920" cy="57560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762120"/>
            <a:ext cx="7738920" cy="575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6080" y="847800"/>
            <a:ext cx="72183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14480" y="1535040"/>
            <a:ext cx="1644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03680" y="1587600"/>
            <a:ext cx="101088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273c83"/>
                </a:solidFill>
                <a:latin typeface="Arial"/>
              </a:rPr>
              <a:t>Pro</a:t>
            </a:r>
            <a:r>
              <a:rPr b="1" lang="de-DE" sz="1500" spc="-1" strike="noStrike">
                <a:solidFill>
                  <a:srgbClr val="273c83"/>
                </a:solidFill>
                <a:latin typeface="Arial"/>
              </a:rPr>
              <a:t>c</a:t>
            </a:r>
            <a:r>
              <a:rPr b="1" lang="en-GB" sz="1500" spc="-1" strike="noStrike">
                <a:solidFill>
                  <a:srgbClr val="273c83"/>
                </a:solidFill>
                <a:latin typeface="Arial"/>
              </a:rPr>
              <a:t>esse</a:t>
            </a:r>
            <a:r>
              <a:rPr b="1" lang="de-DE" sz="1500" spc="-1" strike="noStrike">
                <a:solidFill>
                  <a:srgbClr val="273c83"/>
                </a:solidFill>
                <a:latin typeface="Arial"/>
              </a:rPr>
              <a:t>s</a:t>
            </a:r>
            <a:r>
              <a:rPr b="1" lang="en-GB" sz="1500" spc="-1" strike="noStrike">
                <a:solidFill>
                  <a:srgbClr val="273c83"/>
                </a:solidFill>
                <a:latin typeface="Arial"/>
              </a:rPr>
              <a:t>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89640" y="1809720"/>
            <a:ext cx="91044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273c83"/>
                </a:solidFill>
                <a:latin typeface="Arial"/>
              </a:rPr>
              <a:t>Function</a:t>
            </a:r>
            <a:r>
              <a:rPr b="1" lang="de-DE" sz="1500" spc="-1" strike="noStrike">
                <a:solidFill>
                  <a:srgbClr val="273c83"/>
                </a:solidFill>
                <a:latin typeface="Arial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4610160"/>
            <a:ext cx="3722760" cy="1460520"/>
          </a:xfrm>
          <a:prstGeom prst="rect">
            <a:avLst/>
          </a:prstGeom>
          <a:solidFill>
            <a:srgbClr val="cbc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084320" y="3648240"/>
            <a:ext cx="3705120" cy="1134720"/>
            <a:chOff x="1084320" y="3648240"/>
            <a:chExt cx="3705120" cy="1134720"/>
          </a:xfrm>
        </p:grpSpPr>
        <p:sp>
          <p:nvSpPr>
            <p:cNvPr id="55" name=""/>
            <p:cNvSpPr/>
            <p:nvPr/>
          </p:nvSpPr>
          <p:spPr>
            <a:xfrm>
              <a:off x="1084320" y="3648240"/>
              <a:ext cx="3705120" cy="1134720"/>
            </a:xfrm>
            <a:custGeom>
              <a:avLst/>
              <a:gdLst/>
              <a:ahLst/>
              <a:rect l="l" t="t" r="r" b="b"/>
              <a:pathLst>
                <a:path w="214" h="66">
                  <a:moveTo>
                    <a:pt x="0" y="66"/>
                  </a:moveTo>
                  <a:cubicBezTo>
                    <a:pt x="0" y="30"/>
                    <a:pt x="95" y="0"/>
                    <a:pt x="214" y="0"/>
                  </a:cubicBezTo>
                  <a:lnTo>
                    <a:pt x="214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bc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84320" y="3648240"/>
              <a:ext cx="3705120" cy="1134720"/>
            </a:xfrm>
            <a:custGeom>
              <a:avLst/>
              <a:gdLst/>
              <a:ahLst/>
              <a:rect l="l" t="t" r="r" b="b"/>
              <a:pathLst>
                <a:path w="214" h="66">
                  <a:moveTo>
                    <a:pt x="0" y="66"/>
                  </a:moveTo>
                  <a:cubicBezTo>
                    <a:pt x="0" y="30"/>
                    <a:pt x="95" y="0"/>
                    <a:pt x="214" y="0"/>
                  </a:cubicBezTo>
                </a:path>
              </a:pathLst>
            </a:custGeom>
            <a:noFill/>
            <a:ln w="52560">
              <a:solidFill>
                <a:srgbClr val="273c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 flipV="1">
            <a:off x="4772160" y="3579480"/>
            <a:ext cx="17280" cy="2490840"/>
          </a:xfrm>
          <a:prstGeom prst="line">
            <a:avLst/>
          </a:prstGeom>
          <a:ln w="17640">
            <a:solidFill>
              <a:srgbClr val="273c8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24040" y="3957480"/>
            <a:ext cx="13510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9800" y="3975120"/>
            <a:ext cx="22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73c83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87440" y="3975120"/>
            <a:ext cx="59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62360" y="397512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28600" y="397512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95360" y="4284720"/>
            <a:ext cx="335916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35400" y="4730760"/>
            <a:ext cx="17478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7080" y="2514600"/>
            <a:ext cx="1695240" cy="1133640"/>
          </a:xfrm>
          <a:custGeom>
            <a:avLst/>
            <a:gdLst/>
            <a:ahLst/>
            <a:rect l="l" t="t" r="r" b="b"/>
            <a:pathLst>
              <a:path w="98" h="66">
                <a:moveTo>
                  <a:pt x="0" y="66"/>
                </a:moveTo>
                <a:cubicBezTo>
                  <a:pt x="0" y="66"/>
                  <a:pt x="0" y="65"/>
                  <a:pt x="0" y="65"/>
                </a:cubicBezTo>
                <a:cubicBezTo>
                  <a:pt x="0" y="29"/>
                  <a:pt x="43" y="0"/>
                  <a:pt x="98" y="0"/>
                </a:cubicBezTo>
              </a:path>
            </a:pathLst>
          </a:custGeom>
          <a:noFill/>
          <a:ln w="52560">
            <a:solidFill>
              <a:srgbClr val="273c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44960" y="3063960"/>
            <a:ext cx="128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23160" y="3081240"/>
            <a:ext cx="339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25640" y="3081240"/>
            <a:ext cx="59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9120" y="308124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65360" y="30812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40200" y="3459240"/>
            <a:ext cx="180180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15800" y="3510000"/>
            <a:ext cx="918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486480" y="2496600"/>
            <a:ext cx="1800" cy="3676680"/>
          </a:xfrm>
          <a:prstGeom prst="line">
            <a:avLst/>
          </a:prstGeom>
          <a:ln w="17640">
            <a:solidFill>
              <a:srgbClr val="273c8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86480" y="2532240"/>
            <a:ext cx="1695600" cy="3538440"/>
          </a:xfrm>
          <a:prstGeom prst="rect">
            <a:avLst/>
          </a:prstGeom>
          <a:solidFill>
            <a:srgbClr val="cbc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486480" y="1328760"/>
            <a:ext cx="1695600" cy="1220760"/>
            <a:chOff x="6486480" y="1328760"/>
            <a:chExt cx="1695600" cy="1220760"/>
          </a:xfrm>
        </p:grpSpPr>
        <p:sp>
          <p:nvSpPr>
            <p:cNvPr id="76" name=""/>
            <p:cNvSpPr/>
            <p:nvPr/>
          </p:nvSpPr>
          <p:spPr>
            <a:xfrm>
              <a:off x="6486480" y="1328760"/>
              <a:ext cx="1695600" cy="1220760"/>
            </a:xfrm>
            <a:custGeom>
              <a:avLst/>
              <a:gdLst/>
              <a:ahLst/>
              <a:rect l="l" t="t" r="r" b="b"/>
              <a:pathLst>
                <a:path w="98" h="71">
                  <a:moveTo>
                    <a:pt x="0" y="71"/>
                  </a:moveTo>
                  <a:cubicBezTo>
                    <a:pt x="0" y="32"/>
                    <a:pt x="44" y="0"/>
                    <a:pt x="98" y="0"/>
                  </a:cubicBezTo>
                  <a:lnTo>
                    <a:pt x="98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cbc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86480" y="1328760"/>
              <a:ext cx="1695600" cy="1220760"/>
            </a:xfrm>
            <a:custGeom>
              <a:avLst/>
              <a:gdLst/>
              <a:ahLst/>
              <a:rect l="l" t="t" r="r" b="b"/>
              <a:pathLst>
                <a:path w="98" h="71">
                  <a:moveTo>
                    <a:pt x="0" y="71"/>
                  </a:moveTo>
                  <a:cubicBezTo>
                    <a:pt x="0" y="32"/>
                    <a:pt x="44" y="0"/>
                    <a:pt x="98" y="0"/>
                  </a:cubicBezTo>
                </a:path>
              </a:pathLst>
            </a:custGeom>
            <a:noFill/>
            <a:ln w="52560">
              <a:solidFill>
                <a:srgbClr val="273c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6745320" y="1913040"/>
            <a:ext cx="128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01560" y="1930320"/>
            <a:ext cx="3952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43280" y="1930320"/>
            <a:ext cx="59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934400" y="193032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983360" y="193032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86480" y="3063960"/>
            <a:ext cx="16779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15160" y="5761080"/>
            <a:ext cx="34632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19760" y="5780160"/>
            <a:ext cx="51228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buClr>
                <a:srgbClr val="273c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273c83"/>
                </a:solidFill>
                <a:latin typeface="Arial"/>
              </a:rPr>
              <a:t>Ti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014480" y="2171880"/>
            <a:ext cx="7358040" cy="3968640"/>
            <a:chOff x="1014480" y="2171880"/>
            <a:chExt cx="7358040" cy="3968640"/>
          </a:xfrm>
        </p:grpSpPr>
        <p:sp>
          <p:nvSpPr>
            <p:cNvPr id="87" name=""/>
            <p:cNvSpPr/>
            <p:nvPr/>
          </p:nvSpPr>
          <p:spPr>
            <a:xfrm>
              <a:off x="1066680" y="2257560"/>
              <a:ext cx="7220160" cy="3813120"/>
            </a:xfrm>
            <a:custGeom>
              <a:avLst/>
              <a:gdLst/>
              <a:ahLst/>
              <a:rect l="l" t="t" r="r" b="b"/>
              <a:pathLst>
                <a:path w="417" h="222">
                  <a:moveTo>
                    <a:pt x="0" y="0"/>
                  </a:moveTo>
                  <a:lnTo>
                    <a:pt x="0" y="222"/>
                  </a:lnTo>
                  <a:lnTo>
                    <a:pt x="417" y="222"/>
                  </a:lnTo>
                </a:path>
              </a:pathLst>
            </a:custGeom>
            <a:noFill/>
            <a:ln w="17640">
              <a:solidFill>
                <a:srgbClr val="273c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14480" y="2171880"/>
              <a:ext cx="122040" cy="118800"/>
            </a:xfrm>
            <a:custGeom>
              <a:avLst/>
              <a:gdLst/>
              <a:ahLst/>
              <a:rect l="l" t="t" r="r" b="b"/>
              <a:pathLst>
                <a:path w="77" h="75">
                  <a:moveTo>
                    <a:pt x="77" y="75"/>
                  </a:moveTo>
                  <a:lnTo>
                    <a:pt x="33" y="0"/>
                  </a:lnTo>
                  <a:lnTo>
                    <a:pt x="0" y="75"/>
                  </a:lnTo>
                  <a:lnTo>
                    <a:pt x="77" y="75"/>
                  </a:lnTo>
                  <a:close/>
                </a:path>
              </a:pathLst>
            </a:custGeom>
            <a:solidFill>
              <a:srgbClr val="273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251920" y="601992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0" y="76"/>
                  </a:moveTo>
                  <a:lnTo>
                    <a:pt x="76" y="32"/>
                  </a:lnTo>
                  <a:lnTo>
                    <a:pt x="0" y="0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273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515600" y="4267080"/>
            <a:ext cx="2468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uild up Information Service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SS and Management Inform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77520" y="3352680"/>
            <a:ext cx="1011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2160" y="2895480"/>
            <a:ext cx="790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ur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76400" y="4724280"/>
            <a:ext cx="1805040" cy="11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rporate In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rporate N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dustry N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SS Business Pac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ick Po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SS Business Pac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78800" y="2286000"/>
            <a:ext cx="120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re Proces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57560" y="3886200"/>
            <a:ext cx="121680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il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M Repository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llaboration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Rooms for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3600" y="3276720"/>
            <a:ext cx="12002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Decem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3160" y="2209680"/>
            <a:ext cx="81756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June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11240" y="914400"/>
            <a:ext cx="78408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Dec.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03560" y="3352680"/>
            <a:ext cx="116640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rchas Order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ster Data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Content Implementation Phases</dc:description>
  <dc:language>en-US</dc:language>
  <cp:lastModifiedBy>d031429</cp:lastModifiedBy>
  <cp:lastPrinted>2000-05-10T17:23:18Z</cp:lastPrinted>
  <dcterms:modified xsi:type="dcterms:W3CDTF">2003-11-20T12:52:50Z</dcterms:modified>
  <cp:revision>457</cp:revision>
  <dc:subject/>
  <dc:title>EP Sample Content Implementation Phases</dc:title>
</cp:coreProperties>
</file>