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DD18902F-CA9E-4278-AA2F-5D07A9CAB01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ing Convention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3520" y="4724280"/>
            <a:ext cx="7648560" cy="1143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dfdfd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0" tIns="36000" bIns="36000" anchor="ctr">
            <a:noAutofit/>
          </a:bodyPr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ules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maximum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long, separator is d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small letters, numbers and underl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gistration of all portal components is mandatory</a:t>
            </a:r>
            <a:br>
              <a:rPr sz="1600"/>
            </a:b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not contain d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aming conventions for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Objec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1523880"/>
            <a:ext cx="7616880" cy="539640"/>
            <a:chOff x="1187280" y="1523880"/>
            <a:chExt cx="7616880" cy="539640"/>
          </a:xfrm>
        </p:grpSpPr>
        <p:sp>
          <p:nvSpPr>
            <p:cNvPr id="48" name=""/>
            <p:cNvSpPr/>
            <p:nvPr/>
          </p:nvSpPr>
          <p:spPr>
            <a:xfrm>
              <a:off x="1187280" y="1523880"/>
              <a:ext cx="462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58960" y="1523880"/>
              <a:ext cx="8110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68720" y="1523880"/>
              <a:ext cx="876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4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14960" y="1523880"/>
              <a:ext cx="9604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6680" y="1523880"/>
              <a:ext cx="9014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4240" y="1523880"/>
              <a:ext cx="79992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79840" y="1523880"/>
              <a:ext cx="38556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8280" y="1523880"/>
              <a:ext cx="96660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solution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9640" y="1523880"/>
              <a:ext cx="6112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200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86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840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6216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00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276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59560" y="1661040"/>
            <a:ext cx="775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6699"/>
                </a:solidFill>
                <a:latin typeface="Arial"/>
              </a:rPr>
              <a:t>SAP EP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22200" y="2349360"/>
            <a:ext cx="76298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domain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pany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676767"/>
                </a:solidFill>
                <a:latin typeface="Arial"/>
              </a:rPr>
              <a:t>ECO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object type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pct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br>
              <a:rPr sz="1000"/>
            </a:b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66ff"/>
                </a:solidFill>
                <a:latin typeface="Arial"/>
              </a:rPr>
              <a:t>sourc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000" spc="-1" strike="noStrike">
                <a:solidFill>
                  <a:srgbClr val="cc66ff"/>
                </a:solidFill>
                <a:latin typeface="Arial"/>
              </a:rPr>
              <a:t>portal solution packag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9900"/>
                </a:solidFill>
                <a:latin typeface="Arial"/>
              </a:rPr>
              <a:t>function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&lt;</a:t>
            </a:r>
            <a:r>
              <a:rPr b="1" lang="en-GB" sz="1000" spc="-1" strike="noStrike">
                <a:solidFill>
                  <a:srgbClr val="990033"/>
                </a:solidFill>
                <a:latin typeface="Arial"/>
              </a:rPr>
              <a:t>product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7600" y="2192400"/>
            <a:ext cx="2528640" cy="1116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34720" y="2179800"/>
            <a:ext cx="2733480" cy="1080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9080" y="2090880"/>
            <a:ext cx="2207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Maximum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character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7772400" cy="4571640"/>
        </p:xfrm>
        <a:graphic>
          <a:graphicData uri="http://schemas.openxmlformats.org/drawingml/2006/table">
            <a:tbl>
              <a:tblPr/>
              <a:tblGrid>
                <a:gridCol w="5135400"/>
                <a:gridCol w="2637000"/>
              </a:tblGrid>
              <a:tr h="3099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urc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599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&amp;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2" name=""/>
          <p:cNvGrpSpPr/>
          <p:nvPr/>
        </p:nvGrpSpPr>
        <p:grpSpPr>
          <a:xfrm>
            <a:off x="2514600" y="1066680"/>
            <a:ext cx="5005440" cy="460440"/>
            <a:chOff x="2514600" y="1066680"/>
            <a:chExt cx="5005440" cy="460440"/>
          </a:xfrm>
        </p:grpSpPr>
        <p:sp>
          <p:nvSpPr>
            <p:cNvPr id="73" name=""/>
            <p:cNvSpPr/>
            <p:nvPr/>
          </p:nvSpPr>
          <p:spPr>
            <a:xfrm>
              <a:off x="2514600" y="10666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0080" y="10666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720" y="1066680"/>
              <a:ext cx="5756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61320" y="10666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5480" y="10666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94440" y="10666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5240" y="10666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400" y="10666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24640" y="10666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408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31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45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911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880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32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2024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7000" y="1066680"/>
            <a:ext cx="60948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9680" y="1600200"/>
            <a:ext cx="5005440" cy="476280"/>
            <a:chOff x="2209680" y="1600200"/>
            <a:chExt cx="5005440" cy="476280"/>
          </a:xfrm>
        </p:grpSpPr>
        <p:sp>
          <p:nvSpPr>
            <p:cNvPr id="93" name=""/>
            <p:cNvSpPr/>
            <p:nvPr/>
          </p:nvSpPr>
          <p:spPr>
            <a:xfrm>
              <a:off x="2209680" y="1600200"/>
              <a:ext cx="3031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85880" y="1600200"/>
              <a:ext cx="532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11440" y="1600200"/>
              <a:ext cx="5763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1600200"/>
              <a:ext cx="631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092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89520" y="160020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0680" y="1600200"/>
              <a:ext cx="2527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5840" y="1600200"/>
              <a:ext cx="6350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   package</a:t>
              </a: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9720" y="1600200"/>
              <a:ext cx="4017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84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182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62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312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16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1796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6040" y="1600200"/>
              <a:ext cx="698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37120" y="1600200"/>
              <a:ext cx="682560" cy="476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2590920"/>
            <a:ext cx="78724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Portal Solution Package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gt; is a description you can choose for your packag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ease keep it as short as possible – “Short is beautiful”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.g. all Portal Administration objects are contained in the Portal Solution Package 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981080"/>
          <a:ext cx="7162920" cy="447192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32832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unc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usiness Intelli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e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ustom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nanc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uman Resourc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duct Lifecycl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ject Mgm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i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y Chain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2286000" y="1295280"/>
            <a:ext cx="5005440" cy="460440"/>
            <a:chOff x="2286000" y="1295280"/>
            <a:chExt cx="5005440" cy="460440"/>
          </a:xfrm>
        </p:grpSpPr>
        <p:sp>
          <p:nvSpPr>
            <p:cNvPr id="115" name=""/>
            <p:cNvSpPr/>
            <p:nvPr/>
          </p:nvSpPr>
          <p:spPr>
            <a:xfrm>
              <a:off x="228600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148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812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720" y="1295280"/>
              <a:ext cx="63108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6880" y="12952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584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664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180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9604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548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45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9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25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94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79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4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164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7040" y="1295280"/>
            <a:ext cx="646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162920" cy="452916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27468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rosswor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bm_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woven Team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wov_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_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Open Text 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Business Ware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b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Content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e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R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orporate Orga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133720" y="1295280"/>
            <a:ext cx="5005440" cy="460440"/>
            <a:chOff x="2133720" y="1295280"/>
            <a:chExt cx="5005440" cy="460440"/>
          </a:xfrm>
        </p:grpSpPr>
        <p:sp>
          <p:nvSpPr>
            <p:cNvPr id="136" name=""/>
            <p:cNvSpPr/>
            <p:nvPr/>
          </p:nvSpPr>
          <p:spPr>
            <a:xfrm>
              <a:off x="213372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584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0440" y="12952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4600" y="1295280"/>
              <a:ext cx="5922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6600"/>
                  </a:solidFill>
                  <a:latin typeface="Arial"/>
                </a:rPr>
                <a:t>&lt;produc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1356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1436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952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376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320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22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36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02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071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5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23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36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457960" y="1295280"/>
            <a:ext cx="64584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2209680"/>
          <a:ext cx="7772040" cy="4400640"/>
        </p:xfrm>
        <a:graphic>
          <a:graphicData uri="http://schemas.openxmlformats.org/drawingml/2006/table">
            <a:tbl>
              <a:tblPr/>
              <a:tblGrid>
                <a:gridCol w="5135040"/>
                <a:gridCol w="2637000"/>
              </a:tblGrid>
              <a:tr h="2937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ork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Al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ansport Pac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981080" y="1447920"/>
            <a:ext cx="5005440" cy="460080"/>
            <a:chOff x="1981080" y="1447920"/>
            <a:chExt cx="5005440" cy="460080"/>
          </a:xfrm>
        </p:grpSpPr>
        <p:sp>
          <p:nvSpPr>
            <p:cNvPr id="157" name=""/>
            <p:cNvSpPr/>
            <p:nvPr/>
          </p:nvSpPr>
          <p:spPr>
            <a:xfrm>
              <a:off x="1981080" y="1447920"/>
              <a:ext cx="3034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6560" y="1447920"/>
              <a:ext cx="5328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3200" y="1447920"/>
              <a:ext cx="5756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7800" y="1447920"/>
              <a:ext cx="631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1960" y="1447920"/>
              <a:ext cx="5922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0920" y="1447920"/>
              <a:ext cx="5256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1720" y="1447920"/>
              <a:ext cx="253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6880" y="1447920"/>
              <a:ext cx="6350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1120" y="1447920"/>
              <a:ext cx="401400" cy="46008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056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0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76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45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130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97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72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965920" y="1447920"/>
            <a:ext cx="45072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33720" y="1600200"/>
            <a:ext cx="5005440" cy="460440"/>
            <a:chOff x="2133720" y="1600200"/>
            <a:chExt cx="5005440" cy="460440"/>
          </a:xfrm>
        </p:grpSpPr>
        <p:sp>
          <p:nvSpPr>
            <p:cNvPr id="177" name=""/>
            <p:cNvSpPr/>
            <p:nvPr/>
          </p:nvSpPr>
          <p:spPr>
            <a:xfrm>
              <a:off x="2133720" y="160020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160020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5840" y="160020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0440" y="160020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460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3560" y="1600200"/>
              <a:ext cx="5256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&lt;nam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4360" y="160020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9520" y="160020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3760" y="160020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7320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22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36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71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56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23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936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600960" y="1600200"/>
            <a:ext cx="538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895480"/>
            <a:ext cx="82882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gt; is the description of th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Please keep it as short as possibl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– “Short is beautifu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e.g.</a:t>
            </a: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009900"/>
                </a:solidFill>
                <a:latin typeface="Arial"/>
              </a:rPr>
              <a:t>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intranet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portal_component_registration</a:t>
            </a:r>
            <a:br>
              <a:rPr sz="1400"/>
            </a:b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for the iView displaying the Portal Component Registration belonging to the Portal Solution Packag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Naming Conventions</dc:description>
  <dc:language>en-US</dc:language>
  <cp:lastModifiedBy>d003179</cp:lastModifiedBy>
  <cp:lastPrinted>2000-05-10T17:23:18Z</cp:lastPrinted>
  <dcterms:modified xsi:type="dcterms:W3CDTF">2003-11-20T15:44:19Z</dcterms:modified>
  <cp:revision>455</cp:revision>
  <dc:subject/>
  <dc:title>EP Sample Naming Conventions</dc:title>
</cp:coreProperties>
</file>