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43C62507-8A96-4EB4-8829-CDF20BF2E5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rtal Business Driver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6000" y="609480"/>
            <a:ext cx="8534160" cy="5677200"/>
          </a:xfrm>
          <a:prstGeom prst="donut">
            <a:avLst>
              <a:gd name="adj" fmla="val 845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ortal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Z Pl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1196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72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72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2200" y="431640"/>
            <a:ext cx="1968480" cy="1549440"/>
          </a:xfrm>
          <a:prstGeom prst="cloudCallout">
            <a:avLst>
              <a:gd name="adj1" fmla="val -30240"/>
              <a:gd name="adj2" fmla="val 143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5460840"/>
            <a:ext cx="2425680" cy="11178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235240"/>
            <a:ext cx="201960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of different content sources and applications i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" y="3200400"/>
            <a:ext cx="8574120" cy="398880"/>
            <a:chOff x="255600" y="3200400"/>
            <a:chExt cx="8574120" cy="398880"/>
          </a:xfrm>
        </p:grpSpPr>
        <p:sp>
          <p:nvSpPr>
            <p:cNvPr id="56" name=""/>
            <p:cNvSpPr/>
            <p:nvPr/>
          </p:nvSpPr>
          <p:spPr>
            <a:xfrm>
              <a:off x="630360" y="32004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e right information, at the right time, for the right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55600" y="32763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55600" y="2590920"/>
            <a:ext cx="8574120" cy="398880"/>
            <a:chOff x="255600" y="2590920"/>
            <a:chExt cx="8574120" cy="398880"/>
          </a:xfrm>
        </p:grpSpPr>
        <p:sp>
          <p:nvSpPr>
            <p:cNvPr id="59" name=""/>
            <p:cNvSpPr/>
            <p:nvPr/>
          </p:nvSpPr>
          <p:spPr>
            <a:xfrm>
              <a:off x="630360" y="25909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ersonalize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55600" y="26668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55600" y="1766880"/>
            <a:ext cx="8574120" cy="703800"/>
            <a:chOff x="255600" y="1766880"/>
            <a:chExt cx="8574120" cy="703800"/>
          </a:xfrm>
        </p:grpSpPr>
        <p:sp>
          <p:nvSpPr>
            <p:cNvPr id="62" name=""/>
            <p:cNvSpPr/>
            <p:nvPr/>
          </p:nvSpPr>
          <p:spPr>
            <a:xfrm>
              <a:off x="630360" y="1766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e-based assignment of functions and information to company internal or external user group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255600" y="1843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19240" y="10065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-Centric Integration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5600" y="4648320"/>
            <a:ext cx="8574120" cy="398880"/>
            <a:chOff x="255600" y="4648320"/>
            <a:chExt cx="8574120" cy="398880"/>
          </a:xfrm>
        </p:grpSpPr>
        <p:sp>
          <p:nvSpPr>
            <p:cNvPr id="66" name=""/>
            <p:cNvSpPr/>
            <p:nvPr/>
          </p:nvSpPr>
          <p:spPr>
            <a:xfrm>
              <a:off x="630360" y="46483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55600" y="47242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55600" y="3809880"/>
            <a:ext cx="8574120" cy="703800"/>
            <a:chOff x="255600" y="3809880"/>
            <a:chExt cx="8574120" cy="703800"/>
          </a:xfrm>
        </p:grpSpPr>
        <p:sp>
          <p:nvSpPr>
            <p:cNvPr id="69" name=""/>
            <p:cNvSpPr/>
            <p:nvPr/>
          </p:nvSpPr>
          <p:spPr>
            <a:xfrm>
              <a:off x="630360" y="3809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utomatic alerts and workflow functions to solve push and pull conflicts between employe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255600" y="3886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73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cess-aligned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76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-application consistency of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19240" y="930240"/>
            <a:ext cx="7785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-Oriented Integration of Systems Across System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5600" y="3657600"/>
            <a:ext cx="8574120" cy="398880"/>
            <a:chOff x="255600" y="3657600"/>
            <a:chExt cx="8574120" cy="398880"/>
          </a:xfrm>
        </p:grpSpPr>
        <p:sp>
          <p:nvSpPr>
            <p:cNvPr id="80" name=""/>
            <p:cNvSpPr/>
            <p:nvPr/>
          </p:nvSpPr>
          <p:spPr>
            <a:xfrm>
              <a:off x="630360" y="36576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 application 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255600" y="37335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55600" y="2963880"/>
            <a:ext cx="8574120" cy="398880"/>
            <a:chOff x="255600" y="2963880"/>
            <a:chExt cx="8574120" cy="398880"/>
          </a:xfrm>
        </p:grpSpPr>
        <p:sp>
          <p:nvSpPr>
            <p:cNvPr id="83" name=""/>
            <p:cNvSpPr/>
            <p:nvPr/>
          </p:nvSpPr>
          <p:spPr>
            <a:xfrm>
              <a:off x="630360" y="2963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Unified user interface (cross appli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255600" y="3039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5600" y="4302000"/>
            <a:ext cx="8574120" cy="398880"/>
            <a:chOff x="255600" y="4302000"/>
            <a:chExt cx="8574120" cy="398880"/>
          </a:xfrm>
        </p:grpSpPr>
        <p:sp>
          <p:nvSpPr>
            <p:cNvPr id="86" name=""/>
            <p:cNvSpPr/>
            <p:nvPr/>
          </p:nvSpPr>
          <p:spPr>
            <a:xfrm>
              <a:off x="630360" y="43020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entralized availability of systems an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55600" y="43783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55600" y="4886280"/>
            <a:ext cx="8574120" cy="398880"/>
            <a:chOff x="255600" y="4886280"/>
            <a:chExt cx="8574120" cy="398880"/>
          </a:xfrm>
        </p:grpSpPr>
        <p:sp>
          <p:nvSpPr>
            <p:cNvPr id="89" name=""/>
            <p:cNvSpPr/>
            <p:nvPr/>
          </p:nvSpPr>
          <p:spPr>
            <a:xfrm>
              <a:off x="630360" y="48862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solidated security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5600" y="49626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5600" y="3048120"/>
            <a:ext cx="8574120" cy="398880"/>
            <a:chOff x="255600" y="3048120"/>
            <a:chExt cx="8574120" cy="398880"/>
          </a:xfrm>
        </p:grpSpPr>
        <p:sp>
          <p:nvSpPr>
            <p:cNvPr id="93" name=""/>
            <p:cNvSpPr/>
            <p:nvPr/>
          </p:nvSpPr>
          <p:spPr>
            <a:xfrm>
              <a:off x="630360" y="30481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reased training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55600" y="31240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96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aster procedures due to integrated cross system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99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creased productivity in a personalized working environem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255600" y="9302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tativ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5600" y="4498920"/>
            <a:ext cx="8574120" cy="1618560"/>
            <a:chOff x="255600" y="4498920"/>
            <a:chExt cx="8574120" cy="1618560"/>
          </a:xfrm>
        </p:grpSpPr>
        <p:sp>
          <p:nvSpPr>
            <p:cNvPr id="103" name=""/>
            <p:cNvSpPr/>
            <p:nvPr/>
          </p:nvSpPr>
          <p:spPr>
            <a:xfrm>
              <a:off x="630360" y="4498920"/>
              <a:ext cx="8199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ower IT cos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ess disk space requirement by avoiding redundant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ed search function (no 3rd-party product requ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mplified user management using 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in-Clie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advan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255600" y="45752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55600" y="3657600"/>
            <a:ext cx="8574120" cy="703800"/>
            <a:chOff x="255600" y="3657600"/>
            <a:chExt cx="8574120" cy="703800"/>
          </a:xfrm>
        </p:grpSpPr>
        <p:sp>
          <p:nvSpPr>
            <p:cNvPr id="106" name=""/>
            <p:cNvSpPr/>
            <p:nvPr/>
          </p:nvSpPr>
          <p:spPr>
            <a:xfrm>
              <a:off x="630360" y="365760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mpany-wide availability of documents using search and class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55600" y="37339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34747</cp:lastModifiedBy>
  <cp:lastPrinted>2000-05-10T17:23:18Z</cp:lastPrinted>
  <dcterms:modified xsi:type="dcterms:W3CDTF">2003-11-27T10:25:45Z</dcterms:modified>
  <cp:revision>460</cp:revision>
  <dc:subject/>
  <dc:title>EP Sample Business Drivers  Presentation</dc:title>
</cp:coreProperties>
</file>