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BA7A30BC-D807-41E9-8BDF-A879D2E601CD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40080" y="2463840"/>
            <a:ext cx="736560" cy="1228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Roll Out Strategy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230480" y="5246640"/>
            <a:ext cx="510516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258920" y="1541520"/>
            <a:ext cx="0" cy="373392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4102200"/>
            <a:ext cx="5867280" cy="1144080"/>
            <a:chOff x="1230480" y="4102200"/>
            <a:chExt cx="5867280" cy="1144080"/>
          </a:xfrm>
        </p:grpSpPr>
        <p:sp>
          <p:nvSpPr>
            <p:cNvPr id="91" name=""/>
            <p:cNvSpPr/>
            <p:nvPr/>
          </p:nvSpPr>
          <p:spPr>
            <a:xfrm>
              <a:off x="1230480" y="4102200"/>
              <a:ext cx="5867280" cy="1144080"/>
            </a:xfrm>
            <a:prstGeom prst="parallelogram">
              <a:avLst>
                <a:gd name="adj" fmla="val 128210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615640" y="4102200"/>
              <a:ext cx="1481400" cy="1144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230480" y="5246280"/>
              <a:ext cx="438552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415640" y="2838600"/>
            <a:ext cx="10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User</a:t>
            </a:r>
            <a:br>
              <a:rPr sz="2000"/>
            </a:b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35280" y="55641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Business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3000" y="9684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94440" y="475632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Corp. Intranet + 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0760" y="4667400"/>
            <a:ext cx="0" cy="57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78680" y="3521160"/>
            <a:ext cx="0" cy="57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08280" y="352260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707080" y="3668400"/>
            <a:ext cx="1981080" cy="152388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1120" y="3684600"/>
            <a:ext cx="4449960" cy="6015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7080" y="5351400"/>
            <a:ext cx="20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nit1         Unit2  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16600" y="1584360"/>
            <a:ext cx="22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g. Management Cock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191120" y="2811600"/>
            <a:ext cx="436320" cy="35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06880" y="2446200"/>
            <a:ext cx="150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g. Unit 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68240" y="1927080"/>
            <a:ext cx="436680" cy="35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3517920"/>
            <a:ext cx="5867280" cy="1144080"/>
            <a:chOff x="1219320" y="3517920"/>
            <a:chExt cx="5867280" cy="1144080"/>
          </a:xfrm>
        </p:grpSpPr>
        <p:sp>
          <p:nvSpPr>
            <p:cNvPr id="109" name=""/>
            <p:cNvSpPr/>
            <p:nvPr/>
          </p:nvSpPr>
          <p:spPr>
            <a:xfrm>
              <a:off x="1219320" y="3517920"/>
              <a:ext cx="5867280" cy="1144080"/>
            </a:xfrm>
            <a:prstGeom prst="parallelogram">
              <a:avLst>
                <a:gd name="adj" fmla="val 12821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604480" y="3517920"/>
              <a:ext cx="1481400" cy="11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19320" y="4662000"/>
              <a:ext cx="438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287440" y="2622600"/>
            <a:ext cx="736920" cy="122868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79800" y="4311720"/>
            <a:ext cx="792000" cy="355680"/>
          </a:xfrm>
          <a:prstGeom prst="rect">
            <a:avLst/>
          </a:prstGeom>
          <a:solidFill>
            <a:srgbClr val="ddfd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708160" y="3127320"/>
            <a:ext cx="436680" cy="35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40440" y="2817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g. Management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09:43:14Z</dcterms:created>
  <dc:creator>T.E.</dc:creator>
  <dc:description>EP Sample Portal Roll Out Strategy</dc:description>
  <dc:language>en-US</dc:language>
  <cp:lastModifiedBy>d003179</cp:lastModifiedBy>
  <dcterms:modified xsi:type="dcterms:W3CDTF">2003-09-29T13:30:12Z</dcterms:modified>
  <cp:revision>278</cp:revision>
  <dc:subject/>
  <dc:title>EP Sample Portal Roll Out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15852228</vt:r8>
  </property>
  <property fmtid="{D5CDD505-2E9C-101B-9397-08002B2CF9AE}" pid="3" name="_AuthorEmail">
    <vt:lpwstr>Sylvia.Borcherding@mgi.de</vt:lpwstr>
  </property>
  <property fmtid="{D5CDD505-2E9C-101B-9397-08002B2CF9AE}" pid="4" name="_AuthorEmailDisplayName">
    <vt:lpwstr>Borcherding Sylvia</vt:lpwstr>
  </property>
  <property fmtid="{D5CDD505-2E9C-101B-9397-08002B2CF9AE}" pid="5" name="_EmailSubject">
    <vt:lpwstr>20030513_Metro_Beratungskonzept_CS.ppt</vt:lpwstr>
  </property>
</Properties>
</file>