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FD90F0AD-BB67-40C7-A7FD-1E48828EBD78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4560" y="1565280"/>
            <a:ext cx="2414520" cy="1981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ca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1868400"/>
            <a:ext cx="2020680" cy="3841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7560" y="2868480"/>
            <a:ext cx="2020680" cy="373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7560" y="2374920"/>
            <a:ext cx="2020680" cy="3715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3327480"/>
            <a:ext cx="94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72280" y="3281400"/>
            <a:ext cx="420120" cy="569880"/>
            <a:chOff x="6272280" y="3281400"/>
            <a:chExt cx="420120" cy="569880"/>
          </a:xfrm>
        </p:grpSpPr>
        <p:sp>
          <p:nvSpPr>
            <p:cNvPr id="92" name=""/>
            <p:cNvSpPr/>
            <p:nvPr/>
          </p:nvSpPr>
          <p:spPr>
            <a:xfrm>
              <a:off x="6272280" y="3281400"/>
              <a:ext cx="42012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8800" y="3281400"/>
              <a:ext cx="93600" cy="5698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800" y="3807720"/>
              <a:ext cx="30312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2280" y="3358440"/>
              <a:ext cx="326520" cy="492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2320" y="3380040"/>
              <a:ext cx="163080" cy="1310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3840" y="3390840"/>
              <a:ext cx="5760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3840" y="3423240"/>
              <a:ext cx="5760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6280" y="3390840"/>
              <a:ext cx="5760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2280" y="33908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2320" y="3532680"/>
              <a:ext cx="16308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34120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72280" y="3423240"/>
              <a:ext cx="128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2280" y="34462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2280" y="3467880"/>
              <a:ext cx="128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2280" y="34786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2280" y="35006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3800" y="3773880"/>
              <a:ext cx="30312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57480" y="4146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00" y="445140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97360"/>
            <a:ext cx="250848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9360" y="1700280"/>
            <a:ext cx="1440" cy="309708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" y="1692360"/>
            <a:ext cx="250488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24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120" y="2044800"/>
            <a:ext cx="2320920" cy="244800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6080" y="182556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200" y="4375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9880" y="1197000"/>
            <a:ext cx="482400" cy="626760"/>
            <a:chOff x="299880" y="1197000"/>
            <a:chExt cx="482400" cy="626760"/>
          </a:xfrm>
        </p:grpSpPr>
        <p:sp>
          <p:nvSpPr>
            <p:cNvPr id="121" name=""/>
            <p:cNvSpPr/>
            <p:nvPr/>
          </p:nvSpPr>
          <p:spPr>
            <a:xfrm>
              <a:off x="299880" y="11970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1197000"/>
              <a:ext cx="107640" cy="62676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2840" y="177624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880" y="1281600"/>
              <a:ext cx="374760" cy="542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800" y="13053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120" y="131760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120" y="1352880"/>
              <a:ext cx="65880" cy="493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440" y="131760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1317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00" y="14734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" y="13410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880" y="13528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880" y="1378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880" y="14022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80" y="14140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" y="14382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840" y="173880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443640" y="3970440"/>
            <a:ext cx="2390760" cy="838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X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8400" y="4245120"/>
            <a:ext cx="2178000" cy="3045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3480" y="4336920"/>
            <a:ext cx="479160" cy="571680"/>
            <a:chOff x="6243480" y="4336920"/>
            <a:chExt cx="479160" cy="571680"/>
          </a:xfrm>
        </p:grpSpPr>
        <p:sp>
          <p:nvSpPr>
            <p:cNvPr id="141" name=""/>
            <p:cNvSpPr/>
            <p:nvPr/>
          </p:nvSpPr>
          <p:spPr>
            <a:xfrm>
              <a:off x="6243480" y="4336920"/>
              <a:ext cx="47916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5720" y="4336920"/>
              <a:ext cx="106920" cy="5716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6440" y="4864680"/>
              <a:ext cx="34560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413960"/>
              <a:ext cx="372240" cy="494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3320" y="4435920"/>
              <a:ext cx="185760" cy="1317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6640" y="4446720"/>
              <a:ext cx="6552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6640" y="4479120"/>
              <a:ext cx="6552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0240" y="4446720"/>
              <a:ext cx="6552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3480" y="44467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3320" y="4588920"/>
              <a:ext cx="18576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44683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3480" y="4479120"/>
              <a:ext cx="146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3480" y="450216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3480" y="4524120"/>
              <a:ext cx="146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3480" y="45349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3480" y="455688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56440" y="4830840"/>
              <a:ext cx="34560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07240" y="4608360"/>
            <a:ext cx="123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380200"/>
            <a:ext cx="5203800" cy="12380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00280" y="53370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Resourc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9880" y="5151600"/>
            <a:ext cx="482400" cy="626400"/>
            <a:chOff x="299880" y="5151600"/>
            <a:chExt cx="482400" cy="626400"/>
          </a:xfrm>
        </p:grpSpPr>
        <p:sp>
          <p:nvSpPr>
            <p:cNvPr id="163" name=""/>
            <p:cNvSpPr/>
            <p:nvPr/>
          </p:nvSpPr>
          <p:spPr>
            <a:xfrm>
              <a:off x="299880" y="51516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5151600"/>
              <a:ext cx="107640" cy="62640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840" y="573048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" y="5236200"/>
              <a:ext cx="374760" cy="5418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00" y="52599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4120" y="527184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120" y="5307480"/>
              <a:ext cx="65880" cy="489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40" y="527184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880" y="52718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00" y="54280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880" y="5295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80" y="53074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" y="5332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880" y="53568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880" y="5368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9880" y="5392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840" y="569304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8400" y="635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0"/>
            <a:endCxn id="182" idx="0"/>
          </p:cNvCxnSpPr>
          <p:nvPr/>
        </p:nvCxnSpPr>
        <p:spPr>
          <a:xfrm flipH="1" rot="16200000">
            <a:off x="1896120" y="-127440"/>
            <a:ext cx="1800" cy="2819880"/>
          </a:xfrm>
          <a:prstGeom prst="bentConnector3">
            <a:avLst>
              <a:gd name="adj1" fmla="val -16150000"/>
            </a:avLst>
          </a:prstGeom>
          <a:ln w="38160">
            <a:solidFill>
              <a:srgbClr val="822249"/>
            </a:solidFill>
            <a:miter/>
          </a:ln>
        </p:spPr>
      </p:cxnSp>
      <p:cxnSp>
        <p:nvCxnSpPr>
          <p:cNvPr id="183" name=""/>
          <p:cNvCxnSpPr>
            <a:stCxn id="124" idx="1"/>
            <a:endCxn id="166" idx="1"/>
          </p:cNvCxnSpPr>
          <p:nvPr/>
        </p:nvCxnSpPr>
        <p:spPr>
          <a:xfrm rot="10800000">
            <a:off x="299880" y="1552680"/>
            <a:ext cx="360" cy="3954600"/>
          </a:xfrm>
          <a:prstGeom prst="bentConnector3">
            <a:avLst>
              <a:gd name="adj1" fmla="val -647000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3449520" y="444168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8960" y="4788000"/>
            <a:ext cx="250812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7080" y="1690560"/>
            <a:ext cx="1440" cy="309744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1692360"/>
            <a:ext cx="250524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1996920"/>
            <a:ext cx="2320920" cy="2524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3800" y="173664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19400" y="1197000"/>
            <a:ext cx="482760" cy="627120"/>
            <a:chOff x="3119400" y="1197000"/>
            <a:chExt cx="482760" cy="627120"/>
          </a:xfrm>
        </p:grpSpPr>
        <p:sp>
          <p:nvSpPr>
            <p:cNvPr id="191" name=""/>
            <p:cNvSpPr/>
            <p:nvPr/>
          </p:nvSpPr>
          <p:spPr>
            <a:xfrm>
              <a:off x="3119400" y="1197000"/>
              <a:ext cx="482760" cy="86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4160" y="1197000"/>
              <a:ext cx="108000" cy="6271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776600"/>
              <a:ext cx="34920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1283040"/>
              <a:ext cx="374760" cy="54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1306800"/>
              <a:ext cx="187560" cy="14292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4000" y="1317960"/>
              <a:ext cx="65160" cy="349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0" y="1352880"/>
              <a:ext cx="65160" cy="50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7600" y="1317960"/>
              <a:ext cx="66600" cy="856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13179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9600" y="1473480"/>
              <a:ext cx="187560" cy="126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9400" y="134172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1352880"/>
              <a:ext cx="147600" cy="1404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1379880"/>
              <a:ext cx="14760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1403640"/>
              <a:ext cx="1476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9400" y="1414800"/>
              <a:ext cx="147600" cy="126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14385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2000" y="1738440"/>
              <a:ext cx="349200" cy="381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07" idx="0"/>
            <a:endCxn id="192" idx="0"/>
          </p:cNvCxnSpPr>
          <p:nvPr/>
        </p:nvCxnSpPr>
        <p:spPr>
          <a:xfrm rot="10800000">
            <a:off x="3601800" y="1196640"/>
            <a:ext cx="2670480" cy="2304000"/>
          </a:xfrm>
          <a:prstGeom prst="bentConnector3">
            <a:avLst>
              <a:gd name="adj1" fmla="val 49979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50040" y="16858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08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44" idx="1"/>
            <a:endCxn id="107" idx="1"/>
          </p:cNvCxnSpPr>
          <p:nvPr/>
        </p:nvCxnSpPr>
        <p:spPr>
          <a:xfrm flipH="1" rot="10800000">
            <a:off x="6243480" y="3511080"/>
            <a:ext cx="29160" cy="1149840"/>
          </a:xfrm>
          <a:prstGeom prst="bentConnector3">
            <a:avLst>
              <a:gd name="adj1" fmla="val -8075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Portal Landscape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876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68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792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72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80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7600" y="1685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64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ser 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28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828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etwork Topology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777440" y="29955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n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8600" y="11001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3541680"/>
            <a:ext cx="46036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50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640" y="3774960"/>
            <a:ext cx="110520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3" idx="2"/>
          </p:cNvCxnSpPr>
          <p:nvPr/>
        </p:nvCxnSpPr>
        <p:spPr>
          <a:xfrm flipH="1" rot="16200000">
            <a:off x="2631240" y="2900160"/>
            <a:ext cx="2160" cy="313596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35" name=""/>
          <p:cNvCxnSpPr>
            <a:stCxn id="232" idx="2"/>
            <a:endCxn id="233" idx="2"/>
          </p:cNvCxnSpPr>
          <p:nvPr/>
        </p:nvCxnSpPr>
        <p:spPr>
          <a:xfrm flipH="1" rot="16200000">
            <a:off x="3436920" y="3705840"/>
            <a:ext cx="2160" cy="152460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112840" y="470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9" idx="0"/>
            <a:endCxn id="238" idx="2"/>
          </p:cNvCxnSpPr>
          <p:nvPr/>
        </p:nvCxnSpPr>
        <p:spPr>
          <a:xfrm flipH="1" flipV="1" rot="5400000">
            <a:off x="3174480" y="1406160"/>
            <a:ext cx="370800" cy="1370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39" name=""/>
          <p:cNvCxnSpPr>
            <a:stCxn id="238" idx="2"/>
            <a:endCxn id="228" idx="0"/>
          </p:cNvCxnSpPr>
          <p:nvPr/>
        </p:nvCxnSpPr>
        <p:spPr>
          <a:xfrm rot="5400000">
            <a:off x="2368440" y="600840"/>
            <a:ext cx="370800" cy="2981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2"/>
            <a:endCxn id="230" idx="0"/>
          </p:cNvCxnSpPr>
          <p:nvPr/>
        </p:nvCxnSpPr>
        <p:spPr>
          <a:xfrm flipH="1" rot="16200000">
            <a:off x="3935160" y="2015280"/>
            <a:ext cx="370800" cy="15300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1" name=""/>
          <p:cNvCxnSpPr>
            <a:stCxn id="228" idx="2"/>
            <a:endCxn id="231" idx="0"/>
          </p:cNvCxnSpPr>
          <p:nvPr/>
        </p:nvCxnSpPr>
        <p:spPr>
          <a:xfrm>
            <a:off x="1063800" y="2751120"/>
            <a:ext cx="21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2" name=""/>
          <p:cNvCxnSpPr>
            <a:stCxn id="229" idx="2"/>
            <a:endCxn id="232" idx="0"/>
          </p:cNvCxnSpPr>
          <p:nvPr/>
        </p:nvCxnSpPr>
        <p:spPr>
          <a:xfrm>
            <a:off x="2674440" y="2751120"/>
            <a:ext cx="252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3" name=""/>
          <p:cNvCxnSpPr>
            <a:stCxn id="230" idx="2"/>
            <a:endCxn id="233" idx="0"/>
          </p:cNvCxnSpPr>
          <p:nvPr/>
        </p:nvCxnSpPr>
        <p:spPr>
          <a:xfrm>
            <a:off x="4196880" y="2751120"/>
            <a:ext cx="39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4" name=""/>
          <p:cNvCxnSpPr>
            <a:stCxn id="245" idx="2"/>
            <a:endCxn id="238" idx="0"/>
          </p:cNvCxnSpPr>
          <p:nvPr/>
        </p:nvCxnSpPr>
        <p:spPr>
          <a:xfrm rot="5400000">
            <a:off x="3749760" y="1333800"/>
            <a:ext cx="600840" cy="1188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90760" y="1284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10480" y="3541680"/>
            <a:ext cx="13348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8920" y="3703680"/>
            <a:ext cx="125100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4297320"/>
            <a:ext cx="1251000" cy="4748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4040" y="3527280"/>
            <a:ext cx="137772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760920"/>
            <a:ext cx="1334880" cy="5936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trieval &amp;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54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5" name=""/>
          <p:cNvCxnSpPr>
            <a:stCxn id="227" idx="2"/>
            <a:endCxn id="256" idx="1"/>
          </p:cNvCxnSpPr>
          <p:nvPr/>
        </p:nvCxnSpPr>
        <p:spPr>
          <a:xfrm flipH="1" rot="16200000">
            <a:off x="2873160" y="4889880"/>
            <a:ext cx="603720" cy="10119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55760" y="1639800"/>
            <a:ext cx="7176960" cy="2667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8" idx="2"/>
            <a:endCxn id="247" idx="0"/>
          </p:cNvCxnSpPr>
          <p:nvPr/>
        </p:nvCxnSpPr>
        <p:spPr>
          <a:xfrm flipH="1" rot="16200000">
            <a:off x="4944240" y="1006920"/>
            <a:ext cx="1635840" cy="3434400"/>
          </a:xfrm>
          <a:prstGeom prst="bentConnector3">
            <a:avLst>
              <a:gd name="adj1" fmla="val 10851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8" name=""/>
          <p:cNvCxnSpPr>
            <a:stCxn id="250" idx="0"/>
            <a:endCxn id="259" idx="2"/>
          </p:cNvCxnSpPr>
          <p:nvPr/>
        </p:nvCxnSpPr>
        <p:spPr>
          <a:xfrm flipV="1" rot="16200000">
            <a:off x="5533560" y="3137400"/>
            <a:ext cx="772200" cy="72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291280" y="2281320"/>
            <a:ext cx="12506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0"/>
            <a:endCxn id="238" idx="2"/>
          </p:cNvCxnSpPr>
          <p:nvPr/>
        </p:nvCxnSpPr>
        <p:spPr>
          <a:xfrm flipV="1" rot="16200000">
            <a:off x="4792680" y="1157400"/>
            <a:ext cx="37548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09076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3228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572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96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8800" y="58849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8520" y="42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7" idx="2"/>
            <a:endCxn id="253" idx="1"/>
          </p:cNvCxnSpPr>
          <p:nvPr/>
        </p:nvCxnSpPr>
        <p:spPr>
          <a:xfrm rot="5400000">
            <a:off x="1805400" y="4836240"/>
            <a:ext cx="606960" cy="112284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68" name=""/>
          <p:cNvCxnSpPr>
            <a:stCxn id="250" idx="2"/>
          </p:cNvCxnSpPr>
          <p:nvPr/>
        </p:nvCxnSpPr>
        <p:spPr>
          <a:xfrm flipH="1" rot="16200000">
            <a:off x="5634000" y="5368680"/>
            <a:ext cx="5814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prstDash val="lgDash"/>
            <a:miter/>
          </a:ln>
        </p:spPr>
      </p:cxnSp>
      <p:sp>
        <p:nvSpPr>
          <p:cNvPr id="269" name=""/>
          <p:cNvSpPr/>
          <p:nvPr/>
        </p:nvSpPr>
        <p:spPr>
          <a:xfrm>
            <a:off x="1872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3720" y="687240"/>
            <a:ext cx="2044800" cy="3524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Browser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1262160"/>
            <a:ext cx="7502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322884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700600"/>
            <a:ext cx="1876680" cy="63504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User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0200" y="5697360"/>
            <a:ext cx="182088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Portal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4200" y="5697360"/>
            <a:ext cx="150156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EX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640" y="6572160"/>
            <a:ext cx="5298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33333"/>
                </a:solidFill>
                <a:latin typeface="Arial"/>
              </a:rPr>
              <a:t>*Unification will be ported to Java in 2003 and will be available as a Portal Service on the P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3T13:42:05Z</dcterms:modified>
  <cp:revision>20</cp:revision>
  <dc:subject/>
  <dc:title>EP Sample Landscape</dc:title>
</cp:coreProperties>
</file>