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2400" y="6648480"/>
            <a:ext cx="357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b2b2b2"/>
                </a:solidFill>
                <a:latin typeface="Arial"/>
              </a:rPr>
              <a:t>2003 SAP, </a:t>
            </a:r>
            <a:fld id="{EF31C91E-C998-4472-AD7D-90B4DF272ADE}" type="slidenum">
              <a:rPr b="0" lang="en-US" sz="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3200400"/>
            <a:ext cx="5983560" cy="18684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Example: Rollout Strategy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7811" t="29570" r="14844" b="8063"/>
          <a:stretch/>
        </p:blipFill>
        <p:spPr>
          <a:xfrm>
            <a:off x="762120" y="1143000"/>
            <a:ext cx="7543800" cy="4419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29000" y="26668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ECO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4:11:59Z</dcterms:created>
  <dc:creator>Helge Meyer</dc:creator>
  <dc:description/>
  <dc:language>en-US</dc:language>
  <cp:lastModifiedBy>d031429</cp:lastModifiedBy>
  <dcterms:modified xsi:type="dcterms:W3CDTF">2003-09-30T12:03:14Z</dcterms:modified>
  <cp:revision>39</cp:revision>
  <dc:subject>Sample Rollout Strategy</dc:subject>
  <dc:title>EP Praxis</dc:title>
</cp:coreProperties>
</file>