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CCBCD-9B2C-4CA6-8340-8B021461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714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1040" y="4357440"/>
            <a:ext cx="5032440" cy="414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Resume important aspects of previous portal projects (e.g. Employee Por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Document current state of knowledge regarding identified 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Broaden brandville guidelines in portal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e existing knowledge to cut down on time required for requirements gathering /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7B9D80F6-6238-4B8F-A6A0-3CA8897527D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13.xml"/><Relationship Id="rId6" Type="http://schemas.openxmlformats.org/officeDocument/2006/relationships/slide" Target="slide31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40.xml"/><Relationship Id="rId5" Type="http://schemas.openxmlformats.org/officeDocument/2006/relationships/slide" Target="slide38.xml"/><Relationship Id="rId6" Type="http://schemas.openxmlformats.org/officeDocument/2006/relationships/slide" Target="slide36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971720"/>
            <a:ext cx="6750000" cy="487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yle Guide for AIM Por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3266640"/>
            <a:ext cx="6064200" cy="226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Autofit/>
          </a:bodyPr>
          <a:p>
            <a:pPr indent="0" algn="ctr">
              <a:lnSpc>
                <a:spcPts val="4499"/>
              </a:lnSpc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Portal Servi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0.9, May 12th, 2003 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4 Zones - Navigation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89080" y="1467000"/>
            <a:ext cx="4049640" cy="35337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upper Navigation has a defined size of 90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The Primary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eft Navigation has a defined size of 320 (height) x 144 (width).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is left Navigation Zone can be minimized to 320 (height) x 18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The 2nd and 3rd level navig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Collapse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5 Zones - Content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27240" y="1466640"/>
            <a:ext cx="4049640" cy="31658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Content Zone has a defined size of 320 (height) x 634 (width) pixel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e Content Zone has a maximized size of 320 (height) x 760 (width) pixels if the the left Navigation Zone is minimized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Footer including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Security</a:t>
            </a:r>
            <a:r>
              <a:rPr b="0" lang="en-US" sz="1300" spc="-1" strike="noStrike" u="sng" baseline="30000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iVie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Bread Crumb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Eco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 Country / Group / Corporat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08200" y="1389240"/>
            <a:ext cx="298764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3. Portal Design Element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5162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3.1	Bread Crumb Navi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o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ie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purpose 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 (Primary and Secondary Navig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 Country/ Unit/ Topic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1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r Ident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5000" y="1294920"/>
            <a:ext cx="7239240" cy="4419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lists the pages, visited by the user in a chronological or hierarchical order. By clicking on an element the user navigates back to the corresponding portal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 defined distance of 18 pixels to the upper marg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18 pixels to the side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featured in system font Arial Regular,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rial character “&gt;” is used as a separa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ngth of the path is based on the content width of 432 pixel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imizing content width doesn’t affect its pos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s that are too long are interrupted (see example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8312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3656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68720" y="4017960"/>
            <a:ext cx="438156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71880" y="4132440"/>
            <a:ext cx="135108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16760" y="387684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d Cru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3920" y="27306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16280" y="1879560"/>
            <a:ext cx="901440" cy="123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93960" y="2430360"/>
            <a:ext cx="10270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4240" y="1420920"/>
            <a:ext cx="7239240" cy="4419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positioned in the Content Zone near the bottom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a defined distance of 18 pixels to the side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featured in system font Arial Regular, size 10p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separated from the content by a 1px solid li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co Copyright with the year of issue is valid for Internet and Intra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Internet the content of the Footer must be in accordance with the respective legal regula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contains links to further information (Copyright, Privacy Policy, Legal, Corporate Info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R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agreements of the organizational units are pos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8350" r="17994" b="0"/>
          <a:stretch/>
        </p:blipFill>
        <p:spPr>
          <a:xfrm>
            <a:off x="1708200" y="1801800"/>
            <a:ext cx="6251400" cy="4668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16760" y="5676840"/>
            <a:ext cx="14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577280" y="5943600"/>
            <a:ext cx="134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60800" y="5732640"/>
            <a:ext cx="4389480" cy="372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3240" y="18032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06600" y="5937120"/>
            <a:ext cx="4017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Help guides the user to a page where he’s provided with topic and task orient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instructions on how to use the functionalities and content of the Port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link is positioned in the "Local" zone on the extreme right. It is generally used in combination with the link to Sitemap and Contact and its position is fix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combination Sitemap, Contact, Help has a defined distance of 12 pixels to the bottom margin and 9 pixels to the left to the vertical line which is defined by the standard gr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18312" t="0" r="0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39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2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30880" y="3218040"/>
            <a:ext cx="419400" cy="220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71880" y="3332160"/>
            <a:ext cx="1351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16760" y="307656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66960" y="27306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25000"/>
          </a:bodyPr>
          <a:p>
            <a:pPr marL="4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are positioned in the Content Zo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and position of the iViews are adapted on the Fibonacci Gr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View consists of a header bar and a content area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contains the iView title (left) and small icons (right) for accessing standard functional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View width and height depends on the chosen content lay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shouldn’t utilize horizontal scrollba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content has to be designed with the constrained iView height &amp; width in mind. If not iViews automatically produce scroll bars when they have a constrained size (height and width) and the content is larger than that constrained iView siz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is 18 px in heigh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ing between the iView border and the actual content is 9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1 of 4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956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tyle guide contai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design, interaction elements for portal sites and its a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ervices and iViews). 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s several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arise from different boundary conditions like the SAP-platform, the Eco online design guidelines, context of us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ly, practic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 gathered in previous &amp; current portal projects and careful attention to considerations regar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 best pract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 taken into account to assur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res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is an additional chapter to the existing E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ine Design Guide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brandville.eco.com. Therefore the document centers on definitions that differ or are absent in the Eco Online Design Guidelin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 specifications are highlighted 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ld and italic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derlin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s link directly to slides with more detailed information on the respective top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8200" y="178128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20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27520" y="3627360"/>
            <a:ext cx="4795560" cy="1701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54920" y="416232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42160" y="44226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7800" y="25560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08200" y="178452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02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32440" y="4622760"/>
            <a:ext cx="8478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27520" y="3627360"/>
            <a:ext cx="4795560" cy="261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9240" y="25304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08200" y="1763640"/>
            <a:ext cx="6251400" cy="4707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 (1024 x 768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770600" y="4622760"/>
            <a:ext cx="8096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52840" y="3206880"/>
            <a:ext cx="5122800" cy="292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177804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19360" y="23288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71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is positioned in the Local Z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12 pixels to the bottom margin and 9 pixels to the right to the next vertical line which is defined by the standard gri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consists of links which map the target language (e.g. francais, english, deutsch, italiano 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arget languages are always displayed as one wo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that has been selected is not part of the language selection on the following p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 Language Selection shows more than 3 languages, the link “choose language” is used which opens a new window with the assortment of the target langu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1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36740" t="0" r="0" b="36966"/>
          <a:stretch/>
        </p:blipFill>
        <p:spPr>
          <a:xfrm>
            <a:off x="1708200" y="1819440"/>
            <a:ext cx="6229440" cy="4655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66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60640" y="3835440"/>
            <a:ext cx="315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16760" y="3419640"/>
            <a:ext cx="12272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06920" y="3713040"/>
            <a:ext cx="193500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21716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Login / Logout is located near the bottom margin of the upper Site Identifier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90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in link a popup window with the Login area ope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out link the user check out his personal portal and is redirected to the public portal page of his organization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Home page of public portal pages the link Login is absent. Instead, a Login Area which allows a direct access is positioned in the left navigation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 / Logout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24280" y="3546360"/>
            <a:ext cx="118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 Area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Home Pa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/Logout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81492" b="0"/>
          <a:stretch/>
        </p:blipFill>
        <p:spPr>
          <a:xfrm>
            <a:off x="1708200" y="1773360"/>
            <a:ext cx="1158840" cy="4697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0" r="81558" b="0"/>
          <a:stretch/>
        </p:blipFill>
        <p:spPr>
          <a:xfrm>
            <a:off x="6784920" y="1801800"/>
            <a:ext cx="1147680" cy="466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0" r="81487" b="0"/>
          <a:stretch/>
        </p:blipFill>
        <p:spPr>
          <a:xfrm>
            <a:off x="4249800" y="1801800"/>
            <a:ext cx="1152360" cy="4668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7959240" y="351792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6480" y="325764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59560" y="3414600"/>
            <a:ext cx="473040" cy="19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429160" y="351324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040" y="325296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29120" y="3409920"/>
            <a:ext cx="473040" cy="19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57040" y="380700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08200" y="3703680"/>
            <a:ext cx="1222200" cy="216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0720" y="1866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48160" y="1893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05600" y="1895400"/>
            <a:ext cx="65268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90640" y="4446720"/>
            <a:ext cx="852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is positioned in the Global Zone on the righ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consists of a drop down list, a search field and a go Button on the right. On the left side it is labeled with “search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is featured in system font Arial Bold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R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rsonal portals the most frequent used search engine by the individual user is pres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7 Elements - Multi-purpose Search (1 of 2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847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located in the upper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18 pixels to the side and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featured in system font Arial Bold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dividual navigation points are separated by a 1 px line (system character in Arial, centered)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ite Home Link is the first point in Primary Navig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Primary Navigation items are marked with a change of font col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required Primary Navigation is spread over two li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ondary Navigation becomes visible in a drop-down menu by mouse-over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choosing one item of Primary Navigation, the Secondary Navigation becomes visible at left hand side (also when hit befor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1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72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Navigation is located in the left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4 pixels to the side (to the arrow) and 36 pixels to the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econdary Navigation has a defined size of 320 (height) x 144 (width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featured in system font Arial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t can be collapsed to the left. The minimized Secondary Navigation bar is then  320 (height) x 18 (width)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collapsed Secondary Navigation is maximized automatically when an element in the Primary Navigation or the mouse-over Secondary Navigation is click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element is marked with an arrow at the beginning of the li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econdary Navigation becomes also visible in a drop-down menu by mouse-over the Primary Navigation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5943240"/>
            <a:ext cx="70866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PS Style Guide brings the decisive information togethe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lnSpc>
                <a:spcPts val="4499"/>
              </a:lnSpc>
              <a:spcBef>
                <a:spcPts val="1874"/>
              </a:spcBef>
              <a:buClr>
                <a:srgbClr val="ffffff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71720" y="2438280"/>
            <a:ext cx="289584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48240" y="2438280"/>
            <a:ext cx="289548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3862080" y="1065960"/>
            <a:ext cx="2590920" cy="1295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62440" y="4114800"/>
            <a:ext cx="2590920" cy="1295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6840" y="1143000"/>
            <a:ext cx="1594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Employee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65360" y="4905360"/>
            <a:ext cx="1680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15238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 Onlin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8400" y="3048120"/>
            <a:ext cx="1128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SAP 6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43320" y="2819520"/>
            <a:ext cx="198144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45560" y="3689280"/>
            <a:ext cx="119844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Level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2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3107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7560" y="3605040"/>
            <a:ext cx="1152720" cy="265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70400" y="4083120"/>
            <a:ext cx="360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63440" y="5437080"/>
            <a:ext cx="603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3187800"/>
            <a:ext cx="3625920" cy="977760"/>
          </a:xfrm>
          <a:custGeom>
            <a:avLst/>
            <a:gdLst/>
            <a:ahLst/>
            <a:rect l="l" t="t" r="r" b="b"/>
            <a:pathLst>
              <a:path w="2284" h="616">
                <a:moveTo>
                  <a:pt x="4" y="260"/>
                </a:moveTo>
                <a:lnTo>
                  <a:pt x="876" y="256"/>
                </a:lnTo>
                <a:lnTo>
                  <a:pt x="876" y="252"/>
                </a:lnTo>
                <a:lnTo>
                  <a:pt x="876" y="616"/>
                </a:lnTo>
                <a:lnTo>
                  <a:pt x="1500" y="608"/>
                </a:lnTo>
                <a:lnTo>
                  <a:pt x="1504" y="260"/>
                </a:ln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57680" y="368316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73120" y="368316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44800" y="25290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0720" y="1816200"/>
            <a:ext cx="701640" cy="150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ir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17560" y="3567240"/>
            <a:ext cx="200160" cy="2651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1360" y="1364760"/>
            <a:ext cx="7772400" cy="3445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d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39680" y="5437080"/>
            <a:ext cx="696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24200" y="3683160"/>
            <a:ext cx="701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xim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70280" y="3187800"/>
            <a:ext cx="3625920" cy="419040"/>
          </a:xfrm>
          <a:custGeom>
            <a:avLst/>
            <a:gdLst/>
            <a:ahLst/>
            <a:rect l="l" t="t" r="r" b="b"/>
            <a:pathLst>
              <a:path w="2284" h="264">
                <a:moveTo>
                  <a:pt x="4" y="260"/>
                </a:move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21040" y="2503440"/>
            <a:ext cx="115236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66960" y="1854360"/>
            <a:ext cx="776160" cy="9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870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positioned near the bottom margin of the upper Site Identifier Zone (only after logi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4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Personalize link a drop-down menu opens wherein the user get the option to adapt his / her profile, the portal framework or the site to his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0" t="0" r="18312" b="18060"/>
          <a:stretch/>
        </p:blipFill>
        <p:spPr>
          <a:xfrm>
            <a:off x="1708200" y="1773360"/>
            <a:ext cx="6224400" cy="46828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43120" y="3736800"/>
            <a:ext cx="819000" cy="26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93800" y="3733920"/>
            <a:ext cx="632952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53480" y="3363840"/>
            <a:ext cx="11905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95720" y="275436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6280" y="1879560"/>
            <a:ext cx="852480" cy="123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114800" y="3703680"/>
            <a:ext cx="1828800" cy="1066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149868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cus of Portal Style Gui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408400"/>
            <a:ext cx="15368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ability Best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998960"/>
            <a:ext cx="13716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4237200"/>
            <a:ext cx="9144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257800"/>
            <a:ext cx="14475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Eco Online Design </a:t>
            </a:r>
            <a:br>
              <a:rPr sz="1600"/>
            </a:b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052880"/>
            <a:ext cx="17524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AP 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2941560"/>
            <a:ext cx="1219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8" idx="3"/>
            <a:endCxn id="66" idx="1"/>
          </p:cNvCxnSpPr>
          <p:nvPr/>
        </p:nvCxnSpPr>
        <p:spPr>
          <a:xfrm>
            <a:off x="3365640" y="2736360"/>
            <a:ext cx="1018080" cy="110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1" idx="3"/>
            <a:endCxn id="66" idx="3"/>
          </p:cNvCxnSpPr>
          <p:nvPr/>
        </p:nvCxnSpPr>
        <p:spPr>
          <a:xfrm flipV="1">
            <a:off x="3123720" y="4633200"/>
            <a:ext cx="1259640" cy="110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7" idx="1"/>
            <a:endCxn id="66" idx="6"/>
          </p:cNvCxnSpPr>
          <p:nvPr/>
        </p:nvCxnSpPr>
        <p:spPr>
          <a:xfrm flipH="1" flipV="1">
            <a:off x="5961960" y="4236840"/>
            <a:ext cx="786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" name=""/>
          <p:cNvCxnSpPr>
            <a:stCxn id="72" idx="3"/>
            <a:endCxn id="66" idx="2"/>
          </p:cNvCxnSpPr>
          <p:nvPr/>
        </p:nvCxnSpPr>
        <p:spPr>
          <a:xfrm>
            <a:off x="3429000" y="4229280"/>
            <a:ext cx="66744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343400" y="37800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320" y="2057400"/>
            <a:ext cx="651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240" y="2057400"/>
            <a:ext cx="84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7640" y="2800440"/>
            <a:ext cx="1552320" cy="2856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9144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1/2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2/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7162560" cy="3322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rea of validity of th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will be used for the visual and interaction design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Enter.eco.com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Login, Search, New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rive from an European / American use-context and a PC-based desktop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ven information may be a starting point for both different user and device contex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2. Screens Zones of Portal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2.1	Glob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2" action="ppaction://hlinksldjump"/>
              </a:rPr>
              <a:t>2.2	Loc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2.3 	Portal Identifier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2.4	Navigation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5" action="ppaction://hlinksldjump"/>
              </a:rPr>
              <a:t>2.5	Content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1 Zones - Glob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90960" y="1466640"/>
            <a:ext cx="4050000" cy="13795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Glob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4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co Lo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Multi-purpose 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2 Zones - Loc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79880" y="1466640"/>
            <a:ext cx="4050000" cy="2382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oc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6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Sitem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anguag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Country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3 Zones - Portal Identifier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27240" y="1467000"/>
            <a:ext cx="4049640" cy="3404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Site Identifier Zone has a defined size of 144 (height) x 144 (width) pixel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 Vis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ublic portals (before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e Identifi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Login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ink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(except on Ho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ersonal portals (after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User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Personal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Style Guide</dc:description>
  <dc:language>en-US</dc:language>
  <cp:lastModifiedBy>d031429</cp:lastModifiedBy>
  <cp:lastPrinted>2000-05-10T17:23:18Z</cp:lastPrinted>
  <dcterms:modified xsi:type="dcterms:W3CDTF">2003-11-08T20:13:05Z</dcterms:modified>
  <cp:revision>457</cp:revision>
  <dc:subject/>
  <dc:title>EP Sample Style Guide</dc:title>
</cp:coreProperties>
</file>