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4C3-7C29-4F43-A020-A19275C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4A8-53EA-473D-8201-882DD12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CB7-A428-42C6-9D7C-874C1691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EDC-B831-4A9C-8B75-56BDA269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6A2-511B-4D09-AE79-4FEEC877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AAC-29F5-4B90-B967-9BAADE7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7DD-3867-4818-B29A-63F48918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8AB-6EE1-4D83-9A25-104FFD36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ACE-1550-457E-9921-6FEBE4B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5C9-89D7-4D27-918C-760001C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FE5-025C-40FB-80CE-7F380BFA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23C-F9EE-4C44-97AF-5B961AD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683-73DF-43FC-B8F7-9F7E62EF8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5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10:27Z</dcterms:created>
  <dc:creator>d003179</dc:creator>
  <dc:description>EP Sample Development Landscape.ppt</dc:description>
  <cp:keywords>Development Landscape</cp:keywords>
  <dc:language>en-US</dc:language>
  <cp:lastModifiedBy>d003179</cp:lastModifiedBy>
  <dcterms:modified xsi:type="dcterms:W3CDTF">2003-06-24T13:13:12Z</dcterms:modified>
  <cp:revision>1</cp:revision>
  <dc:subject/>
  <dc:title>Sample Development Landscape</dc:title>
</cp:coreProperties>
</file>