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AB5-FA82-4216-BDBB-89FDACAD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27A-ABE8-47F3-A499-1E990204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4C8-A001-4671-8B47-193CA894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11B-EE26-4499-88A3-8A4B3961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13A-987A-4A9B-BF39-F89FBA85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4B19-F66C-4610-98C5-EE85BE9F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B07-A839-4561-A9C5-F29A0338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DF9-5145-4A68-9758-DB89550E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612-6971-4630-9B4A-20B4D2A0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9EE-3D8D-46C5-95D6-4382842A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7C5-FC7A-46B5-871F-714A637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6F8-DC1C-4D78-AE5A-25152B87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774-6961-450A-A107-1FADDF718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4:55:10Z</dcterms:created>
  <dc:creator>Ralf Nebelo</dc:creator>
  <dc:description/>
  <dc:language>en-US</dc:language>
  <cp:lastModifiedBy>Ralf Nebelo</cp:lastModifiedBy>
  <dcterms:modified xsi:type="dcterms:W3CDTF">1998-07-28T12:38:51Z</dcterms:modified>
  <cp:revision>47</cp:revision>
  <dc:subject/>
  <dc:title>Kein Folientitel</dc:title>
</cp:coreProperties>
</file>