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A4B-E699-4A4E-88FC-F1ACE080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176-00E6-43CC-8332-76D96133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C9C-8C39-42DF-9DA6-42936B70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FCA-6983-4EDF-96C0-A3555859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E8BD-35F2-451B-931B-4D8E4FE4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61E2-F69F-4B8B-98DD-84094118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09E2-F918-4D51-A7C0-6BC31C3B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F431-E9D0-4C9B-8FFF-5F4D9CCA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5DAE-BB6E-4EE8-989E-7B053798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8CCE-D534-4ABA-AB9A-CD56FE44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B01B-B28C-402B-9322-47511D39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5BB-9FC5-47EF-A1CF-503506A5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A532-F692-47CF-938A-8948092C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C07F-4C9D-417E-A411-5C0E2A7A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BA3B-B274-4760-903E-237881DC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ECBB-3C5E-47D0-A024-1854D943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9817-63A8-4637-8A7C-BCDCC179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F82-4D7F-4206-A14C-41DEC7F7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D6A-C997-4D3B-BF2B-EE163BCD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655-A247-4246-A161-9785307D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B45-D52C-48E7-AFAB-9B812911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71E-E25A-49CE-8C68-B32E7152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B1E-01E7-4BB2-AFA9-8C3CDDFE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CA7-AA0B-4608-A43E-08B6ED9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F6D7-AC30-4554-8E74-A22D0EB26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22AE-B214-4ABB-AE90-7B7BAAB5B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837720"/>
            <a:ext cx="8685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PP_SlidesSpeichern.dot </a:t>
            </a:r>
            <a:r>
              <a:rPr b="1" lang="de-DE" sz="2400" spc="-1" strike="noStrike" baseline="30000">
                <a:solidFill>
                  <a:srgbClr val="ffcc66"/>
                </a:solidFill>
                <a:latin typeface="Arial"/>
                <a:ea typeface="Times New Roman"/>
              </a:rPr>
              <a:t>© 2000, Ralf Nebelo</a:t>
            </a: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13:03:40Z</dcterms:created>
  <dc:creator>Ralf Nebelo</dc:creator>
  <dc:description/>
  <dc:language>en-US</dc:language>
  <cp:lastModifiedBy>Ralf Nebelo</cp:lastModifiedBy>
  <dcterms:modified xsi:type="dcterms:W3CDTF">2000-07-20T15:06:20Z</dcterms:modified>
  <cp:revision>47</cp:revision>
  <dc:subject/>
  <dc:title>PowerPoint-Präsentation</dc:title>
</cp:coreProperties>
</file>